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AA55-DE3B-45A6-B205-0EB14C171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5FD-EF54-4F9A-B587-45B1F23BB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338-DB74-4054-B9B5-2DC5F688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7F5-D219-48F2-BA46-201DFD6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CD5-4648-408C-A7EC-EBCD2716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E67-7F3B-44B4-96F6-EC620D80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48F-875C-4309-8E78-1E8DBC1D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9E54-5062-434F-A150-38B3CC5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F2C1-A3D5-41BC-AA2B-5B7910F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39C2-3516-4028-AAF9-3393230D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524-6A45-482C-9C5F-3BA884F3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985-F23E-4E34-9015-FE80874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5A8-8318-4C3A-BE96-5707DBC0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499-56D1-4CE6-B113-93035BF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76E6-E4A6-4CA1-A402-10DC0F8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D67-1B57-48DD-AC82-6C96D25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6F6-6B37-4854-BE88-3F77A660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7E94-6977-4F9C-88D5-8C94E45F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538-FBA4-494F-8CBB-5EEF74E8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5450-0334-4637-93E5-E60266DA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3D7D-0008-49AA-99CD-FCA4BCD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BE49-02D1-4502-B9EC-B5DE95F4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D385-5630-476B-880D-5F7D83A2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D178-1AC3-49F4-9A19-664C18C8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F98-68E2-4968-88AC-8DE38D5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0D00-8983-4FCD-BD2E-97C7FE3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8701-25C0-4E72-B1F7-FEB4B14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6E98-3279-4BCD-81AD-A4A8E24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49E3-6D78-4CD1-BFA9-1A9CAF5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EB3A-7117-4B85-870A-9A327CF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AD90-D620-43DD-A9D7-A4AFB25F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A6AC-E631-425D-9202-18A1285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697-294F-4D10-805C-B81E68A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5AF-2956-4A44-84A2-8D0FFAE8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906-A48D-46D3-A05C-CB8CA2FC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700-B168-460F-B845-13A386F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83C-9BDE-4CD4-B636-440E61D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466-BBFB-4672-BD5E-07F461D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e9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18A-1C60-4FC3-970C-FA8BD1E39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75F-4640-4D49-9D87-831991CA702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C66A-C029-491C-A233-F14F446D45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BECB-08A4-45FC-90BA-CC66D478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5800" y="609480"/>
            <a:ext cx="7620120" cy="3473640"/>
          </a:xfrm>
          <a:prstGeom prst="rect">
            <a:avLst/>
          </a:prstGeom>
          <a:solidFill>
            <a:srgbClr val="dddddd"/>
          </a:solidFill>
          <a:ln w="57240">
            <a:solidFill>
              <a:srgbClr val="003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84500"/>
                </a:solidFill>
                <a:latin typeface="Arial"/>
              </a:rPr>
              <a:t>Общие сведения о зданиях и сооруж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541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1CFB-4EFF-461F-91D0-FE0A96308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носборны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нтируемые из конструкций и деталей заводского из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индустриа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кладываемые из мелкоштучных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во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5" descr="дерево"/>
          <p:cNvPicPr/>
          <p:nvPr/>
        </p:nvPicPr>
        <p:blipFill>
          <a:blip r:embed="rId1"/>
          <a:stretch/>
        </p:blipFill>
        <p:spPr>
          <a:xfrm>
            <a:off x="838080" y="3809880"/>
            <a:ext cx="3048120" cy="2295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6"/>
          <p:cNvSpPr/>
          <p:nvPr/>
        </p:nvSpPr>
        <p:spPr>
          <a:xfrm>
            <a:off x="4419720" y="2362320"/>
            <a:ext cx="533160" cy="561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/>
          <p:cNvSpPr/>
          <p:nvPr/>
        </p:nvSpPr>
        <p:spPr>
          <a:xfrm>
            <a:off x="4114800" y="480060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8" descr="Бизнес-центр"/>
          <p:cNvPicPr/>
          <p:nvPr/>
        </p:nvPicPr>
        <p:blipFill>
          <a:blip r:embed="rId2"/>
          <a:stretch/>
        </p:blipFill>
        <p:spPr>
          <a:xfrm>
            <a:off x="5029200" y="1600200"/>
            <a:ext cx="3581280" cy="22096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29">
            <a:hlinkClick r:id="rId3" action="ppaction://hlinksldjump"/>
          </p:cNvPr>
          <p:cNvSpPr/>
          <p:nvPr/>
        </p:nvSpPr>
        <p:spPr>
          <a:xfrm>
            <a:off x="22860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ABB-8B30-492B-945F-D5CB541B1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долговечност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пособности конструктивных элементов сохранять требуемые эксплуат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тепень – со сроком службы более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тепень – 50 – 10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тепень – 20- 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тепень – до 2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рисунок 9 вагон"/>
          <p:cNvPicPr/>
          <p:nvPr/>
        </p:nvPicPr>
        <p:blipFill>
          <a:blip r:embed="rId1"/>
          <a:stretch/>
        </p:blipFill>
        <p:spPr>
          <a:xfrm>
            <a:off x="5257800" y="5029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рисунок 2"/>
          <p:cNvPicPr/>
          <p:nvPr/>
        </p:nvPicPr>
        <p:blipFill>
          <a:blip r:embed="rId2"/>
          <a:stretch/>
        </p:blipFill>
        <p:spPr>
          <a:xfrm>
            <a:off x="228600" y="3581280"/>
            <a:ext cx="2690640" cy="28195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304920" y="6348240"/>
            <a:ext cx="533160" cy="50976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591" h="21600">
                <a:moveTo>
                  <a:pt x="0" y="0"/>
                </a:moveTo>
                <a:lnTo>
                  <a:pt x="22591" y="0"/>
                </a:lnTo>
                <a:lnTo>
                  <a:pt x="22591" y="21600"/>
                </a:lnTo>
                <a:lnTo>
                  <a:pt x="0" y="21600"/>
                </a:lnTo>
                <a:close/>
              </a:path>
              <a:path fill="lightenLess" w="22591" h="21600">
                <a:moveTo>
                  <a:pt x="0" y="0"/>
                </a:moveTo>
                <a:lnTo>
                  <a:pt x="22591" y="0"/>
                </a:lnTo>
                <a:lnTo>
                  <a:pt x="21191" y="1400"/>
                </a:lnTo>
                <a:lnTo>
                  <a:pt x="1400" y="1400"/>
                </a:lnTo>
                <a:close/>
              </a:path>
              <a:path fill="darken" w="22591" h="21600">
                <a:moveTo>
                  <a:pt x="22591" y="0"/>
                </a:moveTo>
                <a:lnTo>
                  <a:pt x="22591" y="21600"/>
                </a:lnTo>
                <a:lnTo>
                  <a:pt x="21191" y="20200"/>
                </a:lnTo>
                <a:lnTo>
                  <a:pt x="21191" y="1400"/>
                </a:lnTo>
                <a:close/>
              </a:path>
              <a:path fill="darkenLess" w="22591" h="21600">
                <a:moveTo>
                  <a:pt x="22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1" y="20200"/>
                </a:lnTo>
                <a:close/>
              </a:path>
              <a:path fill="lighten" w="22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1" h="21600">
                <a:moveTo>
                  <a:pt x="11295" y="3837"/>
                </a:moveTo>
                <a:lnTo>
                  <a:pt x="13872" y="6448"/>
                </a:ln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lnTo>
                  <a:pt x="18258" y="10800"/>
                </a:lnTo>
                <a:lnTo>
                  <a:pt x="16605" y="10800"/>
                </a:lnTo>
                <a:lnTo>
                  <a:pt x="16605" y="17989"/>
                </a:lnTo>
                <a:lnTo>
                  <a:pt x="5986" y="17989"/>
                </a:lnTo>
                <a:lnTo>
                  <a:pt x="5986" y="10800"/>
                </a:lnTo>
                <a:lnTo>
                  <a:pt x="4332" y="10800"/>
                </a:lnTo>
                <a:close/>
              </a:path>
              <a:path fill="darkenLess" w="22591" h="21600">
                <a:moveTo>
                  <a:pt x="13872" y="6448"/>
                </a:move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close/>
              </a:path>
              <a:path fill="darkenLess" w="22591" h="21600">
                <a:moveTo>
                  <a:pt x="10373" y="14299"/>
                </a:moveTo>
                <a:lnTo>
                  <a:pt x="12218" y="14299"/>
                </a:lnTo>
                <a:lnTo>
                  <a:pt x="12218" y="17989"/>
                </a:lnTo>
                <a:lnTo>
                  <a:pt x="16605" y="17989"/>
                </a:lnTo>
                <a:lnTo>
                  <a:pt x="16605" y="10800"/>
                </a:lnTo>
                <a:lnTo>
                  <a:pt x="5986" y="10800"/>
                </a:lnTo>
                <a:lnTo>
                  <a:pt x="5986" y="17989"/>
                </a:lnTo>
                <a:lnTo>
                  <a:pt x="103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3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4AE-2CCF-4852-9FB5-32A03B0E6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071a"/>
                </a:solidFill>
                <a:latin typeface="Arial"/>
              </a:rPr>
              <a:t>Степени возгораемости зд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рудно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zav_upr[1]"/>
          <p:cNvPicPr/>
          <p:nvPr/>
        </p:nvPicPr>
        <p:blipFill>
          <a:blip r:embed="rId4"/>
          <a:stretch/>
        </p:blipFill>
        <p:spPr>
          <a:xfrm>
            <a:off x="4952880" y="1676520"/>
            <a:ext cx="345600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image004[1]"/>
          <p:cNvPicPr/>
          <p:nvPr/>
        </p:nvPicPr>
        <p:blipFill>
          <a:blip r:embed="rId5"/>
          <a:stretch/>
        </p:blipFill>
        <p:spPr>
          <a:xfrm>
            <a:off x="5105520" y="3733920"/>
            <a:ext cx="2895480" cy="20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535-D185-4A8C-852E-DB2A72D5D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огнестой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возможности конструкций сохранять при пожаре функции несущих и ограждающи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–III –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аменными констру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не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дерево 3"/>
          <p:cNvPicPr/>
          <p:nvPr/>
        </p:nvPicPr>
        <p:blipFill>
          <a:blip r:embed="rId1"/>
          <a:stretch/>
        </p:blipFill>
        <p:spPr>
          <a:xfrm>
            <a:off x="5105520" y="42670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kark8"/>
          <p:cNvPicPr/>
          <p:nvPr/>
        </p:nvPicPr>
        <p:blipFill>
          <a:blip r:embed="rId2"/>
          <a:stretch/>
        </p:blipFill>
        <p:spPr>
          <a:xfrm>
            <a:off x="1447920" y="426708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7">
            <a:hlinkClick r:id="rId3" action="ppaction://hlinksldjump"/>
          </p:cNvPr>
          <p:cNvSpPr/>
          <p:nvPr/>
        </p:nvSpPr>
        <p:spPr>
          <a:xfrm>
            <a:off x="83818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4A8-387C-40BE-A794-1955DF5F5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клас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овокупности требований , касающихся степени долговечности, огнестойкости и других эксплуатационны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кла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pic_19_1"/>
          <p:cNvPicPr/>
          <p:nvPr/>
        </p:nvPicPr>
        <p:blipFill>
          <a:blip r:embed="rId6"/>
          <a:stretch/>
        </p:blipFill>
        <p:spPr>
          <a:xfrm>
            <a:off x="4572000" y="3048120"/>
            <a:ext cx="3352680" cy="31716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7"/>
          <p:cNvSpPr/>
          <p:nvPr/>
        </p:nvSpPr>
        <p:spPr>
          <a:xfrm>
            <a:off x="304920" y="624852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11392" y="3837"/>
                </a:moveTo>
                <a:lnTo>
                  <a:pt x="13968" y="6448"/>
                </a:ln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lnTo>
                  <a:pt x="18354" y="10800"/>
                </a:lnTo>
                <a:lnTo>
                  <a:pt x="16701" y="10800"/>
                </a:lnTo>
                <a:lnTo>
                  <a:pt x="16701" y="17989"/>
                </a:lnTo>
                <a:lnTo>
                  <a:pt x="6082" y="17989"/>
                </a:lnTo>
                <a:lnTo>
                  <a:pt x="6082" y="10800"/>
                </a:lnTo>
                <a:lnTo>
                  <a:pt x="4429" y="10800"/>
                </a:lnTo>
                <a:close/>
              </a:path>
              <a:path fill="darkenLess" w="22783" h="21600">
                <a:moveTo>
                  <a:pt x="13968" y="6448"/>
                </a:move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close/>
              </a:path>
              <a:path fill="darkenLess" w="22783" h="21600">
                <a:moveTo>
                  <a:pt x="10469" y="14299"/>
                </a:moveTo>
                <a:lnTo>
                  <a:pt x="12314" y="14299"/>
                </a:lnTo>
                <a:lnTo>
                  <a:pt x="12314" y="17989"/>
                </a:lnTo>
                <a:lnTo>
                  <a:pt x="16701" y="17989"/>
                </a:lnTo>
                <a:lnTo>
                  <a:pt x="16701" y="10800"/>
                </a:lnTo>
                <a:lnTo>
                  <a:pt x="6082" y="10800"/>
                </a:lnTo>
                <a:lnTo>
                  <a:pt x="6082" y="17989"/>
                </a:lnTo>
                <a:lnTo>
                  <a:pt x="104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914400" y="6324480"/>
            <a:ext cx="433440" cy="38124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4555" h="21600">
                <a:moveTo>
                  <a:pt x="0" y="0"/>
                </a:moveTo>
                <a:lnTo>
                  <a:pt x="24555" y="0"/>
                </a:lnTo>
                <a:lnTo>
                  <a:pt x="24555" y="21600"/>
                </a:lnTo>
                <a:lnTo>
                  <a:pt x="0" y="21600"/>
                </a:lnTo>
                <a:close/>
              </a:path>
              <a:path fill="lightenLess" w="24555" h="21600">
                <a:moveTo>
                  <a:pt x="0" y="0"/>
                </a:moveTo>
                <a:lnTo>
                  <a:pt x="24555" y="0"/>
                </a:lnTo>
                <a:lnTo>
                  <a:pt x="23155" y="1400"/>
                </a:lnTo>
                <a:lnTo>
                  <a:pt x="1400" y="1400"/>
                </a:lnTo>
                <a:close/>
              </a:path>
              <a:path fill="darken" w="24555" h="21600">
                <a:moveTo>
                  <a:pt x="24555" y="0"/>
                </a:moveTo>
                <a:lnTo>
                  <a:pt x="24555" y="21600"/>
                </a:lnTo>
                <a:lnTo>
                  <a:pt x="23155" y="20200"/>
                </a:lnTo>
                <a:lnTo>
                  <a:pt x="23155" y="1400"/>
                </a:lnTo>
                <a:close/>
              </a:path>
              <a:path fill="darkenLess" w="24555" h="21600">
                <a:moveTo>
                  <a:pt x="2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5" y="20200"/>
                </a:lnTo>
                <a:close/>
              </a:path>
              <a:path fill="lighten" w="2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55" h="21600">
                <a:moveTo>
                  <a:pt x="5271" y="3794"/>
                </a:moveTo>
                <a:lnTo>
                  <a:pt x="19284" y="10800"/>
                </a:lnTo>
                <a:lnTo>
                  <a:pt x="52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21A-C9E4-49F0-BA49-69DC449CD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пные промышленные и общественные здания, а также жилые в девять этажей и более, здания с повышенными эксплуатационными и архитектурными треб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рисунок музей"/>
          <p:cNvPicPr/>
          <p:nvPr/>
        </p:nvPicPr>
        <p:blipFill>
          <a:blip r:embed="rId1"/>
          <a:stretch/>
        </p:blipFill>
        <p:spPr>
          <a:xfrm>
            <a:off x="6172200" y="29718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612"/>
          <p:cNvPicPr/>
          <p:nvPr/>
        </p:nvPicPr>
        <p:blipFill>
          <a:blip r:embed="rId2"/>
          <a:stretch/>
        </p:blipFill>
        <p:spPr>
          <a:xfrm>
            <a:off x="533520" y="3429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ic_5_1"/>
          <p:cNvPicPr/>
          <p:nvPr/>
        </p:nvPicPr>
        <p:blipFill>
          <a:blip r:embed="rId3"/>
          <a:stretch/>
        </p:blipFill>
        <p:spPr>
          <a:xfrm>
            <a:off x="304812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304920" y="61722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7BF9-5130-41D9-BDCF-22A4C1EA5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ственные , промышленные  и сельскохозяйственные здания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рисунок 6 пр"/>
          <p:cNvPicPr/>
          <p:nvPr/>
        </p:nvPicPr>
        <p:blipFill>
          <a:blip r:embed="rId1"/>
          <a:stretch/>
        </p:blipFill>
        <p:spPr>
          <a:xfrm>
            <a:off x="4876920" y="32004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pic_8_1"/>
          <p:cNvPicPr/>
          <p:nvPr/>
        </p:nvPicPr>
        <p:blipFill>
          <a:blip r:embed="rId2"/>
          <a:stretch/>
        </p:blipFill>
        <p:spPr>
          <a:xfrm>
            <a:off x="762120" y="3124080"/>
            <a:ext cx="3352680" cy="23623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22860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5FF1-3382-4284-B0D2-F3C3C0866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шленные  и сельскохозяйственные здания с низкими эксплуатационными требованиями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ангар"/>
          <p:cNvPicPr/>
          <p:nvPr/>
        </p:nvPicPr>
        <p:blipFill>
          <a:blip r:embed="rId1"/>
          <a:stretch/>
        </p:blipFill>
        <p:spPr>
          <a:xfrm>
            <a:off x="685800" y="30481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рис 5"/>
          <p:cNvPicPr/>
          <p:nvPr/>
        </p:nvPicPr>
        <p:blipFill>
          <a:blip r:embed="rId2"/>
          <a:stretch/>
        </p:blipFill>
        <p:spPr>
          <a:xfrm>
            <a:off x="4572000" y="30481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152280" y="6348240"/>
            <a:ext cx="586080" cy="509760"/>
          </a:xfrm>
          <a:custGeom>
            <a:avLst/>
            <a:gdLst>
              <a:gd name="textAreaLeft" fmla="*/ 32760 w 586080"/>
              <a:gd name="textAreaRight" fmla="*/ 553320 w 5860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32" h="21600">
                <a:moveTo>
                  <a:pt x="0" y="0"/>
                </a:moveTo>
                <a:lnTo>
                  <a:pt x="24832" y="0"/>
                </a:lnTo>
                <a:lnTo>
                  <a:pt x="24832" y="21600"/>
                </a:lnTo>
                <a:lnTo>
                  <a:pt x="0" y="21600"/>
                </a:lnTo>
                <a:close/>
              </a:path>
              <a:path fill="lightenLess" w="24832" h="21600">
                <a:moveTo>
                  <a:pt x="0" y="0"/>
                </a:moveTo>
                <a:lnTo>
                  <a:pt x="24832" y="0"/>
                </a:lnTo>
                <a:lnTo>
                  <a:pt x="23432" y="1400"/>
                </a:lnTo>
                <a:lnTo>
                  <a:pt x="1400" y="1400"/>
                </a:lnTo>
                <a:close/>
              </a:path>
              <a:path fill="darken" w="24832" h="21600">
                <a:moveTo>
                  <a:pt x="24832" y="0"/>
                </a:moveTo>
                <a:lnTo>
                  <a:pt x="24832" y="21600"/>
                </a:lnTo>
                <a:lnTo>
                  <a:pt x="23432" y="20200"/>
                </a:lnTo>
                <a:lnTo>
                  <a:pt x="23432" y="1400"/>
                </a:lnTo>
                <a:close/>
              </a:path>
              <a:path fill="darkenLess" w="24832" h="21600">
                <a:moveTo>
                  <a:pt x="2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2" y="20200"/>
                </a:lnTo>
                <a:close/>
              </a:path>
              <a:path fill="lighten" w="2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2" h="21600">
                <a:moveTo>
                  <a:pt x="12416" y="3837"/>
                </a:moveTo>
                <a:lnTo>
                  <a:pt x="14992" y="6448"/>
                </a:ln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lnTo>
                  <a:pt x="19379" y="10800"/>
                </a:lnTo>
                <a:lnTo>
                  <a:pt x="17725" y="10800"/>
                </a:lnTo>
                <a:lnTo>
                  <a:pt x="17725" y="17989"/>
                </a:lnTo>
                <a:lnTo>
                  <a:pt x="7107" y="17989"/>
                </a:lnTo>
                <a:lnTo>
                  <a:pt x="7107" y="10800"/>
                </a:lnTo>
                <a:lnTo>
                  <a:pt x="5453" y="10800"/>
                </a:lnTo>
                <a:close/>
              </a:path>
              <a:path fill="darkenLess" w="24832" h="21600">
                <a:moveTo>
                  <a:pt x="14992" y="6448"/>
                </a:move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close/>
              </a:path>
              <a:path fill="darkenLess" w="24832" h="21600">
                <a:moveTo>
                  <a:pt x="11493" y="14299"/>
                </a:moveTo>
                <a:lnTo>
                  <a:pt x="13338" y="14299"/>
                </a:lnTo>
                <a:lnTo>
                  <a:pt x="13338" y="17989"/>
                </a:lnTo>
                <a:lnTo>
                  <a:pt x="17725" y="17989"/>
                </a:lnTo>
                <a:lnTo>
                  <a:pt x="17725" y="10800"/>
                </a:lnTo>
                <a:lnTo>
                  <a:pt x="7107" y="10800"/>
                </a:lnTo>
                <a:lnTo>
                  <a:pt x="7107" y="17989"/>
                </a:lnTo>
                <a:lnTo>
                  <a:pt x="114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D96-F871-4B52-A2A8-FD4F841BA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ые до п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D-089-1S-sm"/>
          <p:cNvPicPr/>
          <p:nvPr/>
        </p:nvPicPr>
        <p:blipFill>
          <a:blip r:embed="rId1"/>
          <a:stretch/>
        </p:blipFill>
        <p:spPr>
          <a:xfrm>
            <a:off x="4876920" y="1447920"/>
            <a:ext cx="3504960" cy="1981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kark8"/>
          <p:cNvPicPr/>
          <p:nvPr/>
        </p:nvPicPr>
        <p:blipFill>
          <a:blip r:embed="rId2"/>
          <a:stretch/>
        </p:blipFill>
        <p:spPr>
          <a:xfrm>
            <a:off x="1219320" y="36576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9"/>
          <p:cNvSpPr/>
          <p:nvPr/>
        </p:nvSpPr>
        <p:spPr>
          <a:xfrm>
            <a:off x="8305920" y="601992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844-357D-428A-85C3-1A986E1A5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еменные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бытовка 2"/>
          <p:cNvPicPr/>
          <p:nvPr/>
        </p:nvPicPr>
        <p:blipFill>
          <a:blip r:embed="rId1"/>
          <a:stretch/>
        </p:blipFill>
        <p:spPr>
          <a:xfrm>
            <a:off x="60948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рисунок 8 бытовка"/>
          <p:cNvPicPr/>
          <p:nvPr/>
        </p:nvPicPr>
        <p:blipFill>
          <a:blip r:embed="rId2"/>
          <a:stretch/>
        </p:blipFill>
        <p:spPr>
          <a:xfrm>
            <a:off x="4419720" y="396252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рисунок 9 вагон"/>
          <p:cNvPicPr/>
          <p:nvPr/>
        </p:nvPicPr>
        <p:blipFill>
          <a:blip r:embed="rId3"/>
          <a:stretch/>
        </p:blipFill>
        <p:spPr>
          <a:xfrm>
            <a:off x="4800600" y="1600200"/>
            <a:ext cx="2581200" cy="17524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>
            <a:off x="8305920" y="624852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5" h="21600">
                <a:moveTo>
                  <a:pt x="13283" y="3837"/>
                </a:moveTo>
                <a:lnTo>
                  <a:pt x="15859" y="6448"/>
                </a:ln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lnTo>
                  <a:pt x="20246" y="10800"/>
                </a:lnTo>
                <a:lnTo>
                  <a:pt x="18592" y="10800"/>
                </a:lnTo>
                <a:lnTo>
                  <a:pt x="18592" y="17989"/>
                </a:lnTo>
                <a:lnTo>
                  <a:pt x="7973" y="17989"/>
                </a:lnTo>
                <a:lnTo>
                  <a:pt x="7973" y="10800"/>
                </a:lnTo>
                <a:lnTo>
                  <a:pt x="6320" y="10800"/>
                </a:lnTo>
                <a:close/>
              </a:path>
              <a:path fill="darkenLess" w="26565" h="21600">
                <a:moveTo>
                  <a:pt x="15859" y="6448"/>
                </a:move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close/>
              </a:path>
              <a:path fill="darkenLess" w="26565" h="21600">
                <a:moveTo>
                  <a:pt x="12360" y="14299"/>
                </a:moveTo>
                <a:lnTo>
                  <a:pt x="14205" y="14299"/>
                </a:lnTo>
                <a:lnTo>
                  <a:pt x="14205" y="17989"/>
                </a:lnTo>
                <a:lnTo>
                  <a:pt x="18592" y="17989"/>
                </a:lnTo>
                <a:lnTo>
                  <a:pt x="18592" y="10800"/>
                </a:lnTo>
                <a:lnTo>
                  <a:pt x="7973" y="10800"/>
                </a:lnTo>
                <a:lnTo>
                  <a:pt x="7973" y="17989"/>
                </a:lnTo>
                <a:lnTo>
                  <a:pt x="1236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9923-4476-48C3-9DC5-3A5C8A8F8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2108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36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Элементы зданий. Требования к з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лассификация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онструктивные элементы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6F3-7384-45B4-B4EE-806B83C91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материалу стен здания бывают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п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о-бет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zagot_korp[1]"/>
          <p:cNvPicPr/>
          <p:nvPr/>
        </p:nvPicPr>
        <p:blipFill>
          <a:blip r:embed="rId1"/>
          <a:stretch/>
        </p:blipFill>
        <p:spPr>
          <a:xfrm>
            <a:off x="3276720" y="2743200"/>
            <a:ext cx="2209680" cy="2157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d7f5bcdd243549b9fa00106c4720a36c[1]"/>
          <p:cNvPicPr/>
          <p:nvPr/>
        </p:nvPicPr>
        <p:blipFill>
          <a:blip r:embed="rId2"/>
          <a:stretch/>
        </p:blipFill>
        <p:spPr>
          <a:xfrm>
            <a:off x="6019920" y="4572000"/>
            <a:ext cx="2908080" cy="215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рисунок дерев"/>
          <p:cNvPicPr/>
          <p:nvPr/>
        </p:nvPicPr>
        <p:blipFill>
          <a:blip r:embed="rId3"/>
          <a:stretch/>
        </p:blipFill>
        <p:spPr>
          <a:xfrm>
            <a:off x="6248520" y="14479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134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DFB-03D5-45FD-9A14-277D11DE8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kark3"/>
          <p:cNvPicPr/>
          <p:nvPr/>
        </p:nvPicPr>
        <p:blipFill>
          <a:blip r:embed="rId1"/>
          <a:stretch/>
        </p:blipFill>
        <p:spPr>
          <a:xfrm>
            <a:off x="228600" y="15238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"/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800600" y="1600200"/>
          <a:ext cx="4343400" cy="426240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а зд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4343400" cy="399744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этажное с мансар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элемен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дустр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4708-73DD-4672-B0CB-7BDA68D7E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59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3FAD-53E3-4F60-B0FD-95BFE4D50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pic_18_1"/>
          <p:cNvPicPr/>
          <p:nvPr/>
        </p:nvPicPr>
        <p:blipFill>
          <a:blip r:embed="rId1"/>
          <a:stretch/>
        </p:blipFill>
        <p:spPr>
          <a:xfrm>
            <a:off x="1238400" y="1685880"/>
            <a:ext cx="6667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FDD-20B9-40CD-88FD-10A752A1D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Закрепление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здания бывают по назна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азывается зданиями, сооруж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акие группы подразделяют з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характеристику зданию по классифик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8B59-3F60-4551-A464-CB3F5516D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600"/>
                </a:solidFill>
                <a:latin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.А.Неелов  «Архитектурные конструкции зданий»  стр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влиев А.А. Отделочные строительные работы: учебник для нач. проф. образования стр.5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3937-7367-4BA9-9F51-77BFFAD1A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дания – это надземная часть предназначенная для отдыха, учебы, работы 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оружение – это постройка техн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рисунок госдума"/>
          <p:cNvPicPr/>
          <p:nvPr/>
        </p:nvPicPr>
        <p:blipFill>
          <a:blip r:embed="rId1"/>
          <a:stretch/>
        </p:blipFill>
        <p:spPr>
          <a:xfrm>
            <a:off x="5029200" y="6094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сооружения париж"/>
          <p:cNvPicPr/>
          <p:nvPr/>
        </p:nvPicPr>
        <p:blipFill>
          <a:blip r:embed="rId2"/>
          <a:stretch/>
        </p:blipFill>
        <p:spPr>
          <a:xfrm>
            <a:off x="5029200" y="3581280"/>
            <a:ext cx="3429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91F-8E17-4A18-B129-21D21F9047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 1 веке до н. э. римский архитектор </a:t>
            </a:r>
            <a:br>
              <a:rPr sz="2400"/>
            </a:b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итруем создал формулу: </a:t>
            </a:r>
            <a:br>
              <a:rPr sz="2400"/>
            </a:br>
            <a:r>
              <a:rPr b="1" lang="ru-RU" sz="2800" spc="-1" strike="noStrike">
                <a:solidFill>
                  <a:srgbClr val="0099ff"/>
                </a:solidFill>
                <a:latin typeface="Comic Sans MS"/>
              </a:rPr>
              <a:t>польза, прочность, крас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ольз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цель, ради которой создается здание или сооружение, т. е. функциональное предназнач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рочность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обязательное условие материального существования зд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Красот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нужна для удовлетворения наших эстетических потребностей.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25D-63F9-49ED-A159-EF40EDC26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600"/>
                </a:solidFill>
                <a:latin typeface="Times New Roman"/>
              </a:rPr>
              <a:t>Требования к здан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914040"/>
            <a:ext cx="438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Капитальность</a:t>
            </a:r>
            <a:r>
              <a:rPr b="0" i="1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ся долговечностью и огнестой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Долговечность</a:t>
            </a: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рочности основных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ачества строительно-монтажных      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опряжения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соблюдения технологических              правил в производстве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Огнестойк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степенью возгораемости материалов, применяемых для строительства зданий и пределом стой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Функциональн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редназначе-ние з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стетичность</a:t>
            </a:r>
            <a:r>
              <a:rPr b="0" lang="ru-RU" sz="2000" spc="-1" strike="noStrike">
                <a:solidFill>
                  <a:srgbClr val="ba30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довлетворение наш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кономичность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меньшение затрат труда,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2720" y="1218960"/>
            <a:ext cx="4390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Технические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т защиту помещений от воздействий внешней среды, а также достаточную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способность воспринимать воздействия без разрушения и существенных остаточных деформ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пособность сохранять равновесие при внешних воздейст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ве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значает прочность, устойчивость и сохранность как здания в целом, так и его элементов во време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нестойк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противление воздействию огня (в часах) до потери прочности либо до образования сквозных тре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FAC-65F9-4C1A-9F9B-9163ADF10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эта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конструкции с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 способу во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степени долгов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 степени огнестой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 кл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8" action="ppaction://hlinksldjump"/>
          </p:cNvPr>
          <p:cNvSpPr/>
          <p:nvPr/>
        </p:nvSpPr>
        <p:spPr>
          <a:xfrm>
            <a:off x="228600" y="60958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9EDE-0017-43F7-A2ED-1396CD3A2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rganization Chart 7"/>
          <p:cNvGrpSpPr/>
          <p:nvPr/>
        </p:nvGrpSpPr>
        <p:grpSpPr>
          <a:xfrm>
            <a:off x="457200" y="457200"/>
            <a:ext cx="8076960" cy="5667840"/>
            <a:chOff x="457200" y="457200"/>
            <a:chExt cx="8076960" cy="5667840"/>
          </a:xfrm>
        </p:grpSpPr>
        <p:cxnSp>
          <p:nvCxnSpPr>
            <p:cNvPr id="222" name="_s1028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99364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029"/>
            <p:cNvCxnSpPr>
              <a:stCxn id="226" idx="0"/>
              <a:endCxn id="224" idx="2"/>
            </p:cNvCxnSpPr>
            <p:nvPr/>
          </p:nvCxnSpPr>
          <p:spPr>
            <a:xfrm flipH="1" flipV="1" rot="5400000">
              <a:off x="5066280" y="38898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0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2285280" y="3890520"/>
              <a:ext cx="709200" cy="9259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031"/>
            <p:cNvCxnSpPr>
              <a:stCxn id="231" idx="0"/>
              <a:endCxn id="229" idx="2"/>
            </p:cNvCxnSpPr>
            <p:nvPr/>
          </p:nvCxnSpPr>
          <p:spPr>
            <a:xfrm flipH="1" flipV="1" rot="5400000">
              <a:off x="135900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032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5994360" y="835920"/>
              <a:ext cx="709200" cy="27842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1033"/>
            <p:cNvCxnSpPr>
              <a:stCxn id="224" idx="0"/>
              <a:endCxn id="234" idx="2"/>
            </p:cNvCxnSpPr>
            <p:nvPr/>
          </p:nvCxnSpPr>
          <p:spPr>
            <a:xfrm flipV="1" rot="16200000">
              <a:off x="5066280" y="17640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1034"/>
            <p:cNvCxnSpPr>
              <a:stCxn id="229" idx="0"/>
              <a:endCxn id="234" idx="2"/>
            </p:cNvCxnSpPr>
            <p:nvPr/>
          </p:nvCxnSpPr>
          <p:spPr>
            <a:xfrm flipH="1" flipV="1" rot="5400000">
              <a:off x="3212640" y="838080"/>
              <a:ext cx="709200" cy="27806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1035"/>
            <p:cNvSpPr/>
            <p:nvPr/>
          </p:nvSpPr>
          <p:spPr>
            <a:xfrm>
              <a:off x="4162320" y="45720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071a"/>
                  </a:solidFill>
                  <a:latin typeface="Arial"/>
                </a:rPr>
                <a:t>по назнач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6"/>
            <p:cNvSpPr/>
            <p:nvPr/>
          </p:nvSpPr>
          <p:spPr>
            <a:xfrm>
              <a:off x="138240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аждан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509004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изводствен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8"/>
            <p:cNvSpPr/>
            <p:nvPr/>
          </p:nvSpPr>
          <p:spPr>
            <a:xfrm>
              <a:off x="694476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ч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9"/>
            <p:cNvSpPr/>
            <p:nvPr/>
          </p:nvSpPr>
          <p:spPr>
            <a:xfrm>
              <a:off x="457200" y="4708080"/>
              <a:ext cx="158796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Жилые -дл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остоян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или временног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40"/>
            <p:cNvSpPr/>
            <p:nvPr/>
          </p:nvSpPr>
          <p:spPr>
            <a:xfrm>
              <a:off x="2310120" y="4708080"/>
              <a:ext cx="158724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щественные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для социаль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слу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41"/>
            <p:cNvSpPr/>
            <p:nvPr/>
          </p:nvSpPr>
          <p:spPr>
            <a:xfrm>
              <a:off x="416232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мыш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42"/>
            <p:cNvSpPr/>
            <p:nvPr/>
          </p:nvSpPr>
          <p:spPr>
            <a:xfrm>
              <a:off x="601704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Сельскохозяйст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37" descr="AG_radiotower"/>
          <p:cNvPicPr/>
          <p:nvPr/>
        </p:nvPicPr>
        <p:blipFill>
          <a:blip r:embed="rId1"/>
          <a:stretch/>
        </p:blipFill>
        <p:spPr>
          <a:xfrm>
            <a:off x="304920" y="380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38">
            <a:hlinkClick r:id="rId2" action="ppaction://hlinksldjump"/>
          </p:cNvPr>
          <p:cNvSpPr/>
          <p:nvPr/>
        </p:nvSpPr>
        <p:spPr>
          <a:xfrm>
            <a:off x="152280" y="617220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13400" y="3837"/>
                </a:moveTo>
                <a:lnTo>
                  <a:pt x="15976" y="6448"/>
                </a:ln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lnTo>
                  <a:pt x="20363" y="10800"/>
                </a:lnTo>
                <a:lnTo>
                  <a:pt x="18709" y="10800"/>
                </a:lnTo>
                <a:lnTo>
                  <a:pt x="18709" y="17989"/>
                </a:lnTo>
                <a:lnTo>
                  <a:pt x="8091" y="17989"/>
                </a:lnTo>
                <a:lnTo>
                  <a:pt x="8091" y="10800"/>
                </a:lnTo>
                <a:lnTo>
                  <a:pt x="6437" y="10800"/>
                </a:lnTo>
                <a:close/>
              </a:path>
              <a:path fill="darkenLess" w="26800" h="21600">
                <a:moveTo>
                  <a:pt x="15976" y="6448"/>
                </a:move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close/>
              </a:path>
              <a:path fill="darkenLess" w="26800" h="21600">
                <a:moveTo>
                  <a:pt x="12477" y="14299"/>
                </a:moveTo>
                <a:lnTo>
                  <a:pt x="14322" y="14299"/>
                </a:lnTo>
                <a:lnTo>
                  <a:pt x="14322" y="17989"/>
                </a:lnTo>
                <a:lnTo>
                  <a:pt x="18709" y="17989"/>
                </a:lnTo>
                <a:lnTo>
                  <a:pt x="18709" y="10800"/>
                </a:lnTo>
                <a:lnTo>
                  <a:pt x="8091" y="10800"/>
                </a:lnTo>
                <a:lnTo>
                  <a:pt x="8091" y="17989"/>
                </a:lnTo>
                <a:lnTo>
                  <a:pt x="12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10D-92FD-4732-9158-4116734AF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Organization Chart 12"/>
          <p:cNvGrpSpPr/>
          <p:nvPr/>
        </p:nvGrpSpPr>
        <p:grpSpPr>
          <a:xfrm>
            <a:off x="457200" y="152280"/>
            <a:ext cx="8152560" cy="3123360"/>
            <a:chOff x="457200" y="152280"/>
            <a:chExt cx="8152560" cy="3123360"/>
          </a:xfrm>
        </p:grpSpPr>
        <p:cxnSp>
          <p:nvCxnSpPr>
            <p:cNvPr id="241" name="_s2052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5807160" y="126720"/>
              <a:ext cx="625320" cy="317304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053"/>
            <p:cNvCxnSpPr>
              <a:stCxn id="245" idx="0"/>
              <a:endCxn id="243" idx="2"/>
            </p:cNvCxnSpPr>
            <p:nvPr/>
          </p:nvCxnSpPr>
          <p:spPr>
            <a:xfrm flipV="1" rot="16200000">
              <a:off x="4749120" y="1184760"/>
              <a:ext cx="625320" cy="105732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4"/>
            <p:cNvCxnSpPr>
              <a:stCxn id="247" idx="0"/>
              <a:endCxn id="243" idx="2"/>
            </p:cNvCxnSpPr>
            <p:nvPr/>
          </p:nvCxnSpPr>
          <p:spPr>
            <a:xfrm flipH="1" flipV="1" rot="5400000">
              <a:off x="3693600" y="1185480"/>
              <a:ext cx="625320" cy="105588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055"/>
            <p:cNvCxnSpPr>
              <a:stCxn id="249" idx="0"/>
              <a:endCxn id="243" idx="2"/>
            </p:cNvCxnSpPr>
            <p:nvPr/>
          </p:nvCxnSpPr>
          <p:spPr>
            <a:xfrm flipH="1" flipV="1" rot="5400000">
              <a:off x="2635920" y="127800"/>
              <a:ext cx="625320" cy="317160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2056"/>
            <p:cNvSpPr/>
            <p:nvPr/>
          </p:nvSpPr>
          <p:spPr>
            <a:xfrm>
              <a:off x="3628080" y="15228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1071a"/>
                  </a:solidFill>
                  <a:latin typeface="Arial"/>
                </a:rPr>
                <a:t>по эт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7"/>
            <p:cNvSpPr/>
            <p:nvPr/>
          </p:nvSpPr>
          <p:spPr>
            <a:xfrm>
              <a:off x="45720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ал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до 5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58"/>
            <p:cNvSpPr/>
            <p:nvPr/>
          </p:nvSpPr>
          <p:spPr>
            <a:xfrm>
              <a:off x="257076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редн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этаж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5 до 12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59"/>
            <p:cNvSpPr/>
            <p:nvPr/>
          </p:nvSpPr>
          <p:spPr>
            <a:xfrm>
              <a:off x="468468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ног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12 до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60"/>
            <p:cNvSpPr/>
            <p:nvPr/>
          </p:nvSpPr>
          <p:spPr>
            <a:xfrm>
              <a:off x="679824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ысот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более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1" descr="рисунок раз"/>
          <p:cNvPicPr/>
          <p:nvPr/>
        </p:nvPicPr>
        <p:blipFill>
          <a:blip r:embed="rId1"/>
          <a:stretch/>
        </p:blipFill>
        <p:spPr>
          <a:xfrm>
            <a:off x="6988320" y="3505320"/>
            <a:ext cx="1666800" cy="23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рисунок адм"/>
          <p:cNvPicPr/>
          <p:nvPr/>
        </p:nvPicPr>
        <p:blipFill>
          <a:blip r:embed="rId2"/>
          <a:stretch/>
        </p:blipFill>
        <p:spPr>
          <a:xfrm>
            <a:off x="2743200" y="35812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kark1"/>
          <p:cNvPicPr/>
          <p:nvPr/>
        </p:nvPicPr>
        <p:blipFill>
          <a:blip r:embed="rId3"/>
          <a:stretch/>
        </p:blipFill>
        <p:spPr>
          <a:xfrm>
            <a:off x="457200" y="3581280"/>
            <a:ext cx="1981080" cy="22100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24">
            <a:hlinkClick r:id="rId4" action="ppaction://hlinksldjump"/>
          </p:cNvPr>
          <p:cNvSpPr/>
          <p:nvPr/>
        </p:nvSpPr>
        <p:spPr>
          <a:xfrm>
            <a:off x="228600" y="6400800"/>
            <a:ext cx="509760" cy="457200"/>
          </a:xfrm>
          <a:custGeom>
            <a:avLst/>
            <a:gdLst>
              <a:gd name="textAreaLeft" fmla="*/ 29520 w 509760"/>
              <a:gd name="textAreaRight" fmla="*/ 480240 w 509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81" h="21600">
                <a:moveTo>
                  <a:pt x="0" y="0"/>
                </a:moveTo>
                <a:lnTo>
                  <a:pt x="24081" y="0"/>
                </a:lnTo>
                <a:lnTo>
                  <a:pt x="24081" y="21600"/>
                </a:lnTo>
                <a:lnTo>
                  <a:pt x="0" y="21600"/>
                </a:lnTo>
                <a:close/>
              </a:path>
              <a:path fill="lightenLess" w="24081" h="21600">
                <a:moveTo>
                  <a:pt x="0" y="0"/>
                </a:moveTo>
                <a:lnTo>
                  <a:pt x="24081" y="0"/>
                </a:lnTo>
                <a:lnTo>
                  <a:pt x="22681" y="1400"/>
                </a:lnTo>
                <a:lnTo>
                  <a:pt x="1400" y="1400"/>
                </a:lnTo>
                <a:close/>
              </a:path>
              <a:path fill="darken" w="24081" h="21600">
                <a:moveTo>
                  <a:pt x="24081" y="0"/>
                </a:moveTo>
                <a:lnTo>
                  <a:pt x="24081" y="21600"/>
                </a:lnTo>
                <a:lnTo>
                  <a:pt x="22681" y="20200"/>
                </a:lnTo>
                <a:lnTo>
                  <a:pt x="22681" y="1400"/>
                </a:lnTo>
                <a:close/>
              </a:path>
              <a:path fill="darkenLess" w="24081" h="21600">
                <a:moveTo>
                  <a:pt x="2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1" y="20200"/>
                </a:lnTo>
                <a:close/>
              </a:path>
              <a:path fill="lighten" w="2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1" h="21600">
                <a:moveTo>
                  <a:pt x="12041" y="3837"/>
                </a:moveTo>
                <a:lnTo>
                  <a:pt x="14617" y="6448"/>
                </a:ln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lnTo>
                  <a:pt x="19004" y="10800"/>
                </a:lnTo>
                <a:lnTo>
                  <a:pt x="17350" y="10800"/>
                </a:lnTo>
                <a:lnTo>
                  <a:pt x="17350" y="17989"/>
                </a:lnTo>
                <a:lnTo>
                  <a:pt x="6731" y="17989"/>
                </a:lnTo>
                <a:lnTo>
                  <a:pt x="6731" y="10800"/>
                </a:lnTo>
                <a:lnTo>
                  <a:pt x="5078" y="10800"/>
                </a:lnTo>
                <a:close/>
              </a:path>
              <a:path fill="darkenLess" w="24081" h="21600">
                <a:moveTo>
                  <a:pt x="14617" y="6448"/>
                </a:move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close/>
              </a:path>
              <a:path fill="darkenLess" w="24081" h="21600">
                <a:moveTo>
                  <a:pt x="11118" y="14299"/>
                </a:moveTo>
                <a:lnTo>
                  <a:pt x="12963" y="14299"/>
                </a:lnTo>
                <a:lnTo>
                  <a:pt x="12963" y="17989"/>
                </a:lnTo>
                <a:lnTo>
                  <a:pt x="17350" y="17989"/>
                </a:lnTo>
                <a:lnTo>
                  <a:pt x="17350" y="10800"/>
                </a:lnTo>
                <a:lnTo>
                  <a:pt x="6731" y="10800"/>
                </a:lnTo>
                <a:lnTo>
                  <a:pt x="6731" y="17989"/>
                </a:lnTo>
                <a:lnTo>
                  <a:pt x="111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7" descr="plai1[1]"/>
          <p:cNvPicPr/>
          <p:nvPr/>
        </p:nvPicPr>
        <p:blipFill>
          <a:blip r:embed="rId5"/>
          <a:stretch/>
        </p:blipFill>
        <p:spPr>
          <a:xfrm>
            <a:off x="4800600" y="35812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6D6-FCE2-4DF0-AD37-A4774416F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конструктивному решению здания делятся на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к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н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и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fasad[1]"/>
          <p:cNvPicPr/>
          <p:nvPr/>
        </p:nvPicPr>
        <p:blipFill>
          <a:blip r:embed="rId1"/>
          <a:stretch/>
        </p:blipFill>
        <p:spPr>
          <a:xfrm>
            <a:off x="5029200" y="1523880"/>
            <a:ext cx="2362320" cy="194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b_mech9[1]"/>
          <p:cNvPicPr/>
          <p:nvPr/>
        </p:nvPicPr>
        <p:blipFill>
          <a:blip r:embed="rId2"/>
          <a:stretch/>
        </p:blipFill>
        <p:spPr>
          <a:xfrm>
            <a:off x="6172200" y="3276720"/>
            <a:ext cx="2595600" cy="2003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16[2]"/>
          <p:cNvPicPr/>
          <p:nvPr/>
        </p:nvPicPr>
        <p:blipFill>
          <a:blip r:embed="rId3"/>
          <a:stretch/>
        </p:blipFill>
        <p:spPr>
          <a:xfrm>
            <a:off x="3809880" y="5181480"/>
            <a:ext cx="30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енко Марина Ивановна</dc:creator>
  <dc:description/>
  <dc:language>en-US</dc:language>
  <cp:lastModifiedBy>User</cp:lastModifiedBy>
  <dcterms:modified xsi:type="dcterms:W3CDTF">2016-10-16T06:57:19Z</dcterms:modified>
  <cp:revision>67</cp:revision>
  <dc:subject>Строительство</dc:subject>
  <dc:title>Основные сведения о зданиях и сооружения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