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36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7.png" ContentType="image/png"/>
  <Override PartName="/ppt/media/image28.png" ContentType="image/png"/>
  <Override PartName="/ppt/media/image7.jpeg" ContentType="image/jpeg"/>
  <Override PartName="/ppt/media/image38.jpeg" ContentType="image/jpeg"/>
  <Override PartName="/ppt/media/image5.gif" ContentType="image/gif"/>
  <Override PartName="/ppt/media/image14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A2E0-DA43-43C1-9770-7B1C9A6184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BB07-5056-4912-AD73-CFEF40B3E9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DA5C-37BF-4910-9BA0-598E0ABC8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3801-4CFF-447C-9630-5ADC8FFE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F415-A0AF-4854-A493-9442BA05C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689E-3B55-4D72-B3B8-5FC8D2E53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32C7-6785-46DE-8101-8A8527554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BDB8-F924-4DFF-AC71-55964C1D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314A-2800-4B10-8E57-8CFE52CF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09BB-7293-4EFE-9731-52EC18C1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5904-6C00-49C2-AAAC-E666361A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6C03-A634-4C5E-A13E-AB860DBB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1A1C-C2FB-4C8F-A90C-89EC6FDA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EF8D-C40E-4789-9300-7BEABA82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7765-90C0-439A-9296-DF1ADDED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41BB-88F6-4BE4-AD27-2CF52C1F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0FCE-204C-4CDB-862D-B9D22CD9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B8AD-E326-4A19-B76F-CF494DFFE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ECFD-5AB2-4119-B0E5-5019742F8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9E1BD-4234-4E35-869C-D8284B602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DB113-9CD2-4267-B33A-90E8D9F0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DA640-89C9-4BDD-8114-31D7B04C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B593F-A00C-4499-9CF4-2725F39F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6DCA8-09F8-41DC-B517-0051402D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734F-2CD7-4F95-8D85-83AEE2D6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46499-1046-4B52-8AD2-CD43A7E9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802AA-B415-4126-B975-C06FB68A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75073-7408-48F6-8567-DBF78B17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3FC02-1EA2-49A8-89EB-5A79B93C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09147-B5BB-4097-8D21-29B26FBC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C68BC-00A5-45CC-9992-77ECCD4B3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E4BF3-77C8-4AB0-B4DA-573A3AFD7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DD76-DAA6-4C87-9451-DBCDCEB2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E76E-4C28-4B6C-ABFF-7BBC7774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DA01-AD65-4DBD-AD3D-05207F64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297F-EE7F-4A32-B4A0-B83D68FD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6E13-B46E-4D68-8722-8ADAEAB2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572B-495E-415F-8E6F-FD725B56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e9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E9B1-041C-42DD-B6F6-77BFBC4EC0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DB52-0AF4-407F-9364-02FA83302D6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71DA-82E5-4FCD-8119-C8D00701728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" Target="slide17.xml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21.xm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6.xm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8B60-6664-4719-A9E3-9ED7EC45C0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85800" y="609480"/>
            <a:ext cx="7620120" cy="3473640"/>
          </a:xfrm>
          <a:prstGeom prst="rect">
            <a:avLst/>
          </a:prstGeom>
          <a:solidFill>
            <a:srgbClr val="dddddd"/>
          </a:solidFill>
          <a:ln w="57240">
            <a:solidFill>
              <a:srgbClr val="003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84500"/>
                </a:solidFill>
                <a:latin typeface="Arial"/>
              </a:rPr>
              <a:t>Общие сведения о зданиях и сооружени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876920"/>
            <a:ext cx="5410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B488-2E3E-4558-AC29-607B7D058B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лносборные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онтируемые из конструкций и деталей заводского изгото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еиндустриальны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выкладываемые из мелкоштучных издел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по способу возвед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5" descr="дерево"/>
          <p:cNvPicPr/>
          <p:nvPr/>
        </p:nvPicPr>
        <p:blipFill>
          <a:blip r:embed="rId1"/>
          <a:stretch/>
        </p:blipFill>
        <p:spPr>
          <a:xfrm>
            <a:off x="838080" y="3809880"/>
            <a:ext cx="3048120" cy="2295720"/>
          </a:xfrm>
          <a:prstGeom prst="rect">
            <a:avLst/>
          </a:prstGeom>
          <a:ln w="0">
            <a:noFill/>
          </a:ln>
        </p:spPr>
      </p:pic>
      <p:sp>
        <p:nvSpPr>
          <p:cNvPr id="266" name="AutoShape 26"/>
          <p:cNvSpPr/>
          <p:nvPr/>
        </p:nvSpPr>
        <p:spPr>
          <a:xfrm>
            <a:off x="4419720" y="2362320"/>
            <a:ext cx="533160" cy="5619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7"/>
          <p:cNvSpPr/>
          <p:nvPr/>
        </p:nvSpPr>
        <p:spPr>
          <a:xfrm>
            <a:off x="4114800" y="480060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8" descr="Бизнес-центр"/>
          <p:cNvPicPr/>
          <p:nvPr/>
        </p:nvPicPr>
        <p:blipFill>
          <a:blip r:embed="rId2"/>
          <a:stretch/>
        </p:blipFill>
        <p:spPr>
          <a:xfrm>
            <a:off x="5029200" y="1600200"/>
            <a:ext cx="3581280" cy="2209680"/>
          </a:xfrm>
          <a:prstGeom prst="rect">
            <a:avLst/>
          </a:prstGeom>
          <a:ln w="0">
            <a:noFill/>
          </a:ln>
        </p:spPr>
      </p:pic>
      <p:sp>
        <p:nvSpPr>
          <p:cNvPr id="269" name="AutoShape 29">
            <a:hlinkClick r:id="rId3" action="ppaction://hlinksldjump"/>
          </p:cNvPr>
          <p:cNvSpPr/>
          <p:nvPr/>
        </p:nvSpPr>
        <p:spPr>
          <a:xfrm>
            <a:off x="228600" y="6348240"/>
            <a:ext cx="509760" cy="50976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2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A4EF-1079-40CC-AEEB-367AC2373D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по степени долговечности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 способности конструктивных элементов сохранять требуемые эксплуатацион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степень – со сроком службы более 100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степень – 50 – 100 л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степень – 20- 50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степень – до 20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рисунок 9 вагон"/>
          <p:cNvPicPr/>
          <p:nvPr/>
        </p:nvPicPr>
        <p:blipFill>
          <a:blip r:embed="rId1"/>
          <a:stretch/>
        </p:blipFill>
        <p:spPr>
          <a:xfrm>
            <a:off x="5257800" y="5029200"/>
            <a:ext cx="2286000" cy="13716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" descr="рисунок 2"/>
          <p:cNvPicPr/>
          <p:nvPr/>
        </p:nvPicPr>
        <p:blipFill>
          <a:blip r:embed="rId2"/>
          <a:stretch/>
        </p:blipFill>
        <p:spPr>
          <a:xfrm>
            <a:off x="228600" y="3581280"/>
            <a:ext cx="2690640" cy="2819520"/>
          </a:xfrm>
          <a:prstGeom prst="rect">
            <a:avLst/>
          </a:prstGeom>
          <a:ln w="0">
            <a:noFill/>
          </a:ln>
        </p:spPr>
      </p:pic>
      <p:sp>
        <p:nvSpPr>
          <p:cNvPr id="275" name="AutoShape 6">
            <a:hlinkClick r:id="rId3" action="ppaction://hlinksldjump"/>
          </p:cNvPr>
          <p:cNvSpPr/>
          <p:nvPr/>
        </p:nvSpPr>
        <p:spPr>
          <a:xfrm>
            <a:off x="304920" y="6348240"/>
            <a:ext cx="533160" cy="509760"/>
          </a:xfrm>
          <a:custGeom>
            <a:avLst/>
            <a:gdLst>
              <a:gd name="textAreaLeft" fmla="*/ 32760 w 533160"/>
              <a:gd name="textAreaRight" fmla="*/ 500400 w 5331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2591" h="21600">
                <a:moveTo>
                  <a:pt x="0" y="0"/>
                </a:moveTo>
                <a:lnTo>
                  <a:pt x="22591" y="0"/>
                </a:lnTo>
                <a:lnTo>
                  <a:pt x="22591" y="21600"/>
                </a:lnTo>
                <a:lnTo>
                  <a:pt x="0" y="21600"/>
                </a:lnTo>
                <a:close/>
              </a:path>
              <a:path fill="lightenLess" w="22591" h="21600">
                <a:moveTo>
                  <a:pt x="0" y="0"/>
                </a:moveTo>
                <a:lnTo>
                  <a:pt x="22591" y="0"/>
                </a:lnTo>
                <a:lnTo>
                  <a:pt x="21191" y="1400"/>
                </a:lnTo>
                <a:lnTo>
                  <a:pt x="1400" y="1400"/>
                </a:lnTo>
                <a:close/>
              </a:path>
              <a:path fill="darken" w="22591" h="21600">
                <a:moveTo>
                  <a:pt x="22591" y="0"/>
                </a:moveTo>
                <a:lnTo>
                  <a:pt x="22591" y="21600"/>
                </a:lnTo>
                <a:lnTo>
                  <a:pt x="21191" y="20200"/>
                </a:lnTo>
                <a:lnTo>
                  <a:pt x="21191" y="1400"/>
                </a:lnTo>
                <a:close/>
              </a:path>
              <a:path fill="darkenLess" w="22591" h="21600">
                <a:moveTo>
                  <a:pt x="22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91" y="20200"/>
                </a:lnTo>
                <a:close/>
              </a:path>
              <a:path fill="lighten" w="22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91" h="21600">
                <a:moveTo>
                  <a:pt x="11295" y="3837"/>
                </a:moveTo>
                <a:lnTo>
                  <a:pt x="13872" y="6448"/>
                </a:lnTo>
                <a:lnTo>
                  <a:pt x="13872" y="4707"/>
                </a:lnTo>
                <a:lnTo>
                  <a:pt x="15647" y="4707"/>
                </a:lnTo>
                <a:lnTo>
                  <a:pt x="15647" y="8224"/>
                </a:lnTo>
                <a:lnTo>
                  <a:pt x="18258" y="10800"/>
                </a:lnTo>
                <a:lnTo>
                  <a:pt x="16605" y="10800"/>
                </a:lnTo>
                <a:lnTo>
                  <a:pt x="16605" y="17989"/>
                </a:lnTo>
                <a:lnTo>
                  <a:pt x="5986" y="17989"/>
                </a:lnTo>
                <a:lnTo>
                  <a:pt x="5986" y="10800"/>
                </a:lnTo>
                <a:lnTo>
                  <a:pt x="4332" y="10800"/>
                </a:lnTo>
                <a:close/>
              </a:path>
              <a:path fill="darkenLess" w="22591" h="21600">
                <a:moveTo>
                  <a:pt x="13872" y="6448"/>
                </a:moveTo>
                <a:lnTo>
                  <a:pt x="13872" y="4707"/>
                </a:lnTo>
                <a:lnTo>
                  <a:pt x="15647" y="4707"/>
                </a:lnTo>
                <a:lnTo>
                  <a:pt x="15647" y="8224"/>
                </a:lnTo>
                <a:close/>
              </a:path>
              <a:path fill="darkenLess" w="22591" h="21600">
                <a:moveTo>
                  <a:pt x="10373" y="14299"/>
                </a:moveTo>
                <a:lnTo>
                  <a:pt x="12218" y="14299"/>
                </a:lnTo>
                <a:lnTo>
                  <a:pt x="12218" y="17989"/>
                </a:lnTo>
                <a:lnTo>
                  <a:pt x="16605" y="17989"/>
                </a:lnTo>
                <a:lnTo>
                  <a:pt x="16605" y="10800"/>
                </a:lnTo>
                <a:lnTo>
                  <a:pt x="5986" y="10800"/>
                </a:lnTo>
                <a:lnTo>
                  <a:pt x="5986" y="17989"/>
                </a:lnTo>
                <a:lnTo>
                  <a:pt x="1037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2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3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20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20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20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1B82-6200-48DA-98B0-A053E887E5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1071a"/>
                </a:solidFill>
                <a:latin typeface="Arial"/>
              </a:rPr>
              <a:t>Степени возгораемости здан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Несгораем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Трудносгораем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Сгораем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" descr="zav_upr[1]"/>
          <p:cNvPicPr/>
          <p:nvPr/>
        </p:nvPicPr>
        <p:blipFill>
          <a:blip r:embed="rId4"/>
          <a:stretch/>
        </p:blipFill>
        <p:spPr>
          <a:xfrm>
            <a:off x="4952880" y="1676520"/>
            <a:ext cx="3456000" cy="19047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image004[1]"/>
          <p:cNvPicPr/>
          <p:nvPr/>
        </p:nvPicPr>
        <p:blipFill>
          <a:blip r:embed="rId5"/>
          <a:stretch/>
        </p:blipFill>
        <p:spPr>
          <a:xfrm>
            <a:off x="5105520" y="3733920"/>
            <a:ext cx="2895480" cy="206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B0BA-3756-4382-838E-113B33EFDC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по степени огнестойк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 возможности конструкций сохранять при пожаре функции несущих и ограждающих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–III – c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каменными конструкц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– с деревянными оштукатурен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– с деревянными неоштукатурен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5" descr="дерево 3"/>
          <p:cNvPicPr/>
          <p:nvPr/>
        </p:nvPicPr>
        <p:blipFill>
          <a:blip r:embed="rId1"/>
          <a:stretch/>
        </p:blipFill>
        <p:spPr>
          <a:xfrm>
            <a:off x="5105520" y="4267080"/>
            <a:ext cx="2438280" cy="19051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kark8"/>
          <p:cNvPicPr/>
          <p:nvPr/>
        </p:nvPicPr>
        <p:blipFill>
          <a:blip r:embed="rId2"/>
          <a:stretch/>
        </p:blipFill>
        <p:spPr>
          <a:xfrm>
            <a:off x="1447920" y="4267080"/>
            <a:ext cx="2666880" cy="1905120"/>
          </a:xfrm>
          <a:prstGeom prst="rect">
            <a:avLst/>
          </a:prstGeom>
          <a:ln w="0">
            <a:noFill/>
          </a:ln>
        </p:spPr>
      </p:pic>
      <p:sp>
        <p:nvSpPr>
          <p:cNvPr id="286" name="AutoShape 7">
            <a:hlinkClick r:id="rId3" action="ppaction://hlinksldjump"/>
          </p:cNvPr>
          <p:cNvSpPr/>
          <p:nvPr/>
        </p:nvSpPr>
        <p:spPr>
          <a:xfrm>
            <a:off x="8381880" y="60958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15110" y="3837"/>
                </a:moveTo>
                <a:lnTo>
                  <a:pt x="17686" y="6448"/>
                </a:lnTo>
                <a:lnTo>
                  <a:pt x="17686" y="4707"/>
                </a:lnTo>
                <a:lnTo>
                  <a:pt x="19462" y="4707"/>
                </a:lnTo>
                <a:lnTo>
                  <a:pt x="19462" y="8224"/>
                </a:lnTo>
                <a:lnTo>
                  <a:pt x="22073" y="10800"/>
                </a:lnTo>
                <a:lnTo>
                  <a:pt x="20419" y="10800"/>
                </a:lnTo>
                <a:lnTo>
                  <a:pt x="20419" y="17989"/>
                </a:lnTo>
                <a:lnTo>
                  <a:pt x="9801" y="17989"/>
                </a:lnTo>
                <a:lnTo>
                  <a:pt x="9801" y="10800"/>
                </a:lnTo>
                <a:lnTo>
                  <a:pt x="8147" y="10800"/>
                </a:lnTo>
                <a:close/>
              </a:path>
              <a:path fill="darkenLess" w="30220" h="21600">
                <a:moveTo>
                  <a:pt x="17686" y="6448"/>
                </a:moveTo>
                <a:lnTo>
                  <a:pt x="17686" y="4707"/>
                </a:lnTo>
                <a:lnTo>
                  <a:pt x="19462" y="4707"/>
                </a:lnTo>
                <a:lnTo>
                  <a:pt x="19462" y="8224"/>
                </a:lnTo>
                <a:close/>
              </a:path>
              <a:path fill="darkenLess" w="30220" h="21600">
                <a:moveTo>
                  <a:pt x="14187" y="14299"/>
                </a:moveTo>
                <a:lnTo>
                  <a:pt x="16032" y="14299"/>
                </a:lnTo>
                <a:lnTo>
                  <a:pt x="16032" y="17989"/>
                </a:lnTo>
                <a:lnTo>
                  <a:pt x="20419" y="17989"/>
                </a:lnTo>
                <a:lnTo>
                  <a:pt x="20419" y="10800"/>
                </a:lnTo>
                <a:lnTo>
                  <a:pt x="9801" y="10800"/>
                </a:lnTo>
                <a:lnTo>
                  <a:pt x="9801" y="17989"/>
                </a:lnTo>
                <a:lnTo>
                  <a:pt x="1418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5041-BE9F-4F08-B7D6-9B5BD588C7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по класс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 совокупности требований , касающихся степени долговечности, огнестойкости и других эксплуатационных каче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I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 клас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II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клас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лас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ласс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лас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6" descr="pic_19_1"/>
          <p:cNvPicPr/>
          <p:nvPr/>
        </p:nvPicPr>
        <p:blipFill>
          <a:blip r:embed="rId6"/>
          <a:stretch/>
        </p:blipFill>
        <p:spPr>
          <a:xfrm>
            <a:off x="4572000" y="3048120"/>
            <a:ext cx="3352680" cy="3171600"/>
          </a:xfrm>
          <a:prstGeom prst="rect">
            <a:avLst/>
          </a:prstGeom>
          <a:ln w="0">
            <a:noFill/>
          </a:ln>
        </p:spPr>
      </p:pic>
      <p:sp>
        <p:nvSpPr>
          <p:cNvPr id="291" name="AutoShape 7"/>
          <p:cNvSpPr/>
          <p:nvPr/>
        </p:nvSpPr>
        <p:spPr>
          <a:xfrm>
            <a:off x="304920" y="6248520"/>
            <a:ext cx="457200" cy="433440"/>
          </a:xfrm>
          <a:custGeom>
            <a:avLst/>
            <a:gdLst>
              <a:gd name="textAreaLeft" fmla="*/ 28080 w 457200"/>
              <a:gd name="textAreaRight" fmla="*/ 429120 w 4572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2783" h="21600">
                <a:moveTo>
                  <a:pt x="0" y="0"/>
                </a:moveTo>
                <a:lnTo>
                  <a:pt x="22783" y="0"/>
                </a:lnTo>
                <a:lnTo>
                  <a:pt x="22783" y="21600"/>
                </a:lnTo>
                <a:lnTo>
                  <a:pt x="0" y="21600"/>
                </a:lnTo>
                <a:close/>
              </a:path>
              <a:path fill="lightenLess" w="22783" h="21600">
                <a:moveTo>
                  <a:pt x="0" y="0"/>
                </a:moveTo>
                <a:lnTo>
                  <a:pt x="22783" y="0"/>
                </a:lnTo>
                <a:lnTo>
                  <a:pt x="21383" y="1400"/>
                </a:lnTo>
                <a:lnTo>
                  <a:pt x="1400" y="1400"/>
                </a:lnTo>
                <a:close/>
              </a:path>
              <a:path fill="darken" w="22783" h="21600">
                <a:moveTo>
                  <a:pt x="22783" y="0"/>
                </a:moveTo>
                <a:lnTo>
                  <a:pt x="22783" y="21600"/>
                </a:lnTo>
                <a:lnTo>
                  <a:pt x="21383" y="20200"/>
                </a:lnTo>
                <a:lnTo>
                  <a:pt x="21383" y="1400"/>
                </a:lnTo>
                <a:close/>
              </a:path>
              <a:path fill="darkenLess" w="22783" h="21600">
                <a:moveTo>
                  <a:pt x="22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83" y="20200"/>
                </a:lnTo>
                <a:close/>
              </a:path>
              <a:path fill="lighten" w="22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83" h="21600">
                <a:moveTo>
                  <a:pt x="11392" y="3837"/>
                </a:moveTo>
                <a:lnTo>
                  <a:pt x="13968" y="6448"/>
                </a:lnTo>
                <a:lnTo>
                  <a:pt x="13968" y="4707"/>
                </a:lnTo>
                <a:lnTo>
                  <a:pt x="15743" y="4707"/>
                </a:lnTo>
                <a:lnTo>
                  <a:pt x="15743" y="8224"/>
                </a:lnTo>
                <a:lnTo>
                  <a:pt x="18354" y="10800"/>
                </a:lnTo>
                <a:lnTo>
                  <a:pt x="16701" y="10800"/>
                </a:lnTo>
                <a:lnTo>
                  <a:pt x="16701" y="17989"/>
                </a:lnTo>
                <a:lnTo>
                  <a:pt x="6082" y="17989"/>
                </a:lnTo>
                <a:lnTo>
                  <a:pt x="6082" y="10800"/>
                </a:lnTo>
                <a:lnTo>
                  <a:pt x="4429" y="10800"/>
                </a:lnTo>
                <a:close/>
              </a:path>
              <a:path fill="darkenLess" w="22783" h="21600">
                <a:moveTo>
                  <a:pt x="13968" y="6448"/>
                </a:moveTo>
                <a:lnTo>
                  <a:pt x="13968" y="4707"/>
                </a:lnTo>
                <a:lnTo>
                  <a:pt x="15743" y="4707"/>
                </a:lnTo>
                <a:lnTo>
                  <a:pt x="15743" y="8224"/>
                </a:lnTo>
                <a:close/>
              </a:path>
              <a:path fill="darkenLess" w="22783" h="21600">
                <a:moveTo>
                  <a:pt x="10469" y="14299"/>
                </a:moveTo>
                <a:lnTo>
                  <a:pt x="12314" y="14299"/>
                </a:lnTo>
                <a:lnTo>
                  <a:pt x="12314" y="17989"/>
                </a:lnTo>
                <a:lnTo>
                  <a:pt x="16701" y="17989"/>
                </a:lnTo>
                <a:lnTo>
                  <a:pt x="16701" y="10800"/>
                </a:lnTo>
                <a:lnTo>
                  <a:pt x="6082" y="10800"/>
                </a:lnTo>
                <a:lnTo>
                  <a:pt x="6082" y="17989"/>
                </a:lnTo>
                <a:lnTo>
                  <a:pt x="10469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8"/>
          <p:cNvSpPr/>
          <p:nvPr/>
        </p:nvSpPr>
        <p:spPr>
          <a:xfrm>
            <a:off x="914400" y="6324480"/>
            <a:ext cx="433440" cy="381240"/>
          </a:xfrm>
          <a:custGeom>
            <a:avLst/>
            <a:gdLst>
              <a:gd name="textAreaLeft" fmla="*/ 24480 w 433440"/>
              <a:gd name="textAreaRight" fmla="*/ 408960 w 4334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4555" h="21600">
                <a:moveTo>
                  <a:pt x="0" y="0"/>
                </a:moveTo>
                <a:lnTo>
                  <a:pt x="24555" y="0"/>
                </a:lnTo>
                <a:lnTo>
                  <a:pt x="24555" y="21600"/>
                </a:lnTo>
                <a:lnTo>
                  <a:pt x="0" y="21600"/>
                </a:lnTo>
                <a:close/>
              </a:path>
              <a:path fill="lightenLess" w="24555" h="21600">
                <a:moveTo>
                  <a:pt x="0" y="0"/>
                </a:moveTo>
                <a:lnTo>
                  <a:pt x="24555" y="0"/>
                </a:lnTo>
                <a:lnTo>
                  <a:pt x="23155" y="1400"/>
                </a:lnTo>
                <a:lnTo>
                  <a:pt x="1400" y="1400"/>
                </a:lnTo>
                <a:close/>
              </a:path>
              <a:path fill="darken" w="24555" h="21600">
                <a:moveTo>
                  <a:pt x="24555" y="0"/>
                </a:moveTo>
                <a:lnTo>
                  <a:pt x="24555" y="21600"/>
                </a:lnTo>
                <a:lnTo>
                  <a:pt x="23155" y="20200"/>
                </a:lnTo>
                <a:lnTo>
                  <a:pt x="23155" y="1400"/>
                </a:lnTo>
                <a:close/>
              </a:path>
              <a:path fill="darkenLess" w="24555" h="21600">
                <a:moveTo>
                  <a:pt x="24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55" y="20200"/>
                </a:lnTo>
                <a:close/>
              </a:path>
              <a:path fill="lighten" w="24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55" h="21600">
                <a:moveTo>
                  <a:pt x="5271" y="3794"/>
                </a:moveTo>
                <a:lnTo>
                  <a:pt x="19284" y="10800"/>
                </a:lnTo>
                <a:lnTo>
                  <a:pt x="527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2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2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8" dur="5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2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2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20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2000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2000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CDF1-1669-4ACE-9C5F-8AEE420CA7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к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классу относя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рупные промышленные и общественные здания, а также жилые в девять этажей и более, здания с повышенными эксплуатационными и архитектурными требова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рисунок музей"/>
          <p:cNvPicPr/>
          <p:nvPr/>
        </p:nvPicPr>
        <p:blipFill>
          <a:blip r:embed="rId1"/>
          <a:stretch/>
        </p:blipFill>
        <p:spPr>
          <a:xfrm>
            <a:off x="6172200" y="2971800"/>
            <a:ext cx="2362320" cy="17524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612"/>
          <p:cNvPicPr/>
          <p:nvPr/>
        </p:nvPicPr>
        <p:blipFill>
          <a:blip r:embed="rId2"/>
          <a:stretch/>
        </p:blipFill>
        <p:spPr>
          <a:xfrm>
            <a:off x="533520" y="3429000"/>
            <a:ext cx="2057400" cy="16002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pic_5_1"/>
          <p:cNvPicPr/>
          <p:nvPr/>
        </p:nvPicPr>
        <p:blipFill>
          <a:blip r:embed="rId3"/>
          <a:stretch/>
        </p:blipFill>
        <p:spPr>
          <a:xfrm>
            <a:off x="3048120" y="4267080"/>
            <a:ext cx="2743200" cy="1981440"/>
          </a:xfrm>
          <a:prstGeom prst="rect">
            <a:avLst/>
          </a:prstGeom>
          <a:ln w="0">
            <a:noFill/>
          </a:ln>
        </p:spPr>
      </p:pic>
      <p:sp>
        <p:nvSpPr>
          <p:cNvPr id="299" name="AutoShape 8"/>
          <p:cNvSpPr/>
          <p:nvPr/>
        </p:nvSpPr>
        <p:spPr>
          <a:xfrm>
            <a:off x="304920" y="6172200"/>
            <a:ext cx="509400" cy="50976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10800" y="3845"/>
                </a:moveTo>
                <a:lnTo>
                  <a:pt x="13376" y="6456"/>
                </a:ln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lnTo>
                  <a:pt x="17763" y="10808"/>
                </a:lnTo>
                <a:lnTo>
                  <a:pt x="16109" y="10808"/>
                </a:lnTo>
                <a:lnTo>
                  <a:pt x="16109" y="17997"/>
                </a:lnTo>
                <a:lnTo>
                  <a:pt x="5491" y="17997"/>
                </a:lnTo>
                <a:lnTo>
                  <a:pt x="5491" y="10808"/>
                </a:lnTo>
                <a:lnTo>
                  <a:pt x="3837" y="10808"/>
                </a:lnTo>
                <a:close/>
              </a:path>
              <a:path fill="darkenLess" w="21600" h="21615">
                <a:moveTo>
                  <a:pt x="13376" y="6456"/>
                </a:move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close/>
              </a:path>
              <a:path fill="darkenLess" w="21600" h="21615">
                <a:moveTo>
                  <a:pt x="9877" y="14307"/>
                </a:moveTo>
                <a:lnTo>
                  <a:pt x="11723" y="14307"/>
                </a:lnTo>
                <a:lnTo>
                  <a:pt x="11723" y="17997"/>
                </a:lnTo>
                <a:lnTo>
                  <a:pt x="16109" y="17997"/>
                </a:lnTo>
                <a:lnTo>
                  <a:pt x="16109" y="10808"/>
                </a:lnTo>
                <a:lnTo>
                  <a:pt x="5491" y="10808"/>
                </a:lnTo>
                <a:lnTo>
                  <a:pt x="5491" y="17997"/>
                </a:lnTo>
                <a:lnTo>
                  <a:pt x="9877" y="1799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5C58-713C-4765-BA33-E01B0669CC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к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I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классу относя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щественные , промышленные  и сельскохозяйственные здания, жилые от пяти до девяти этаж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4" descr="рисунок 6 пр"/>
          <p:cNvPicPr/>
          <p:nvPr/>
        </p:nvPicPr>
        <p:blipFill>
          <a:blip r:embed="rId1"/>
          <a:stretch/>
        </p:blipFill>
        <p:spPr>
          <a:xfrm>
            <a:off x="4876920" y="3200400"/>
            <a:ext cx="3352680" cy="2286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5" descr="pic_8_1"/>
          <p:cNvPicPr/>
          <p:nvPr/>
        </p:nvPicPr>
        <p:blipFill>
          <a:blip r:embed="rId2"/>
          <a:stretch/>
        </p:blipFill>
        <p:spPr>
          <a:xfrm>
            <a:off x="762120" y="3124080"/>
            <a:ext cx="3352680" cy="236232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6"/>
          <p:cNvSpPr/>
          <p:nvPr/>
        </p:nvSpPr>
        <p:spPr>
          <a:xfrm>
            <a:off x="22860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0" dur="3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6B49-A9F6-4C22-8B7C-01C60D9F0C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к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II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классу относя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мышленные  и сельскохозяйственные здания с низкими эксплуатационными требованиями, жилые от пяти до девяти этаж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6" descr="ангар"/>
          <p:cNvPicPr/>
          <p:nvPr/>
        </p:nvPicPr>
        <p:blipFill>
          <a:blip r:embed="rId1"/>
          <a:stretch/>
        </p:blipFill>
        <p:spPr>
          <a:xfrm>
            <a:off x="685800" y="3048120"/>
            <a:ext cx="2666880" cy="18288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7" descr="рис 5"/>
          <p:cNvPicPr/>
          <p:nvPr/>
        </p:nvPicPr>
        <p:blipFill>
          <a:blip r:embed="rId2"/>
          <a:stretch/>
        </p:blipFill>
        <p:spPr>
          <a:xfrm>
            <a:off x="4572000" y="3048120"/>
            <a:ext cx="3200400" cy="2361960"/>
          </a:xfrm>
          <a:prstGeom prst="rect">
            <a:avLst/>
          </a:prstGeom>
          <a:ln w="0">
            <a:noFill/>
          </a:ln>
        </p:spPr>
      </p:pic>
      <p:sp>
        <p:nvSpPr>
          <p:cNvPr id="311" name="AutoShape 8"/>
          <p:cNvSpPr/>
          <p:nvPr/>
        </p:nvSpPr>
        <p:spPr>
          <a:xfrm>
            <a:off x="152280" y="6348240"/>
            <a:ext cx="586080" cy="509760"/>
          </a:xfrm>
          <a:custGeom>
            <a:avLst/>
            <a:gdLst>
              <a:gd name="textAreaLeft" fmla="*/ 32760 w 586080"/>
              <a:gd name="textAreaRight" fmla="*/ 553320 w 58608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4832" h="21600">
                <a:moveTo>
                  <a:pt x="0" y="0"/>
                </a:moveTo>
                <a:lnTo>
                  <a:pt x="24832" y="0"/>
                </a:lnTo>
                <a:lnTo>
                  <a:pt x="24832" y="21600"/>
                </a:lnTo>
                <a:lnTo>
                  <a:pt x="0" y="21600"/>
                </a:lnTo>
                <a:close/>
              </a:path>
              <a:path fill="lightenLess" w="24832" h="21600">
                <a:moveTo>
                  <a:pt x="0" y="0"/>
                </a:moveTo>
                <a:lnTo>
                  <a:pt x="24832" y="0"/>
                </a:lnTo>
                <a:lnTo>
                  <a:pt x="23432" y="1400"/>
                </a:lnTo>
                <a:lnTo>
                  <a:pt x="1400" y="1400"/>
                </a:lnTo>
                <a:close/>
              </a:path>
              <a:path fill="darken" w="24832" h="21600">
                <a:moveTo>
                  <a:pt x="24832" y="0"/>
                </a:moveTo>
                <a:lnTo>
                  <a:pt x="24832" y="21600"/>
                </a:lnTo>
                <a:lnTo>
                  <a:pt x="23432" y="20200"/>
                </a:lnTo>
                <a:lnTo>
                  <a:pt x="23432" y="1400"/>
                </a:lnTo>
                <a:close/>
              </a:path>
              <a:path fill="darkenLess" w="24832" h="21600">
                <a:moveTo>
                  <a:pt x="24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32" y="20200"/>
                </a:lnTo>
                <a:close/>
              </a:path>
              <a:path fill="lighten" w="24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32" h="21600">
                <a:moveTo>
                  <a:pt x="12416" y="3837"/>
                </a:moveTo>
                <a:lnTo>
                  <a:pt x="14992" y="6448"/>
                </a:lnTo>
                <a:lnTo>
                  <a:pt x="14992" y="4707"/>
                </a:lnTo>
                <a:lnTo>
                  <a:pt x="16768" y="4707"/>
                </a:lnTo>
                <a:lnTo>
                  <a:pt x="16768" y="8224"/>
                </a:lnTo>
                <a:lnTo>
                  <a:pt x="19379" y="10800"/>
                </a:lnTo>
                <a:lnTo>
                  <a:pt x="17725" y="10800"/>
                </a:lnTo>
                <a:lnTo>
                  <a:pt x="17725" y="17989"/>
                </a:lnTo>
                <a:lnTo>
                  <a:pt x="7107" y="17989"/>
                </a:lnTo>
                <a:lnTo>
                  <a:pt x="7107" y="10800"/>
                </a:lnTo>
                <a:lnTo>
                  <a:pt x="5453" y="10800"/>
                </a:lnTo>
                <a:close/>
              </a:path>
              <a:path fill="darkenLess" w="24832" h="21600">
                <a:moveTo>
                  <a:pt x="14992" y="6448"/>
                </a:moveTo>
                <a:lnTo>
                  <a:pt x="14992" y="4707"/>
                </a:lnTo>
                <a:lnTo>
                  <a:pt x="16768" y="4707"/>
                </a:lnTo>
                <a:lnTo>
                  <a:pt x="16768" y="8224"/>
                </a:lnTo>
                <a:close/>
              </a:path>
              <a:path fill="darkenLess" w="24832" h="21600">
                <a:moveTo>
                  <a:pt x="11493" y="14299"/>
                </a:moveTo>
                <a:lnTo>
                  <a:pt x="13338" y="14299"/>
                </a:lnTo>
                <a:lnTo>
                  <a:pt x="13338" y="17989"/>
                </a:lnTo>
                <a:lnTo>
                  <a:pt x="17725" y="17989"/>
                </a:lnTo>
                <a:lnTo>
                  <a:pt x="17725" y="10800"/>
                </a:lnTo>
                <a:lnTo>
                  <a:pt x="7107" y="10800"/>
                </a:lnTo>
                <a:lnTo>
                  <a:pt x="7107" y="17989"/>
                </a:lnTo>
                <a:lnTo>
                  <a:pt x="1149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4" dur="3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8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D5AD-A36C-451C-A7E6-0D0B296CD0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к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V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классу относя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жилые до пяти этаж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7" descr="D-089-1S-sm"/>
          <p:cNvPicPr/>
          <p:nvPr/>
        </p:nvPicPr>
        <p:blipFill>
          <a:blip r:embed="rId1"/>
          <a:stretch/>
        </p:blipFill>
        <p:spPr>
          <a:xfrm>
            <a:off x="4876920" y="1447920"/>
            <a:ext cx="3504960" cy="19810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kark8"/>
          <p:cNvPicPr/>
          <p:nvPr/>
        </p:nvPicPr>
        <p:blipFill>
          <a:blip r:embed="rId2"/>
          <a:stretch/>
        </p:blipFill>
        <p:spPr>
          <a:xfrm>
            <a:off x="1219320" y="3657600"/>
            <a:ext cx="3429000" cy="2590920"/>
          </a:xfrm>
          <a:prstGeom prst="rect">
            <a:avLst/>
          </a:prstGeom>
          <a:ln w="0">
            <a:noFill/>
          </a:ln>
        </p:spPr>
      </p:pic>
      <p:sp>
        <p:nvSpPr>
          <p:cNvPr id="317" name="AutoShape 9"/>
          <p:cNvSpPr/>
          <p:nvPr/>
        </p:nvSpPr>
        <p:spPr>
          <a:xfrm>
            <a:off x="8305920" y="6019920"/>
            <a:ext cx="585720" cy="58572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8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226D-2DA5-43F1-8538-646C8106EA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к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V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классу относя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ременные з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бытовка 2"/>
          <p:cNvPicPr/>
          <p:nvPr/>
        </p:nvPicPr>
        <p:blipFill>
          <a:blip r:embed="rId1"/>
          <a:stretch/>
        </p:blipFill>
        <p:spPr>
          <a:xfrm>
            <a:off x="609480" y="2438280"/>
            <a:ext cx="2743200" cy="22100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5" descr="рисунок 8 бытовка"/>
          <p:cNvPicPr/>
          <p:nvPr/>
        </p:nvPicPr>
        <p:blipFill>
          <a:blip r:embed="rId2"/>
          <a:stretch/>
        </p:blipFill>
        <p:spPr>
          <a:xfrm>
            <a:off x="4419720" y="3962520"/>
            <a:ext cx="3504960" cy="20574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6" descr="рисунок 9 вагон"/>
          <p:cNvPicPr/>
          <p:nvPr/>
        </p:nvPicPr>
        <p:blipFill>
          <a:blip r:embed="rId3"/>
          <a:stretch/>
        </p:blipFill>
        <p:spPr>
          <a:xfrm>
            <a:off x="4800600" y="1600200"/>
            <a:ext cx="2581200" cy="1752480"/>
          </a:xfrm>
          <a:prstGeom prst="rect">
            <a:avLst/>
          </a:prstGeom>
          <a:ln w="0">
            <a:noFill/>
          </a:ln>
        </p:spPr>
      </p:pic>
      <p:sp>
        <p:nvSpPr>
          <p:cNvPr id="324" name="AutoShape 7"/>
          <p:cNvSpPr/>
          <p:nvPr/>
        </p:nvSpPr>
        <p:spPr>
          <a:xfrm>
            <a:off x="8305920" y="6248520"/>
            <a:ext cx="533160" cy="433440"/>
          </a:xfrm>
          <a:custGeom>
            <a:avLst/>
            <a:gdLst>
              <a:gd name="textAreaLeft" fmla="*/ 28080 w 533160"/>
              <a:gd name="textAreaRight" fmla="*/ 505080 w 5331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6565" h="21600">
                <a:moveTo>
                  <a:pt x="0" y="0"/>
                </a:moveTo>
                <a:lnTo>
                  <a:pt x="26565" y="0"/>
                </a:lnTo>
                <a:lnTo>
                  <a:pt x="26565" y="21600"/>
                </a:lnTo>
                <a:lnTo>
                  <a:pt x="0" y="21600"/>
                </a:lnTo>
                <a:close/>
              </a:path>
              <a:path fill="lightenLess" w="26565" h="21600">
                <a:moveTo>
                  <a:pt x="0" y="0"/>
                </a:moveTo>
                <a:lnTo>
                  <a:pt x="26565" y="0"/>
                </a:lnTo>
                <a:lnTo>
                  <a:pt x="25165" y="1400"/>
                </a:lnTo>
                <a:lnTo>
                  <a:pt x="1400" y="1400"/>
                </a:lnTo>
                <a:close/>
              </a:path>
              <a:path fill="darken" w="26565" h="21600">
                <a:moveTo>
                  <a:pt x="26565" y="0"/>
                </a:moveTo>
                <a:lnTo>
                  <a:pt x="26565" y="21600"/>
                </a:lnTo>
                <a:lnTo>
                  <a:pt x="25165" y="20200"/>
                </a:lnTo>
                <a:lnTo>
                  <a:pt x="25165" y="1400"/>
                </a:lnTo>
                <a:close/>
              </a:path>
              <a:path fill="darkenLess" w="26565" h="21600">
                <a:moveTo>
                  <a:pt x="26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65" y="20200"/>
                </a:lnTo>
                <a:close/>
              </a:path>
              <a:path fill="lighten" w="26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65" h="21600">
                <a:moveTo>
                  <a:pt x="13283" y="3837"/>
                </a:moveTo>
                <a:lnTo>
                  <a:pt x="15859" y="6448"/>
                </a:lnTo>
                <a:lnTo>
                  <a:pt x="15859" y="4707"/>
                </a:lnTo>
                <a:lnTo>
                  <a:pt x="17635" y="4707"/>
                </a:lnTo>
                <a:lnTo>
                  <a:pt x="17635" y="8224"/>
                </a:lnTo>
                <a:lnTo>
                  <a:pt x="20246" y="10800"/>
                </a:lnTo>
                <a:lnTo>
                  <a:pt x="18592" y="10800"/>
                </a:lnTo>
                <a:lnTo>
                  <a:pt x="18592" y="17989"/>
                </a:lnTo>
                <a:lnTo>
                  <a:pt x="7973" y="17989"/>
                </a:lnTo>
                <a:lnTo>
                  <a:pt x="7973" y="10800"/>
                </a:lnTo>
                <a:lnTo>
                  <a:pt x="6320" y="10800"/>
                </a:lnTo>
                <a:close/>
              </a:path>
              <a:path fill="darkenLess" w="26565" h="21600">
                <a:moveTo>
                  <a:pt x="15859" y="6448"/>
                </a:moveTo>
                <a:lnTo>
                  <a:pt x="15859" y="4707"/>
                </a:lnTo>
                <a:lnTo>
                  <a:pt x="17635" y="4707"/>
                </a:lnTo>
                <a:lnTo>
                  <a:pt x="17635" y="8224"/>
                </a:lnTo>
                <a:close/>
              </a:path>
              <a:path fill="darkenLess" w="26565" h="21600">
                <a:moveTo>
                  <a:pt x="12360" y="14299"/>
                </a:moveTo>
                <a:lnTo>
                  <a:pt x="14205" y="14299"/>
                </a:lnTo>
                <a:lnTo>
                  <a:pt x="14205" y="17989"/>
                </a:lnTo>
                <a:lnTo>
                  <a:pt x="18592" y="17989"/>
                </a:lnTo>
                <a:lnTo>
                  <a:pt x="18592" y="10800"/>
                </a:lnTo>
                <a:lnTo>
                  <a:pt x="7973" y="10800"/>
                </a:lnTo>
                <a:lnTo>
                  <a:pt x="7973" y="17989"/>
                </a:lnTo>
                <a:lnTo>
                  <a:pt x="1236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7" dur="3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C642-9B54-482C-8F8F-66776F6927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76720" y="762120"/>
            <a:ext cx="2108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600"/>
                </a:solidFill>
                <a:latin typeface="Arial"/>
              </a:rPr>
              <a:t>План</a:t>
            </a:r>
            <a:r>
              <a:rPr b="0" lang="en-US" sz="4400" spc="-1" strike="noStrike">
                <a:solidFill>
                  <a:srgbClr val="0036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2004840"/>
            <a:ext cx="8229600" cy="38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Элементы зданий. Требования к здани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Классификация зданий и сооруж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Конструктивные элементы зданий и сооруж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B792-2D2C-4304-A336-D84C8E1393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071a"/>
                </a:solidFill>
                <a:latin typeface="Arial"/>
              </a:rPr>
              <a:t>По материалу стен здания бывают</a:t>
            </a:r>
            <a:r>
              <a:rPr b="0" lang="en-US" sz="3600" spc="-1" strike="noStrike">
                <a:solidFill>
                  <a:srgbClr val="d1071a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ревя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м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рпи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лезо-бето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6" descr="zagot_korp[1]"/>
          <p:cNvPicPr/>
          <p:nvPr/>
        </p:nvPicPr>
        <p:blipFill>
          <a:blip r:embed="rId1"/>
          <a:stretch/>
        </p:blipFill>
        <p:spPr>
          <a:xfrm>
            <a:off x="3276720" y="2743200"/>
            <a:ext cx="2209680" cy="21574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d7f5bcdd243549b9fa00106c4720a36c[1]"/>
          <p:cNvPicPr/>
          <p:nvPr/>
        </p:nvPicPr>
        <p:blipFill>
          <a:blip r:embed="rId2"/>
          <a:stretch/>
        </p:blipFill>
        <p:spPr>
          <a:xfrm>
            <a:off x="6019920" y="4572000"/>
            <a:ext cx="2908080" cy="21589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8" descr="рисунок дерев"/>
          <p:cNvPicPr/>
          <p:nvPr/>
        </p:nvPicPr>
        <p:blipFill>
          <a:blip r:embed="rId3"/>
          <a:stretch/>
        </p:blipFill>
        <p:spPr>
          <a:xfrm>
            <a:off x="6248520" y="1447920"/>
            <a:ext cx="2286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2" dur="3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Номер слайда 5"/>
          <p:cNvSpPr/>
          <p:nvPr/>
        </p:nvSpPr>
        <p:spPr>
          <a:xfrm>
            <a:off x="6553080" y="6134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0286-3A9E-4E8F-A9F6-5844CC08C6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ать характеристику зданию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 классифик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7" descr="kark3"/>
          <p:cNvPicPr/>
          <p:nvPr/>
        </p:nvPicPr>
        <p:blipFill>
          <a:blip r:embed="rId1"/>
          <a:stretch/>
        </p:blipFill>
        <p:spPr>
          <a:xfrm>
            <a:off x="228600" y="1523880"/>
            <a:ext cx="4343400" cy="4191120"/>
          </a:xfrm>
          <a:prstGeom prst="rect">
            <a:avLst/>
          </a:prstGeom>
          <a:ln w="0">
            <a:noFill/>
          </a:ln>
        </p:spPr>
      </p:pic>
      <p:sp>
        <p:nvSpPr>
          <p:cNvPr id="334" name="AutoShape 8"/>
          <p:cNvSpPr/>
          <p:nvPr/>
        </p:nvSpPr>
        <p:spPr>
          <a:xfrm>
            <a:off x="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4800600" y="1600200"/>
          <a:ext cx="4343400" cy="4262400"/>
        </p:xfrm>
        <a:graphic>
          <a:graphicData uri="http://schemas.openxmlformats.org/drawingml/2006/table">
            <a:tbl>
              <a:tblPr/>
              <a:tblGrid>
                <a:gridCol w="2317680"/>
                <a:gridCol w="2025720"/>
              </a:tblGrid>
              <a:tr h="6476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назна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та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онструкции ст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пособу возве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тепени долговеч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тепени огнестойк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ласс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арактеристика здан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 классифик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457200" y="1600200"/>
          <a:ext cx="4343400" cy="3997440"/>
        </p:xfrm>
        <a:graphic>
          <a:graphicData uri="http://schemas.openxmlformats.org/drawingml/2006/table">
            <a:tbl>
              <a:tblPr/>
              <a:tblGrid>
                <a:gridCol w="2317680"/>
                <a:gridCol w="2025720"/>
              </a:tblGrid>
              <a:tr h="6476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назна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ждан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та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оэтажное с мансард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онструкции ст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элемент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пособу возве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индустриа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тепени долговеч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теп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тепени огнестойк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теп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ласс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FA27-521F-4E4B-B511-F5BA1A3846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5486400" y="2514600"/>
            <a:ext cx="295920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4FC3-0416-4D5D-A33E-BB4867FA95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ать характеристику зданию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 классифик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4" descr="pic_18_1"/>
          <p:cNvPicPr/>
          <p:nvPr/>
        </p:nvPicPr>
        <p:blipFill>
          <a:blip r:embed="rId1"/>
          <a:stretch/>
        </p:blipFill>
        <p:spPr>
          <a:xfrm>
            <a:off x="1238400" y="1685880"/>
            <a:ext cx="666720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0A2A-2774-4F24-8F1D-AE5DF5288B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600"/>
                </a:solidFill>
                <a:latin typeface="Arial"/>
              </a:rPr>
              <a:t>Закрепление знан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е здания бывают по назначени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называется зданиями, сооружения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какие группы подразделяют зд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ть характеристику зданию по классифик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F64D-E22F-45EA-8CA2-04DB0BCF93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600"/>
                </a:solidFill>
                <a:latin typeface="Times New Roman"/>
              </a:rPr>
              <a:t>Список литерат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В.А.Неелов  «Архитектурные конструкции зданий»  стр. 3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Ивлиев А.А. Отделочные строительные работы: учебник для нач. проф. образования стр.5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3CE5-76E8-408B-9451-66F2BC9C36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дания – это надземная часть предназначенная для отдыха, учебы, работы 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ооружение – это постройка технического назна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3" descr="рисунок госдума"/>
          <p:cNvPicPr/>
          <p:nvPr/>
        </p:nvPicPr>
        <p:blipFill>
          <a:blip r:embed="rId1"/>
          <a:stretch/>
        </p:blipFill>
        <p:spPr>
          <a:xfrm>
            <a:off x="5029200" y="609480"/>
            <a:ext cx="3429000" cy="23623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4" descr="сооружения париж"/>
          <p:cNvPicPr/>
          <p:nvPr/>
        </p:nvPicPr>
        <p:blipFill>
          <a:blip r:embed="rId2"/>
          <a:stretch/>
        </p:blipFill>
        <p:spPr>
          <a:xfrm>
            <a:off x="5029200" y="3581280"/>
            <a:ext cx="342900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D294-3F57-42F0-BB37-DD4664B5636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Comic Sans MS"/>
              </a:rPr>
              <a:t>В 1 веке до н. э. римский архитектор </a:t>
            </a:r>
            <a:br>
              <a:rPr sz="2400"/>
            </a:br>
            <a:r>
              <a:rPr b="0" lang="ru-RU" sz="2400" spc="-1" strike="noStrike">
                <a:solidFill>
                  <a:srgbClr val="0099ff"/>
                </a:solidFill>
                <a:latin typeface="Comic Sans MS"/>
              </a:rPr>
              <a:t>Витруем создал формулу: </a:t>
            </a:r>
            <a:br>
              <a:rPr sz="2400"/>
            </a:br>
            <a:r>
              <a:rPr b="1" lang="ru-RU" sz="2800" spc="-1" strike="noStrike">
                <a:solidFill>
                  <a:srgbClr val="0099ff"/>
                </a:solidFill>
                <a:latin typeface="Comic Sans MS"/>
              </a:rPr>
              <a:t>польза, прочность, красот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Comic Sans MS"/>
              </a:rPr>
              <a:t>Польза</a:t>
            </a:r>
            <a:r>
              <a:rPr b="0" lang="ru-RU" sz="2000" spc="-1" strike="noStrike">
                <a:solidFill>
                  <a:srgbClr val="333399"/>
                </a:solidFill>
                <a:latin typeface="Comic Sans MS"/>
              </a:rPr>
              <a:t> – цель, ради которой создается здание или сооружение, т. е. функциональное предназначени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Comic Sans MS"/>
              </a:rPr>
              <a:t>Прочность</a:t>
            </a:r>
            <a:r>
              <a:rPr b="0" lang="ru-RU" sz="2000" spc="-1" strike="noStrike">
                <a:solidFill>
                  <a:srgbClr val="333399"/>
                </a:solidFill>
                <a:latin typeface="Comic Sans MS"/>
              </a:rPr>
              <a:t> – обязательное условие материального существования зда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Comic Sans MS"/>
              </a:rPr>
              <a:t>Красота</a:t>
            </a:r>
            <a:r>
              <a:rPr b="0" lang="ru-RU" sz="2000" spc="-1" strike="noStrike">
                <a:solidFill>
                  <a:srgbClr val="333399"/>
                </a:solidFill>
                <a:latin typeface="Comic Sans MS"/>
              </a:rPr>
              <a:t> – нужна для удовлетворения наших эстетических потребностей.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4137-427C-40A5-84E5-5A9C8DF802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90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600"/>
                </a:solidFill>
                <a:latin typeface="Times New Roman"/>
              </a:rPr>
              <a:t>Требования к здания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8000" y="914040"/>
            <a:ext cx="4384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ba30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ba300a"/>
                </a:solidFill>
                <a:uFillTx/>
                <a:latin typeface="Arial"/>
              </a:rPr>
              <a:t>Капитальность</a:t>
            </a:r>
            <a:r>
              <a:rPr b="0" i="1" lang="ru-RU" sz="1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изуется долговечностью и огнестойк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ba30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ba300a"/>
                </a:solidFill>
                <a:uFillTx/>
                <a:latin typeface="Arial"/>
              </a:rPr>
              <a:t>Долговечность</a:t>
            </a:r>
            <a:r>
              <a:rPr b="0" lang="ru-RU" sz="1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исит от: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прочности основных конструкц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качества строительно-монтажных         раб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 сопряжения конструкц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) соблюдения технологических              правил в производстве рабо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ba30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ba300a"/>
                </a:solidFill>
                <a:uFillTx/>
                <a:latin typeface="Arial"/>
              </a:rPr>
              <a:t>Огнестойкость</a:t>
            </a:r>
            <a:r>
              <a:rPr b="0" lang="ru-RU" sz="16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яется степенью возгораемости материалов, применяемых для строительства зданий и пределом стой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ba30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ba300a"/>
                </a:solidFill>
                <a:uFillTx/>
                <a:latin typeface="Arial"/>
              </a:rPr>
              <a:t>Функциональность</a:t>
            </a:r>
            <a:r>
              <a:rPr b="0" lang="ru-RU" sz="16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предназначе-ние зд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ba30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ba300a"/>
                </a:solidFill>
                <a:uFillTx/>
                <a:latin typeface="Arial"/>
              </a:rPr>
              <a:t>Эстетичность</a:t>
            </a:r>
            <a:r>
              <a:rPr b="0" lang="ru-RU" sz="2000" spc="-1" strike="noStrike">
                <a:solidFill>
                  <a:srgbClr val="ba300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удовлетворение наших потреб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ba30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ba300a"/>
                </a:solidFill>
                <a:uFillTx/>
                <a:latin typeface="Arial"/>
              </a:rPr>
              <a:t>Экономичность</a:t>
            </a:r>
            <a:r>
              <a:rPr b="0" lang="ru-RU" sz="20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уменьшение затрат труда, матери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2720" y="1218960"/>
            <a:ext cx="4390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a30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ba300a"/>
                </a:solidFill>
                <a:uFillTx/>
                <a:latin typeface="Arial"/>
              </a:rPr>
              <a:t>Технические</a:t>
            </a:r>
            <a:r>
              <a:rPr b="0" lang="ru-RU" sz="16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еспечивают защиту помещений от воздействий внешней среды, а также достаточную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чнос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это способность воспринимать воздействия без разрушения и существенных остаточных деформац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тойчивос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пособность сохранять равновесие при внешних воздействия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лговечнос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значает прочность, устойчивость и сохранность как здания в целом, так и его элементов во времен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гнестойкость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опротивление воздействию огня (в часах) до потери прочности либо до образования сквозных трещ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0B6F-1C96-4562-B738-670E7DF2DC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зд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о назнач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о эта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по конструкции ст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по способу во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по степени долгове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по степени огнестой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по клас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">
            <a:hlinkClick r:id="rId8" action="ppaction://hlinksldjump"/>
          </p:cNvPr>
          <p:cNvSpPr/>
          <p:nvPr/>
        </p:nvSpPr>
        <p:spPr>
          <a:xfrm>
            <a:off x="228600" y="6095880"/>
            <a:ext cx="662040" cy="609840"/>
          </a:xfrm>
          <a:custGeom>
            <a:avLst/>
            <a:gdLst>
              <a:gd name="textAreaLeft" fmla="*/ 39240 w 662040"/>
              <a:gd name="textAreaRight" fmla="*/ 622800 w 6620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3448" h="21600">
                <a:moveTo>
                  <a:pt x="0" y="0"/>
                </a:moveTo>
                <a:lnTo>
                  <a:pt x="23448" y="0"/>
                </a:lnTo>
                <a:lnTo>
                  <a:pt x="23448" y="21600"/>
                </a:lnTo>
                <a:lnTo>
                  <a:pt x="0" y="21600"/>
                </a:lnTo>
                <a:close/>
              </a:path>
              <a:path fill="lightenLess" w="23448" h="21600">
                <a:moveTo>
                  <a:pt x="0" y="0"/>
                </a:moveTo>
                <a:lnTo>
                  <a:pt x="23448" y="0"/>
                </a:lnTo>
                <a:lnTo>
                  <a:pt x="22048" y="1400"/>
                </a:lnTo>
                <a:lnTo>
                  <a:pt x="1400" y="1400"/>
                </a:lnTo>
                <a:close/>
              </a:path>
              <a:path fill="darken" w="23448" h="21600">
                <a:moveTo>
                  <a:pt x="23448" y="0"/>
                </a:moveTo>
                <a:lnTo>
                  <a:pt x="23448" y="21600"/>
                </a:lnTo>
                <a:lnTo>
                  <a:pt x="22048" y="20200"/>
                </a:lnTo>
                <a:lnTo>
                  <a:pt x="22048" y="1400"/>
                </a:lnTo>
                <a:close/>
              </a:path>
              <a:path fill="darkenLess" w="23448" h="21600">
                <a:moveTo>
                  <a:pt x="234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48" y="20200"/>
                </a:lnTo>
                <a:close/>
              </a:path>
              <a:path fill="lighten" w="234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48" h="21600">
                <a:moveTo>
                  <a:pt x="4717" y="3794"/>
                </a:moveTo>
                <a:lnTo>
                  <a:pt x="18730" y="10800"/>
                </a:lnTo>
                <a:lnTo>
                  <a:pt x="471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17C6-7F78-4C8E-9A07-6168B17C06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Organization Chart 7"/>
          <p:cNvGrpSpPr/>
          <p:nvPr/>
        </p:nvGrpSpPr>
        <p:grpSpPr>
          <a:xfrm>
            <a:off x="457200" y="457200"/>
            <a:ext cx="8076960" cy="5667840"/>
            <a:chOff x="457200" y="457200"/>
            <a:chExt cx="8076960" cy="5667840"/>
          </a:xfrm>
        </p:grpSpPr>
        <p:cxnSp>
          <p:nvCxnSpPr>
            <p:cNvPr id="222" name="_s1028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993640" y="3889800"/>
              <a:ext cx="709200" cy="927720"/>
            </a:xfrm>
            <a:prstGeom prst="bentConnector3">
              <a:avLst>
                <a:gd name="adj1" fmla="val 1609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1029"/>
            <p:cNvCxnSpPr>
              <a:stCxn id="226" idx="0"/>
              <a:endCxn id="224" idx="2"/>
            </p:cNvCxnSpPr>
            <p:nvPr/>
          </p:nvCxnSpPr>
          <p:spPr>
            <a:xfrm flipH="1" flipV="1" rot="5400000">
              <a:off x="5066280" y="3889800"/>
              <a:ext cx="709200" cy="928080"/>
            </a:xfrm>
            <a:prstGeom prst="bentConnector3">
              <a:avLst>
                <a:gd name="adj1" fmla="val 1609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1030"/>
            <p:cNvCxnSpPr>
              <a:stCxn id="228" idx="0"/>
              <a:endCxn id="229" idx="2"/>
            </p:cNvCxnSpPr>
            <p:nvPr/>
          </p:nvCxnSpPr>
          <p:spPr>
            <a:xfrm flipV="1" rot="16200000">
              <a:off x="2285280" y="3890520"/>
              <a:ext cx="709200" cy="925920"/>
            </a:xfrm>
            <a:prstGeom prst="bentConnector3">
              <a:avLst>
                <a:gd name="adj1" fmla="val 1609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0" name="_s1031"/>
            <p:cNvCxnSpPr>
              <a:stCxn id="231" idx="0"/>
              <a:endCxn id="229" idx="2"/>
            </p:cNvCxnSpPr>
            <p:nvPr/>
          </p:nvCxnSpPr>
          <p:spPr>
            <a:xfrm flipH="1" flipV="1" rot="5400000">
              <a:off x="1359000" y="3889800"/>
              <a:ext cx="709200" cy="927720"/>
            </a:xfrm>
            <a:prstGeom prst="bentConnector3">
              <a:avLst>
                <a:gd name="adj1" fmla="val 1609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2" name="_s1032"/>
            <p:cNvCxnSpPr>
              <a:stCxn id="233" idx="0"/>
              <a:endCxn id="234" idx="2"/>
            </p:cNvCxnSpPr>
            <p:nvPr/>
          </p:nvCxnSpPr>
          <p:spPr>
            <a:xfrm flipV="1" rot="16200000">
              <a:off x="5994360" y="835920"/>
              <a:ext cx="709200" cy="2784240"/>
            </a:xfrm>
            <a:prstGeom prst="bentConnector3">
              <a:avLst>
                <a:gd name="adj1" fmla="val 1609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5" name="_s1033"/>
            <p:cNvCxnSpPr>
              <a:stCxn id="224" idx="0"/>
              <a:endCxn id="234" idx="2"/>
            </p:cNvCxnSpPr>
            <p:nvPr/>
          </p:nvCxnSpPr>
          <p:spPr>
            <a:xfrm flipV="1" rot="16200000">
              <a:off x="5066280" y="1764000"/>
              <a:ext cx="709200" cy="928080"/>
            </a:xfrm>
            <a:prstGeom prst="bentConnector3">
              <a:avLst>
                <a:gd name="adj1" fmla="val 1609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6" name="_s1034"/>
            <p:cNvCxnSpPr>
              <a:stCxn id="229" idx="0"/>
              <a:endCxn id="234" idx="2"/>
            </p:cNvCxnSpPr>
            <p:nvPr/>
          </p:nvCxnSpPr>
          <p:spPr>
            <a:xfrm flipH="1" flipV="1" rot="5400000">
              <a:off x="3212640" y="838080"/>
              <a:ext cx="709200" cy="2780640"/>
            </a:xfrm>
            <a:prstGeom prst="bentConnector3">
              <a:avLst>
                <a:gd name="adj1" fmla="val 1609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4" name="_s1035"/>
            <p:cNvSpPr/>
            <p:nvPr/>
          </p:nvSpPr>
          <p:spPr>
            <a:xfrm>
              <a:off x="4162320" y="457200"/>
              <a:ext cx="1589400" cy="1416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d1071a"/>
                  </a:solidFill>
                  <a:latin typeface="Arial"/>
                </a:rPr>
                <a:t>по назначени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36"/>
            <p:cNvSpPr/>
            <p:nvPr/>
          </p:nvSpPr>
          <p:spPr>
            <a:xfrm>
              <a:off x="1382400" y="2582640"/>
              <a:ext cx="1589400" cy="1416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гражданск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37"/>
            <p:cNvSpPr/>
            <p:nvPr/>
          </p:nvSpPr>
          <p:spPr>
            <a:xfrm>
              <a:off x="5090040" y="2582640"/>
              <a:ext cx="1589400" cy="1416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производственны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8"/>
            <p:cNvSpPr/>
            <p:nvPr/>
          </p:nvSpPr>
          <p:spPr>
            <a:xfrm>
              <a:off x="6944760" y="2582640"/>
              <a:ext cx="1589400" cy="1416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оч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9"/>
            <p:cNvSpPr/>
            <p:nvPr/>
          </p:nvSpPr>
          <p:spPr>
            <a:xfrm>
              <a:off x="457200" y="4708080"/>
              <a:ext cx="1587960" cy="1416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Жилые -дл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постоянного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или временного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проживан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40"/>
            <p:cNvSpPr/>
            <p:nvPr/>
          </p:nvSpPr>
          <p:spPr>
            <a:xfrm>
              <a:off x="2310120" y="4708080"/>
              <a:ext cx="1587240" cy="1416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Общественные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для социального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обслуживан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41"/>
            <p:cNvSpPr/>
            <p:nvPr/>
          </p:nvSpPr>
          <p:spPr>
            <a:xfrm>
              <a:off x="4162320" y="4708080"/>
              <a:ext cx="1589400" cy="1416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Промышлен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42"/>
            <p:cNvSpPr/>
            <p:nvPr/>
          </p:nvSpPr>
          <p:spPr>
            <a:xfrm>
              <a:off x="6017040" y="4708080"/>
              <a:ext cx="1589400" cy="1416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100" spc="-1" strike="noStrike">
                  <a:solidFill>
                    <a:srgbClr val="000000"/>
                  </a:solidFill>
                  <a:latin typeface="Arial"/>
                </a:rPr>
                <a:t>Сельскохозяйст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100" spc="-1" strike="noStrike">
                  <a:solidFill>
                    <a:srgbClr val="000000"/>
                  </a:solidFill>
                  <a:latin typeface="Arial"/>
                </a:rPr>
                <a:t>вен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7" name="Picture 37" descr="AG_radiotower"/>
          <p:cNvPicPr/>
          <p:nvPr/>
        </p:nvPicPr>
        <p:blipFill>
          <a:blip r:embed="rId1"/>
          <a:stretch/>
        </p:blipFill>
        <p:spPr>
          <a:xfrm>
            <a:off x="304920" y="38088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238" name="AutoShape 38">
            <a:hlinkClick r:id="rId2" action="ppaction://hlinksldjump"/>
          </p:cNvPr>
          <p:cNvSpPr/>
          <p:nvPr/>
        </p:nvSpPr>
        <p:spPr>
          <a:xfrm>
            <a:off x="152280" y="6172200"/>
            <a:ext cx="662040" cy="533520"/>
          </a:xfrm>
          <a:custGeom>
            <a:avLst/>
            <a:gdLst>
              <a:gd name="textAreaLeft" fmla="*/ 34560 w 662040"/>
              <a:gd name="textAreaRight" fmla="*/ 627480 w 662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6800" h="21600">
                <a:moveTo>
                  <a:pt x="0" y="0"/>
                </a:moveTo>
                <a:lnTo>
                  <a:pt x="26800" y="0"/>
                </a:lnTo>
                <a:lnTo>
                  <a:pt x="26800" y="21600"/>
                </a:lnTo>
                <a:lnTo>
                  <a:pt x="0" y="21600"/>
                </a:lnTo>
                <a:close/>
              </a:path>
              <a:path fill="lightenLess" w="26800" h="21600">
                <a:moveTo>
                  <a:pt x="0" y="0"/>
                </a:moveTo>
                <a:lnTo>
                  <a:pt x="26800" y="0"/>
                </a:lnTo>
                <a:lnTo>
                  <a:pt x="25400" y="1400"/>
                </a:lnTo>
                <a:lnTo>
                  <a:pt x="1400" y="1400"/>
                </a:lnTo>
                <a:close/>
              </a:path>
              <a:path fill="darken" w="26800" h="21600">
                <a:moveTo>
                  <a:pt x="26800" y="0"/>
                </a:moveTo>
                <a:lnTo>
                  <a:pt x="26800" y="21600"/>
                </a:lnTo>
                <a:lnTo>
                  <a:pt x="25400" y="20200"/>
                </a:lnTo>
                <a:lnTo>
                  <a:pt x="25400" y="1400"/>
                </a:lnTo>
                <a:close/>
              </a:path>
              <a:path fill="darkenLess" w="26800" h="21600">
                <a:moveTo>
                  <a:pt x="26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00" y="20200"/>
                </a:lnTo>
                <a:close/>
              </a:path>
              <a:path fill="lighten" w="26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00" h="21600">
                <a:moveTo>
                  <a:pt x="13400" y="3837"/>
                </a:moveTo>
                <a:lnTo>
                  <a:pt x="15976" y="6448"/>
                </a:lnTo>
                <a:lnTo>
                  <a:pt x="15976" y="4707"/>
                </a:lnTo>
                <a:lnTo>
                  <a:pt x="17752" y="4707"/>
                </a:lnTo>
                <a:lnTo>
                  <a:pt x="17752" y="8224"/>
                </a:lnTo>
                <a:lnTo>
                  <a:pt x="20363" y="10800"/>
                </a:lnTo>
                <a:lnTo>
                  <a:pt x="18709" y="10800"/>
                </a:lnTo>
                <a:lnTo>
                  <a:pt x="18709" y="17989"/>
                </a:lnTo>
                <a:lnTo>
                  <a:pt x="8091" y="17989"/>
                </a:lnTo>
                <a:lnTo>
                  <a:pt x="8091" y="10800"/>
                </a:lnTo>
                <a:lnTo>
                  <a:pt x="6437" y="10800"/>
                </a:lnTo>
                <a:close/>
              </a:path>
              <a:path fill="darkenLess" w="26800" h="21600">
                <a:moveTo>
                  <a:pt x="15976" y="6448"/>
                </a:moveTo>
                <a:lnTo>
                  <a:pt x="15976" y="4707"/>
                </a:lnTo>
                <a:lnTo>
                  <a:pt x="17752" y="4707"/>
                </a:lnTo>
                <a:lnTo>
                  <a:pt x="17752" y="8224"/>
                </a:lnTo>
                <a:close/>
              </a:path>
              <a:path fill="darkenLess" w="26800" h="21600">
                <a:moveTo>
                  <a:pt x="12477" y="14299"/>
                </a:moveTo>
                <a:lnTo>
                  <a:pt x="14322" y="14299"/>
                </a:lnTo>
                <a:lnTo>
                  <a:pt x="14322" y="17989"/>
                </a:lnTo>
                <a:lnTo>
                  <a:pt x="18709" y="17989"/>
                </a:lnTo>
                <a:lnTo>
                  <a:pt x="18709" y="10800"/>
                </a:lnTo>
                <a:lnTo>
                  <a:pt x="8091" y="10800"/>
                </a:lnTo>
                <a:lnTo>
                  <a:pt x="8091" y="17989"/>
                </a:lnTo>
                <a:lnTo>
                  <a:pt x="124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A7B4-69B0-41C0-A68C-2698C54CCB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Organization Chart 12"/>
          <p:cNvGrpSpPr/>
          <p:nvPr/>
        </p:nvGrpSpPr>
        <p:grpSpPr>
          <a:xfrm>
            <a:off x="457200" y="152280"/>
            <a:ext cx="8152560" cy="3123360"/>
            <a:chOff x="457200" y="152280"/>
            <a:chExt cx="8152560" cy="3123360"/>
          </a:xfrm>
        </p:grpSpPr>
        <p:cxnSp>
          <p:nvCxnSpPr>
            <p:cNvPr id="241" name="_s2052"/>
            <p:cNvCxnSpPr>
              <a:stCxn id="242" idx="0"/>
              <a:endCxn id="243" idx="2"/>
            </p:cNvCxnSpPr>
            <p:nvPr/>
          </p:nvCxnSpPr>
          <p:spPr>
            <a:xfrm flipV="1" rot="16200000">
              <a:off x="5807160" y="126720"/>
              <a:ext cx="625320" cy="3173040"/>
            </a:xfrm>
            <a:prstGeom prst="bentConnector3">
              <a:avLst>
                <a:gd name="adj1" fmla="val 1826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4" name="_s2053"/>
            <p:cNvCxnSpPr>
              <a:stCxn id="245" idx="0"/>
              <a:endCxn id="243" idx="2"/>
            </p:cNvCxnSpPr>
            <p:nvPr/>
          </p:nvCxnSpPr>
          <p:spPr>
            <a:xfrm flipV="1" rot="16200000">
              <a:off x="4749120" y="1184760"/>
              <a:ext cx="625320" cy="1057320"/>
            </a:xfrm>
            <a:prstGeom prst="bentConnector3">
              <a:avLst>
                <a:gd name="adj1" fmla="val 1826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6" name="_s2054"/>
            <p:cNvCxnSpPr>
              <a:stCxn id="247" idx="0"/>
              <a:endCxn id="243" idx="2"/>
            </p:cNvCxnSpPr>
            <p:nvPr/>
          </p:nvCxnSpPr>
          <p:spPr>
            <a:xfrm flipH="1" flipV="1" rot="5400000">
              <a:off x="3693600" y="1185480"/>
              <a:ext cx="625320" cy="1055880"/>
            </a:xfrm>
            <a:prstGeom prst="bentConnector3">
              <a:avLst>
                <a:gd name="adj1" fmla="val 1826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8" name="_s2055"/>
            <p:cNvCxnSpPr>
              <a:stCxn id="249" idx="0"/>
              <a:endCxn id="243" idx="2"/>
            </p:cNvCxnSpPr>
            <p:nvPr/>
          </p:nvCxnSpPr>
          <p:spPr>
            <a:xfrm flipH="1" flipV="1" rot="5400000">
              <a:off x="2635920" y="127800"/>
              <a:ext cx="625320" cy="3171600"/>
            </a:xfrm>
            <a:prstGeom prst="bentConnector3">
              <a:avLst>
                <a:gd name="adj1" fmla="val 1826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2056"/>
            <p:cNvSpPr/>
            <p:nvPr/>
          </p:nvSpPr>
          <p:spPr>
            <a:xfrm>
              <a:off x="3628080" y="152280"/>
              <a:ext cx="1811520" cy="12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1071a"/>
                  </a:solidFill>
                  <a:latin typeface="Arial"/>
                </a:rPr>
                <a:t>по этаж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57"/>
            <p:cNvSpPr/>
            <p:nvPr/>
          </p:nvSpPr>
          <p:spPr>
            <a:xfrm>
              <a:off x="457200" y="2026440"/>
              <a:ext cx="1811520" cy="12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Малоэтажн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( до 5 этажей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58"/>
            <p:cNvSpPr/>
            <p:nvPr/>
          </p:nvSpPr>
          <p:spPr>
            <a:xfrm>
              <a:off x="2570760" y="2026440"/>
              <a:ext cx="1811520" cy="12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Средне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этажност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(от 5 до 12 этажей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2059"/>
            <p:cNvSpPr/>
            <p:nvPr/>
          </p:nvSpPr>
          <p:spPr>
            <a:xfrm>
              <a:off x="4684680" y="2026440"/>
              <a:ext cx="1811520" cy="12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Многоэтажн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(от 12 до 16 этажей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2060"/>
            <p:cNvSpPr/>
            <p:nvPr/>
          </p:nvSpPr>
          <p:spPr>
            <a:xfrm>
              <a:off x="6798240" y="2026440"/>
              <a:ext cx="1811520" cy="12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Высотн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( более 16 этажей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Picture 21" descr="рисунок раз"/>
          <p:cNvPicPr/>
          <p:nvPr/>
        </p:nvPicPr>
        <p:blipFill>
          <a:blip r:embed="rId1"/>
          <a:stretch/>
        </p:blipFill>
        <p:spPr>
          <a:xfrm>
            <a:off x="6988320" y="3505320"/>
            <a:ext cx="1666800" cy="23619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2" descr="рисунок адм"/>
          <p:cNvPicPr/>
          <p:nvPr/>
        </p:nvPicPr>
        <p:blipFill>
          <a:blip r:embed="rId2"/>
          <a:stretch/>
        </p:blipFill>
        <p:spPr>
          <a:xfrm>
            <a:off x="2743200" y="3581280"/>
            <a:ext cx="1905120" cy="22100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3" descr="kark1"/>
          <p:cNvPicPr/>
          <p:nvPr/>
        </p:nvPicPr>
        <p:blipFill>
          <a:blip r:embed="rId3"/>
          <a:stretch/>
        </p:blipFill>
        <p:spPr>
          <a:xfrm>
            <a:off x="457200" y="3581280"/>
            <a:ext cx="1981080" cy="221004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24">
            <a:hlinkClick r:id="rId4" action="ppaction://hlinksldjump"/>
          </p:cNvPr>
          <p:cNvSpPr/>
          <p:nvPr/>
        </p:nvSpPr>
        <p:spPr>
          <a:xfrm>
            <a:off x="228600" y="6400800"/>
            <a:ext cx="509760" cy="457200"/>
          </a:xfrm>
          <a:custGeom>
            <a:avLst/>
            <a:gdLst>
              <a:gd name="textAreaLeft" fmla="*/ 29520 w 509760"/>
              <a:gd name="textAreaRight" fmla="*/ 480240 w 509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4081" h="21600">
                <a:moveTo>
                  <a:pt x="0" y="0"/>
                </a:moveTo>
                <a:lnTo>
                  <a:pt x="24081" y="0"/>
                </a:lnTo>
                <a:lnTo>
                  <a:pt x="24081" y="21600"/>
                </a:lnTo>
                <a:lnTo>
                  <a:pt x="0" y="21600"/>
                </a:lnTo>
                <a:close/>
              </a:path>
              <a:path fill="lightenLess" w="24081" h="21600">
                <a:moveTo>
                  <a:pt x="0" y="0"/>
                </a:moveTo>
                <a:lnTo>
                  <a:pt x="24081" y="0"/>
                </a:lnTo>
                <a:lnTo>
                  <a:pt x="22681" y="1400"/>
                </a:lnTo>
                <a:lnTo>
                  <a:pt x="1400" y="1400"/>
                </a:lnTo>
                <a:close/>
              </a:path>
              <a:path fill="darken" w="24081" h="21600">
                <a:moveTo>
                  <a:pt x="24081" y="0"/>
                </a:moveTo>
                <a:lnTo>
                  <a:pt x="24081" y="21600"/>
                </a:lnTo>
                <a:lnTo>
                  <a:pt x="22681" y="20200"/>
                </a:lnTo>
                <a:lnTo>
                  <a:pt x="22681" y="1400"/>
                </a:lnTo>
                <a:close/>
              </a:path>
              <a:path fill="darkenLess" w="24081" h="21600">
                <a:moveTo>
                  <a:pt x="240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81" y="20200"/>
                </a:lnTo>
                <a:close/>
              </a:path>
              <a:path fill="lighten" w="240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81" h="21600">
                <a:moveTo>
                  <a:pt x="12041" y="3837"/>
                </a:moveTo>
                <a:lnTo>
                  <a:pt x="14617" y="6448"/>
                </a:lnTo>
                <a:lnTo>
                  <a:pt x="14617" y="4707"/>
                </a:lnTo>
                <a:lnTo>
                  <a:pt x="16392" y="4707"/>
                </a:lnTo>
                <a:lnTo>
                  <a:pt x="16392" y="8224"/>
                </a:lnTo>
                <a:lnTo>
                  <a:pt x="19004" y="10800"/>
                </a:lnTo>
                <a:lnTo>
                  <a:pt x="17350" y="10800"/>
                </a:lnTo>
                <a:lnTo>
                  <a:pt x="17350" y="17989"/>
                </a:lnTo>
                <a:lnTo>
                  <a:pt x="6731" y="17989"/>
                </a:lnTo>
                <a:lnTo>
                  <a:pt x="6731" y="10800"/>
                </a:lnTo>
                <a:lnTo>
                  <a:pt x="5078" y="10800"/>
                </a:lnTo>
                <a:close/>
              </a:path>
              <a:path fill="darkenLess" w="24081" h="21600">
                <a:moveTo>
                  <a:pt x="14617" y="6448"/>
                </a:moveTo>
                <a:lnTo>
                  <a:pt x="14617" y="4707"/>
                </a:lnTo>
                <a:lnTo>
                  <a:pt x="16392" y="4707"/>
                </a:lnTo>
                <a:lnTo>
                  <a:pt x="16392" y="8224"/>
                </a:lnTo>
                <a:close/>
              </a:path>
              <a:path fill="darkenLess" w="24081" h="21600">
                <a:moveTo>
                  <a:pt x="11118" y="14299"/>
                </a:moveTo>
                <a:lnTo>
                  <a:pt x="12963" y="14299"/>
                </a:lnTo>
                <a:lnTo>
                  <a:pt x="12963" y="17989"/>
                </a:lnTo>
                <a:lnTo>
                  <a:pt x="17350" y="17989"/>
                </a:lnTo>
                <a:lnTo>
                  <a:pt x="17350" y="10800"/>
                </a:lnTo>
                <a:lnTo>
                  <a:pt x="6731" y="10800"/>
                </a:lnTo>
                <a:lnTo>
                  <a:pt x="6731" y="17989"/>
                </a:lnTo>
                <a:lnTo>
                  <a:pt x="1111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7" descr="plai1[1]"/>
          <p:cNvPicPr/>
          <p:nvPr/>
        </p:nvPicPr>
        <p:blipFill>
          <a:blip r:embed="rId5"/>
          <a:stretch/>
        </p:blipFill>
        <p:spPr>
          <a:xfrm>
            <a:off x="4800600" y="3581280"/>
            <a:ext cx="1828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1959-CB5D-4AFB-A161-00685A7C71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071a"/>
                </a:solidFill>
                <a:latin typeface="Arial"/>
              </a:rPr>
              <a:t>По конструктивному решению здания делятся на</a:t>
            </a:r>
            <a:r>
              <a:rPr b="0" lang="en-US" sz="3600" spc="-1" strike="noStrike">
                <a:solidFill>
                  <a:srgbClr val="d1071a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лкоэлемен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упноэлемен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ноли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6" descr="fasad[1]"/>
          <p:cNvPicPr/>
          <p:nvPr/>
        </p:nvPicPr>
        <p:blipFill>
          <a:blip r:embed="rId1"/>
          <a:stretch/>
        </p:blipFill>
        <p:spPr>
          <a:xfrm>
            <a:off x="5029200" y="1523880"/>
            <a:ext cx="2362320" cy="1946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sb_mech9[1]"/>
          <p:cNvPicPr/>
          <p:nvPr/>
        </p:nvPicPr>
        <p:blipFill>
          <a:blip r:embed="rId2"/>
          <a:stretch/>
        </p:blipFill>
        <p:spPr>
          <a:xfrm>
            <a:off x="6172200" y="3276720"/>
            <a:ext cx="2595600" cy="2003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16[2]"/>
          <p:cNvPicPr/>
          <p:nvPr/>
        </p:nvPicPr>
        <p:blipFill>
          <a:blip r:embed="rId3"/>
          <a:stretch/>
        </p:blipFill>
        <p:spPr>
          <a:xfrm>
            <a:off x="3809880" y="5181480"/>
            <a:ext cx="3024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1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митриенко Марина Ивановна</dc:creator>
  <dc:description/>
  <dc:language>en-US</dc:language>
  <cp:lastModifiedBy>User</cp:lastModifiedBy>
  <dcterms:modified xsi:type="dcterms:W3CDTF">2016-10-16T06:57:19Z</dcterms:modified>
  <cp:revision>67</cp:revision>
  <dc:subject>Строительство</dc:subject>
  <dc:title>Основные сведения о зданиях и сооружения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