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6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7.png" ContentType="image/png"/>
  <Override PartName="/ppt/media/image28.png" ContentType="image/png"/>
  <Override PartName="/ppt/media/image7.jpeg" ContentType="image/jpeg"/>
  <Override PartName="/ppt/media/image38.jpeg" ContentType="image/jpeg"/>
  <Override PartName="/ppt/media/image5.gif" ContentType="image/gif"/>
  <Override PartName="/ppt/media/image14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DAEA-7E62-4601-B8E1-02C5174AB0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6953-A721-4E15-AA5F-EED58EE94A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96D5-1834-4C17-B0CC-A03D18AD9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BE2A-00FC-4C42-A4A4-7BFCFD79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0725-6309-47C4-A029-76EDC229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8959-1156-4D90-A437-09D6C5DAF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FE01-FEB2-4927-AE35-20DB1AB75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5E2F-F2D6-4C53-8BD0-16864C81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DD17-64EF-42FD-99A8-6009A07E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B5F8-E4E2-404B-A9D1-F803DF64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7368-C654-4616-8181-F0808868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35CC-DAE9-4584-97C6-37016CC0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9173-96F3-45D6-ADBF-E0FB2163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5497-4A66-4DA4-8955-3BAF6261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3D9E-F73C-487A-86FF-2DA8D384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B7ED-8EB1-4E4A-839A-D5D846C8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B2C8-FD00-4C2F-99D6-1FB5159F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5A73-DBC4-4083-B506-19FE570B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FB5A-E25C-4088-A702-611C6EBB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4B066-F0BC-4790-8954-FEB07121F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4F4F8-8CF2-4598-8C4A-EC55F371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CA9E5-6EF2-4D2B-B6B5-5E2DB9C4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049D5-9616-4EB0-A440-3084066A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D1473-5CC3-4223-B788-5B44D60B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5D52-99CA-4A43-86FA-02EF6041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F2A91-A638-4838-A346-EC2DFBBE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7AD9F-AA9E-4E40-A043-D730A868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A09D9-9319-4E56-A12D-3ADFA97E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E29D1-6EE9-41F0-85CF-5345FC68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7A06C-CCEB-4265-AA32-2A2F6DF6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27E53-319C-4610-9E4D-FCDDF019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C8655-D5B1-4FF4-8535-E287A5234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BFDF-55CC-40B7-866D-E2EA4D9D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C84D-0B3C-41CD-A1D1-997E6DC8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99F1-DC0D-4C7F-B7D2-7170CB5C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1B8F-EFE9-46FB-B505-E403B56A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C644-53BE-4DC0-A1AC-E6C8EF1D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7D4F-3AEB-4584-AD6C-32FC0112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e9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4F8E-EB0B-431C-931B-F8E9E36C89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7374-B24E-4DE9-88B1-53971FFD683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59D1-FCF2-4EA6-BE2E-522ABA35346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" Target="slide17.xml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21.xm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6.xm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4F2C-3D6B-43EC-A5B0-83581CD765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85800" y="609480"/>
            <a:ext cx="7620120" cy="3473640"/>
          </a:xfrm>
          <a:prstGeom prst="rect">
            <a:avLst/>
          </a:prstGeom>
          <a:solidFill>
            <a:srgbClr val="dddddd"/>
          </a:solidFill>
          <a:ln w="57240">
            <a:solidFill>
              <a:srgbClr val="003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84500"/>
                </a:solidFill>
                <a:latin typeface="Arial"/>
              </a:rPr>
              <a:t>Общие сведения о зданиях и сооружен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876920"/>
            <a:ext cx="5410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33BA-EF98-4F15-A11A-B5C38AA6CA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лносборные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онтируемые из конструкций и деталей заводского изгото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еиндустриальны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выкладываемые из мелкоштучных издел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о способу возве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5" descr="дерево"/>
          <p:cNvPicPr/>
          <p:nvPr/>
        </p:nvPicPr>
        <p:blipFill>
          <a:blip r:embed="rId1"/>
          <a:stretch/>
        </p:blipFill>
        <p:spPr>
          <a:xfrm>
            <a:off x="838080" y="3809880"/>
            <a:ext cx="3048120" cy="2295720"/>
          </a:xfrm>
          <a:prstGeom prst="rect">
            <a:avLst/>
          </a:prstGeom>
          <a:ln w="0">
            <a:noFill/>
          </a:ln>
        </p:spPr>
      </p:pic>
      <p:sp>
        <p:nvSpPr>
          <p:cNvPr id="266" name="AutoShape 26"/>
          <p:cNvSpPr/>
          <p:nvPr/>
        </p:nvSpPr>
        <p:spPr>
          <a:xfrm>
            <a:off x="4419720" y="2362320"/>
            <a:ext cx="533160" cy="5619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7"/>
          <p:cNvSpPr/>
          <p:nvPr/>
        </p:nvSpPr>
        <p:spPr>
          <a:xfrm>
            <a:off x="4114800" y="480060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8" descr="Бизнес-центр"/>
          <p:cNvPicPr/>
          <p:nvPr/>
        </p:nvPicPr>
        <p:blipFill>
          <a:blip r:embed="rId2"/>
          <a:stretch/>
        </p:blipFill>
        <p:spPr>
          <a:xfrm>
            <a:off x="5029200" y="1600200"/>
            <a:ext cx="3581280" cy="220968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29">
            <a:hlinkClick r:id="rId3" action="ppaction://hlinksldjump"/>
          </p:cNvPr>
          <p:cNvSpPr/>
          <p:nvPr/>
        </p:nvSpPr>
        <p:spPr>
          <a:xfrm>
            <a:off x="228600" y="6348240"/>
            <a:ext cx="509760" cy="50976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1B86-6E98-4B07-A63F-F37F2FB15E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о степени долговечности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 способности конструктивных элементов сохранять требуемые эксплуатацион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степень – со сроком службы более 10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степень – 50 – 100 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степень – 20- 5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степень – до 2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рисунок 9 вагон"/>
          <p:cNvPicPr/>
          <p:nvPr/>
        </p:nvPicPr>
        <p:blipFill>
          <a:blip r:embed="rId1"/>
          <a:stretch/>
        </p:blipFill>
        <p:spPr>
          <a:xfrm>
            <a:off x="5257800" y="5029200"/>
            <a:ext cx="2286000" cy="13716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рисунок 2"/>
          <p:cNvPicPr/>
          <p:nvPr/>
        </p:nvPicPr>
        <p:blipFill>
          <a:blip r:embed="rId2"/>
          <a:stretch/>
        </p:blipFill>
        <p:spPr>
          <a:xfrm>
            <a:off x="228600" y="3581280"/>
            <a:ext cx="2690640" cy="281952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6">
            <a:hlinkClick r:id="rId3" action="ppaction://hlinksldjump"/>
          </p:cNvPr>
          <p:cNvSpPr/>
          <p:nvPr/>
        </p:nvSpPr>
        <p:spPr>
          <a:xfrm>
            <a:off x="304920" y="6348240"/>
            <a:ext cx="533160" cy="509760"/>
          </a:xfrm>
          <a:custGeom>
            <a:avLst/>
            <a:gdLst>
              <a:gd name="textAreaLeft" fmla="*/ 32760 w 533160"/>
              <a:gd name="textAreaRight" fmla="*/ 500400 w 5331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2591" h="21600">
                <a:moveTo>
                  <a:pt x="0" y="0"/>
                </a:moveTo>
                <a:lnTo>
                  <a:pt x="22591" y="0"/>
                </a:lnTo>
                <a:lnTo>
                  <a:pt x="22591" y="21600"/>
                </a:lnTo>
                <a:lnTo>
                  <a:pt x="0" y="21600"/>
                </a:lnTo>
                <a:close/>
              </a:path>
              <a:path fill="lightenLess" w="22591" h="21600">
                <a:moveTo>
                  <a:pt x="0" y="0"/>
                </a:moveTo>
                <a:lnTo>
                  <a:pt x="22591" y="0"/>
                </a:lnTo>
                <a:lnTo>
                  <a:pt x="21191" y="1400"/>
                </a:lnTo>
                <a:lnTo>
                  <a:pt x="1400" y="1400"/>
                </a:lnTo>
                <a:close/>
              </a:path>
              <a:path fill="darken" w="22591" h="21600">
                <a:moveTo>
                  <a:pt x="22591" y="0"/>
                </a:moveTo>
                <a:lnTo>
                  <a:pt x="22591" y="21600"/>
                </a:lnTo>
                <a:lnTo>
                  <a:pt x="21191" y="20200"/>
                </a:lnTo>
                <a:lnTo>
                  <a:pt x="21191" y="1400"/>
                </a:lnTo>
                <a:close/>
              </a:path>
              <a:path fill="darkenLess" w="22591" h="21600">
                <a:moveTo>
                  <a:pt x="22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91" y="20200"/>
                </a:lnTo>
                <a:close/>
              </a:path>
              <a:path fill="lighten" w="22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91" h="21600">
                <a:moveTo>
                  <a:pt x="11295" y="3837"/>
                </a:moveTo>
                <a:lnTo>
                  <a:pt x="13872" y="6448"/>
                </a:lnTo>
                <a:lnTo>
                  <a:pt x="13872" y="4707"/>
                </a:lnTo>
                <a:lnTo>
                  <a:pt x="15647" y="4707"/>
                </a:lnTo>
                <a:lnTo>
                  <a:pt x="15647" y="8224"/>
                </a:lnTo>
                <a:lnTo>
                  <a:pt x="18258" y="10800"/>
                </a:lnTo>
                <a:lnTo>
                  <a:pt x="16605" y="10800"/>
                </a:lnTo>
                <a:lnTo>
                  <a:pt x="16605" y="17989"/>
                </a:lnTo>
                <a:lnTo>
                  <a:pt x="5986" y="17989"/>
                </a:lnTo>
                <a:lnTo>
                  <a:pt x="5986" y="10800"/>
                </a:lnTo>
                <a:lnTo>
                  <a:pt x="4332" y="10800"/>
                </a:lnTo>
                <a:close/>
              </a:path>
              <a:path fill="darkenLess" w="22591" h="21600">
                <a:moveTo>
                  <a:pt x="13872" y="6448"/>
                </a:moveTo>
                <a:lnTo>
                  <a:pt x="13872" y="4707"/>
                </a:lnTo>
                <a:lnTo>
                  <a:pt x="15647" y="4707"/>
                </a:lnTo>
                <a:lnTo>
                  <a:pt x="15647" y="8224"/>
                </a:lnTo>
                <a:close/>
              </a:path>
              <a:path fill="darkenLess" w="22591" h="21600">
                <a:moveTo>
                  <a:pt x="10373" y="14299"/>
                </a:moveTo>
                <a:lnTo>
                  <a:pt x="12218" y="14299"/>
                </a:lnTo>
                <a:lnTo>
                  <a:pt x="12218" y="17989"/>
                </a:lnTo>
                <a:lnTo>
                  <a:pt x="16605" y="17989"/>
                </a:lnTo>
                <a:lnTo>
                  <a:pt x="16605" y="10800"/>
                </a:lnTo>
                <a:lnTo>
                  <a:pt x="5986" y="10800"/>
                </a:lnTo>
                <a:lnTo>
                  <a:pt x="5986" y="17989"/>
                </a:lnTo>
                <a:lnTo>
                  <a:pt x="1037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3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20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20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20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505E-11AC-4AD0-8759-E49522CBC5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1071a"/>
                </a:solidFill>
                <a:latin typeface="Arial"/>
              </a:rPr>
              <a:t>Степени возгораемости зда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Несгораем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Трудносгораем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гораем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zav_upr[1]"/>
          <p:cNvPicPr/>
          <p:nvPr/>
        </p:nvPicPr>
        <p:blipFill>
          <a:blip r:embed="rId4"/>
          <a:stretch/>
        </p:blipFill>
        <p:spPr>
          <a:xfrm>
            <a:off x="4952880" y="1676520"/>
            <a:ext cx="3456000" cy="19047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image004[1]"/>
          <p:cNvPicPr/>
          <p:nvPr/>
        </p:nvPicPr>
        <p:blipFill>
          <a:blip r:embed="rId5"/>
          <a:stretch/>
        </p:blipFill>
        <p:spPr>
          <a:xfrm>
            <a:off x="5105520" y="3733920"/>
            <a:ext cx="2895480" cy="206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1F4C-ACA7-4F04-807B-5986A6F95A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о степени огнестойк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 возможности конструкций сохранять при пожаре функции несущих и ограждающих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–III – c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каменными конструкц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с деревянными оштукатуре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с деревянными неоштукатуре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5" descr="дерево 3"/>
          <p:cNvPicPr/>
          <p:nvPr/>
        </p:nvPicPr>
        <p:blipFill>
          <a:blip r:embed="rId1"/>
          <a:stretch/>
        </p:blipFill>
        <p:spPr>
          <a:xfrm>
            <a:off x="5105520" y="4267080"/>
            <a:ext cx="2438280" cy="19051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kark8"/>
          <p:cNvPicPr/>
          <p:nvPr/>
        </p:nvPicPr>
        <p:blipFill>
          <a:blip r:embed="rId2"/>
          <a:stretch/>
        </p:blipFill>
        <p:spPr>
          <a:xfrm>
            <a:off x="1447920" y="4267080"/>
            <a:ext cx="2666880" cy="1905120"/>
          </a:xfrm>
          <a:prstGeom prst="rect">
            <a:avLst/>
          </a:prstGeom>
          <a:ln w="0">
            <a:noFill/>
          </a:ln>
        </p:spPr>
      </p:pic>
      <p:sp>
        <p:nvSpPr>
          <p:cNvPr id="286" name="AutoShape 7">
            <a:hlinkClick r:id="rId3" action="ppaction://hlinksldjump"/>
          </p:cNvPr>
          <p:cNvSpPr/>
          <p:nvPr/>
        </p:nvSpPr>
        <p:spPr>
          <a:xfrm>
            <a:off x="8381880" y="60958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15110" y="3837"/>
                </a:moveTo>
                <a:lnTo>
                  <a:pt x="17686" y="6448"/>
                </a:lnTo>
                <a:lnTo>
                  <a:pt x="17686" y="4707"/>
                </a:lnTo>
                <a:lnTo>
                  <a:pt x="19462" y="4707"/>
                </a:lnTo>
                <a:lnTo>
                  <a:pt x="19462" y="8224"/>
                </a:lnTo>
                <a:lnTo>
                  <a:pt x="22073" y="10800"/>
                </a:lnTo>
                <a:lnTo>
                  <a:pt x="20419" y="10800"/>
                </a:lnTo>
                <a:lnTo>
                  <a:pt x="20419" y="17989"/>
                </a:lnTo>
                <a:lnTo>
                  <a:pt x="9801" y="17989"/>
                </a:lnTo>
                <a:lnTo>
                  <a:pt x="9801" y="10800"/>
                </a:lnTo>
                <a:lnTo>
                  <a:pt x="8147" y="10800"/>
                </a:lnTo>
                <a:close/>
              </a:path>
              <a:path fill="darkenLess" w="30220" h="21600">
                <a:moveTo>
                  <a:pt x="17686" y="6448"/>
                </a:moveTo>
                <a:lnTo>
                  <a:pt x="17686" y="4707"/>
                </a:lnTo>
                <a:lnTo>
                  <a:pt x="19462" y="4707"/>
                </a:lnTo>
                <a:lnTo>
                  <a:pt x="19462" y="8224"/>
                </a:lnTo>
                <a:close/>
              </a:path>
              <a:path fill="darkenLess" w="30220" h="21600">
                <a:moveTo>
                  <a:pt x="14187" y="14299"/>
                </a:moveTo>
                <a:lnTo>
                  <a:pt x="16032" y="14299"/>
                </a:lnTo>
                <a:lnTo>
                  <a:pt x="16032" y="17989"/>
                </a:lnTo>
                <a:lnTo>
                  <a:pt x="20419" y="17989"/>
                </a:lnTo>
                <a:lnTo>
                  <a:pt x="20419" y="10800"/>
                </a:lnTo>
                <a:lnTo>
                  <a:pt x="9801" y="10800"/>
                </a:lnTo>
                <a:lnTo>
                  <a:pt x="9801" y="17989"/>
                </a:lnTo>
                <a:lnTo>
                  <a:pt x="1418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52B7-6864-4F19-B8DF-88E09EAED2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о класс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 совокупности требований , касающихся степени долговечности, огнестойкости и других эксплуатационных каче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I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 клас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II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клас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лас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ласс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лас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6" descr="pic_19_1"/>
          <p:cNvPicPr/>
          <p:nvPr/>
        </p:nvPicPr>
        <p:blipFill>
          <a:blip r:embed="rId6"/>
          <a:stretch/>
        </p:blipFill>
        <p:spPr>
          <a:xfrm>
            <a:off x="4572000" y="3048120"/>
            <a:ext cx="3352680" cy="3171600"/>
          </a:xfrm>
          <a:prstGeom prst="rect">
            <a:avLst/>
          </a:prstGeom>
          <a:ln w="0">
            <a:noFill/>
          </a:ln>
        </p:spPr>
      </p:pic>
      <p:sp>
        <p:nvSpPr>
          <p:cNvPr id="291" name="AutoShape 7"/>
          <p:cNvSpPr/>
          <p:nvPr/>
        </p:nvSpPr>
        <p:spPr>
          <a:xfrm>
            <a:off x="304920" y="6248520"/>
            <a:ext cx="457200" cy="433440"/>
          </a:xfrm>
          <a:custGeom>
            <a:avLst/>
            <a:gdLst>
              <a:gd name="textAreaLeft" fmla="*/ 28080 w 457200"/>
              <a:gd name="textAreaRight" fmla="*/ 429120 w 4572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2783" h="21600">
                <a:moveTo>
                  <a:pt x="0" y="0"/>
                </a:moveTo>
                <a:lnTo>
                  <a:pt x="22783" y="0"/>
                </a:lnTo>
                <a:lnTo>
                  <a:pt x="22783" y="21600"/>
                </a:lnTo>
                <a:lnTo>
                  <a:pt x="0" y="21600"/>
                </a:lnTo>
                <a:close/>
              </a:path>
              <a:path fill="lightenLess" w="22783" h="21600">
                <a:moveTo>
                  <a:pt x="0" y="0"/>
                </a:moveTo>
                <a:lnTo>
                  <a:pt x="22783" y="0"/>
                </a:lnTo>
                <a:lnTo>
                  <a:pt x="21383" y="1400"/>
                </a:lnTo>
                <a:lnTo>
                  <a:pt x="1400" y="1400"/>
                </a:lnTo>
                <a:close/>
              </a:path>
              <a:path fill="darken" w="22783" h="21600">
                <a:moveTo>
                  <a:pt x="22783" y="0"/>
                </a:moveTo>
                <a:lnTo>
                  <a:pt x="22783" y="21600"/>
                </a:lnTo>
                <a:lnTo>
                  <a:pt x="21383" y="20200"/>
                </a:lnTo>
                <a:lnTo>
                  <a:pt x="21383" y="1400"/>
                </a:lnTo>
                <a:close/>
              </a:path>
              <a:path fill="darkenLess" w="22783" h="21600">
                <a:moveTo>
                  <a:pt x="22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83" y="20200"/>
                </a:lnTo>
                <a:close/>
              </a:path>
              <a:path fill="lighten" w="22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83" h="21600">
                <a:moveTo>
                  <a:pt x="11392" y="3837"/>
                </a:moveTo>
                <a:lnTo>
                  <a:pt x="13968" y="6448"/>
                </a:lnTo>
                <a:lnTo>
                  <a:pt x="13968" y="4707"/>
                </a:lnTo>
                <a:lnTo>
                  <a:pt x="15743" y="4707"/>
                </a:lnTo>
                <a:lnTo>
                  <a:pt x="15743" y="8224"/>
                </a:lnTo>
                <a:lnTo>
                  <a:pt x="18354" y="10800"/>
                </a:lnTo>
                <a:lnTo>
                  <a:pt x="16701" y="10800"/>
                </a:lnTo>
                <a:lnTo>
                  <a:pt x="16701" y="17989"/>
                </a:lnTo>
                <a:lnTo>
                  <a:pt x="6082" y="17989"/>
                </a:lnTo>
                <a:lnTo>
                  <a:pt x="6082" y="10800"/>
                </a:lnTo>
                <a:lnTo>
                  <a:pt x="4429" y="10800"/>
                </a:lnTo>
                <a:close/>
              </a:path>
              <a:path fill="darkenLess" w="22783" h="21600">
                <a:moveTo>
                  <a:pt x="13968" y="6448"/>
                </a:moveTo>
                <a:lnTo>
                  <a:pt x="13968" y="4707"/>
                </a:lnTo>
                <a:lnTo>
                  <a:pt x="15743" y="4707"/>
                </a:lnTo>
                <a:lnTo>
                  <a:pt x="15743" y="8224"/>
                </a:lnTo>
                <a:close/>
              </a:path>
              <a:path fill="darkenLess" w="22783" h="21600">
                <a:moveTo>
                  <a:pt x="10469" y="14299"/>
                </a:moveTo>
                <a:lnTo>
                  <a:pt x="12314" y="14299"/>
                </a:lnTo>
                <a:lnTo>
                  <a:pt x="12314" y="17989"/>
                </a:lnTo>
                <a:lnTo>
                  <a:pt x="16701" y="17989"/>
                </a:lnTo>
                <a:lnTo>
                  <a:pt x="16701" y="10800"/>
                </a:lnTo>
                <a:lnTo>
                  <a:pt x="6082" y="10800"/>
                </a:lnTo>
                <a:lnTo>
                  <a:pt x="6082" y="17989"/>
                </a:lnTo>
                <a:lnTo>
                  <a:pt x="1046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8"/>
          <p:cNvSpPr/>
          <p:nvPr/>
        </p:nvSpPr>
        <p:spPr>
          <a:xfrm>
            <a:off x="914400" y="6324480"/>
            <a:ext cx="433440" cy="381240"/>
          </a:xfrm>
          <a:custGeom>
            <a:avLst/>
            <a:gdLst>
              <a:gd name="textAreaLeft" fmla="*/ 24480 w 433440"/>
              <a:gd name="textAreaRight" fmla="*/ 408960 w 4334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4555" h="21600">
                <a:moveTo>
                  <a:pt x="0" y="0"/>
                </a:moveTo>
                <a:lnTo>
                  <a:pt x="24555" y="0"/>
                </a:lnTo>
                <a:lnTo>
                  <a:pt x="24555" y="21600"/>
                </a:lnTo>
                <a:lnTo>
                  <a:pt x="0" y="21600"/>
                </a:lnTo>
                <a:close/>
              </a:path>
              <a:path fill="lightenLess" w="24555" h="21600">
                <a:moveTo>
                  <a:pt x="0" y="0"/>
                </a:moveTo>
                <a:lnTo>
                  <a:pt x="24555" y="0"/>
                </a:lnTo>
                <a:lnTo>
                  <a:pt x="23155" y="1400"/>
                </a:lnTo>
                <a:lnTo>
                  <a:pt x="1400" y="1400"/>
                </a:lnTo>
                <a:close/>
              </a:path>
              <a:path fill="darken" w="24555" h="21600">
                <a:moveTo>
                  <a:pt x="24555" y="0"/>
                </a:moveTo>
                <a:lnTo>
                  <a:pt x="24555" y="21600"/>
                </a:lnTo>
                <a:lnTo>
                  <a:pt x="23155" y="20200"/>
                </a:lnTo>
                <a:lnTo>
                  <a:pt x="23155" y="1400"/>
                </a:lnTo>
                <a:close/>
              </a:path>
              <a:path fill="darkenLess" w="24555" h="21600">
                <a:moveTo>
                  <a:pt x="24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55" y="20200"/>
                </a:lnTo>
                <a:close/>
              </a:path>
              <a:path fill="lighten" w="24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55" h="21600">
                <a:moveTo>
                  <a:pt x="5271" y="3794"/>
                </a:moveTo>
                <a:lnTo>
                  <a:pt x="19284" y="10800"/>
                </a:lnTo>
                <a:lnTo>
                  <a:pt x="527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8" dur="5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2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2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20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2000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CBAC-83C3-4AF5-A633-C6B0CC2491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к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классу относя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рупные промышленные и общественные здания, а также жилые в девять этажей и более, здания с повышенными эксплуатационными и архитектурными требова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рисунок музей"/>
          <p:cNvPicPr/>
          <p:nvPr/>
        </p:nvPicPr>
        <p:blipFill>
          <a:blip r:embed="rId1"/>
          <a:stretch/>
        </p:blipFill>
        <p:spPr>
          <a:xfrm>
            <a:off x="6172200" y="2971800"/>
            <a:ext cx="2362320" cy="17524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612"/>
          <p:cNvPicPr/>
          <p:nvPr/>
        </p:nvPicPr>
        <p:blipFill>
          <a:blip r:embed="rId2"/>
          <a:stretch/>
        </p:blipFill>
        <p:spPr>
          <a:xfrm>
            <a:off x="533520" y="342900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pic_5_1"/>
          <p:cNvPicPr/>
          <p:nvPr/>
        </p:nvPicPr>
        <p:blipFill>
          <a:blip r:embed="rId3"/>
          <a:stretch/>
        </p:blipFill>
        <p:spPr>
          <a:xfrm>
            <a:off x="3048120" y="4267080"/>
            <a:ext cx="2743200" cy="1981440"/>
          </a:xfrm>
          <a:prstGeom prst="rect">
            <a:avLst/>
          </a:prstGeom>
          <a:ln w="0">
            <a:noFill/>
          </a:ln>
        </p:spPr>
      </p:pic>
      <p:sp>
        <p:nvSpPr>
          <p:cNvPr id="299" name="AutoShape 8"/>
          <p:cNvSpPr/>
          <p:nvPr/>
        </p:nvSpPr>
        <p:spPr>
          <a:xfrm>
            <a:off x="304920" y="6172200"/>
            <a:ext cx="509400" cy="50976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0800" y="3845"/>
                </a:moveTo>
                <a:lnTo>
                  <a:pt x="13376" y="6456"/>
                </a:ln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lnTo>
                  <a:pt x="17763" y="10808"/>
                </a:lnTo>
                <a:lnTo>
                  <a:pt x="16109" y="10808"/>
                </a:lnTo>
                <a:lnTo>
                  <a:pt x="16109" y="17997"/>
                </a:lnTo>
                <a:lnTo>
                  <a:pt x="5491" y="17997"/>
                </a:lnTo>
                <a:lnTo>
                  <a:pt x="5491" y="10808"/>
                </a:lnTo>
                <a:lnTo>
                  <a:pt x="3837" y="10808"/>
                </a:lnTo>
                <a:close/>
              </a:path>
              <a:path fill="darkenLess" w="21600" h="21615">
                <a:moveTo>
                  <a:pt x="13376" y="6456"/>
                </a:move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close/>
              </a:path>
              <a:path fill="darkenLess" w="21600" h="21615">
                <a:moveTo>
                  <a:pt x="9877" y="14307"/>
                </a:moveTo>
                <a:lnTo>
                  <a:pt x="11723" y="14307"/>
                </a:lnTo>
                <a:lnTo>
                  <a:pt x="11723" y="17997"/>
                </a:lnTo>
                <a:lnTo>
                  <a:pt x="16109" y="17997"/>
                </a:lnTo>
                <a:lnTo>
                  <a:pt x="16109" y="10808"/>
                </a:lnTo>
                <a:lnTo>
                  <a:pt x="5491" y="10808"/>
                </a:lnTo>
                <a:lnTo>
                  <a:pt x="5491" y="17997"/>
                </a:lnTo>
                <a:lnTo>
                  <a:pt x="9877" y="1799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763D-410C-4A7F-A3BF-66E41903A8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к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I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классу относя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щественные , промышленные  и сельскохозяйственные здания, жилые от пяти до девяти этаж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4" descr="рисунок 6 пр"/>
          <p:cNvPicPr/>
          <p:nvPr/>
        </p:nvPicPr>
        <p:blipFill>
          <a:blip r:embed="rId1"/>
          <a:stretch/>
        </p:blipFill>
        <p:spPr>
          <a:xfrm>
            <a:off x="4876920" y="3200400"/>
            <a:ext cx="3352680" cy="2286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pic_8_1"/>
          <p:cNvPicPr/>
          <p:nvPr/>
        </p:nvPicPr>
        <p:blipFill>
          <a:blip r:embed="rId2"/>
          <a:stretch/>
        </p:blipFill>
        <p:spPr>
          <a:xfrm>
            <a:off x="762120" y="3124080"/>
            <a:ext cx="3352680" cy="236232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6"/>
          <p:cNvSpPr/>
          <p:nvPr/>
        </p:nvSpPr>
        <p:spPr>
          <a:xfrm>
            <a:off x="22860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0" dur="3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7F88-F3AB-47B7-8C9E-0D71AB0247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к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II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классу относя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мышленные  и сельскохозяйственные здания с низкими эксплуатационными требованиями, жилые от пяти до девяти этаж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6" descr="ангар"/>
          <p:cNvPicPr/>
          <p:nvPr/>
        </p:nvPicPr>
        <p:blipFill>
          <a:blip r:embed="rId1"/>
          <a:stretch/>
        </p:blipFill>
        <p:spPr>
          <a:xfrm>
            <a:off x="685800" y="3048120"/>
            <a:ext cx="2666880" cy="18288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7" descr="рис 5"/>
          <p:cNvPicPr/>
          <p:nvPr/>
        </p:nvPicPr>
        <p:blipFill>
          <a:blip r:embed="rId2"/>
          <a:stretch/>
        </p:blipFill>
        <p:spPr>
          <a:xfrm>
            <a:off x="4572000" y="3048120"/>
            <a:ext cx="3200400" cy="236196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8"/>
          <p:cNvSpPr/>
          <p:nvPr/>
        </p:nvSpPr>
        <p:spPr>
          <a:xfrm>
            <a:off x="152280" y="6348240"/>
            <a:ext cx="586080" cy="509760"/>
          </a:xfrm>
          <a:custGeom>
            <a:avLst/>
            <a:gdLst>
              <a:gd name="textAreaLeft" fmla="*/ 32760 w 586080"/>
              <a:gd name="textAreaRight" fmla="*/ 553320 w 58608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4832" h="21600">
                <a:moveTo>
                  <a:pt x="0" y="0"/>
                </a:moveTo>
                <a:lnTo>
                  <a:pt x="24832" y="0"/>
                </a:lnTo>
                <a:lnTo>
                  <a:pt x="24832" y="21600"/>
                </a:lnTo>
                <a:lnTo>
                  <a:pt x="0" y="21600"/>
                </a:lnTo>
                <a:close/>
              </a:path>
              <a:path fill="lightenLess" w="24832" h="21600">
                <a:moveTo>
                  <a:pt x="0" y="0"/>
                </a:moveTo>
                <a:lnTo>
                  <a:pt x="24832" y="0"/>
                </a:lnTo>
                <a:lnTo>
                  <a:pt x="23432" y="1400"/>
                </a:lnTo>
                <a:lnTo>
                  <a:pt x="1400" y="1400"/>
                </a:lnTo>
                <a:close/>
              </a:path>
              <a:path fill="darken" w="24832" h="21600">
                <a:moveTo>
                  <a:pt x="24832" y="0"/>
                </a:moveTo>
                <a:lnTo>
                  <a:pt x="24832" y="21600"/>
                </a:lnTo>
                <a:lnTo>
                  <a:pt x="23432" y="20200"/>
                </a:lnTo>
                <a:lnTo>
                  <a:pt x="23432" y="1400"/>
                </a:lnTo>
                <a:close/>
              </a:path>
              <a:path fill="darkenLess" w="24832" h="21600">
                <a:moveTo>
                  <a:pt x="24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2" y="20200"/>
                </a:lnTo>
                <a:close/>
              </a:path>
              <a:path fill="lighten" w="24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2" h="21600">
                <a:moveTo>
                  <a:pt x="12416" y="3837"/>
                </a:moveTo>
                <a:lnTo>
                  <a:pt x="14992" y="6448"/>
                </a:lnTo>
                <a:lnTo>
                  <a:pt x="14992" y="4707"/>
                </a:lnTo>
                <a:lnTo>
                  <a:pt x="16768" y="4707"/>
                </a:lnTo>
                <a:lnTo>
                  <a:pt x="16768" y="8224"/>
                </a:lnTo>
                <a:lnTo>
                  <a:pt x="19379" y="10800"/>
                </a:lnTo>
                <a:lnTo>
                  <a:pt x="17725" y="10800"/>
                </a:lnTo>
                <a:lnTo>
                  <a:pt x="17725" y="17989"/>
                </a:lnTo>
                <a:lnTo>
                  <a:pt x="7107" y="17989"/>
                </a:lnTo>
                <a:lnTo>
                  <a:pt x="7107" y="10800"/>
                </a:lnTo>
                <a:lnTo>
                  <a:pt x="5453" y="10800"/>
                </a:lnTo>
                <a:close/>
              </a:path>
              <a:path fill="darkenLess" w="24832" h="21600">
                <a:moveTo>
                  <a:pt x="14992" y="6448"/>
                </a:moveTo>
                <a:lnTo>
                  <a:pt x="14992" y="4707"/>
                </a:lnTo>
                <a:lnTo>
                  <a:pt x="16768" y="4707"/>
                </a:lnTo>
                <a:lnTo>
                  <a:pt x="16768" y="8224"/>
                </a:lnTo>
                <a:close/>
              </a:path>
              <a:path fill="darkenLess" w="24832" h="21600">
                <a:moveTo>
                  <a:pt x="11493" y="14299"/>
                </a:moveTo>
                <a:lnTo>
                  <a:pt x="13338" y="14299"/>
                </a:lnTo>
                <a:lnTo>
                  <a:pt x="13338" y="17989"/>
                </a:lnTo>
                <a:lnTo>
                  <a:pt x="17725" y="17989"/>
                </a:lnTo>
                <a:lnTo>
                  <a:pt x="17725" y="10800"/>
                </a:lnTo>
                <a:lnTo>
                  <a:pt x="7107" y="10800"/>
                </a:lnTo>
                <a:lnTo>
                  <a:pt x="7107" y="17989"/>
                </a:lnTo>
                <a:lnTo>
                  <a:pt x="1149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4" dur="3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8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8360-EDE9-4F92-AC7C-5A2EF83BB4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к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V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классу относя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илые до пяти этаж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7" descr="D-089-1S-sm"/>
          <p:cNvPicPr/>
          <p:nvPr/>
        </p:nvPicPr>
        <p:blipFill>
          <a:blip r:embed="rId1"/>
          <a:stretch/>
        </p:blipFill>
        <p:spPr>
          <a:xfrm>
            <a:off x="4876920" y="1447920"/>
            <a:ext cx="3504960" cy="19810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kark8"/>
          <p:cNvPicPr/>
          <p:nvPr/>
        </p:nvPicPr>
        <p:blipFill>
          <a:blip r:embed="rId2"/>
          <a:stretch/>
        </p:blipFill>
        <p:spPr>
          <a:xfrm>
            <a:off x="1219320" y="3657600"/>
            <a:ext cx="3429000" cy="259092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9"/>
          <p:cNvSpPr/>
          <p:nvPr/>
        </p:nvSpPr>
        <p:spPr>
          <a:xfrm>
            <a:off x="8305920" y="6019920"/>
            <a:ext cx="585720" cy="58572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87FE-0C20-4A6D-A0E8-C5D333E652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к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V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классу относя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ременные з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бытовка 2"/>
          <p:cNvPicPr/>
          <p:nvPr/>
        </p:nvPicPr>
        <p:blipFill>
          <a:blip r:embed="rId1"/>
          <a:stretch/>
        </p:blipFill>
        <p:spPr>
          <a:xfrm>
            <a:off x="609480" y="2438280"/>
            <a:ext cx="2743200" cy="22100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рисунок 8 бытовка"/>
          <p:cNvPicPr/>
          <p:nvPr/>
        </p:nvPicPr>
        <p:blipFill>
          <a:blip r:embed="rId2"/>
          <a:stretch/>
        </p:blipFill>
        <p:spPr>
          <a:xfrm>
            <a:off x="4419720" y="3962520"/>
            <a:ext cx="3504960" cy="20574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6" descr="рисунок 9 вагон"/>
          <p:cNvPicPr/>
          <p:nvPr/>
        </p:nvPicPr>
        <p:blipFill>
          <a:blip r:embed="rId3"/>
          <a:stretch/>
        </p:blipFill>
        <p:spPr>
          <a:xfrm>
            <a:off x="4800600" y="1600200"/>
            <a:ext cx="2581200" cy="1752480"/>
          </a:xfrm>
          <a:prstGeom prst="rect">
            <a:avLst/>
          </a:prstGeom>
          <a:ln w="0">
            <a:noFill/>
          </a:ln>
        </p:spPr>
      </p:pic>
      <p:sp>
        <p:nvSpPr>
          <p:cNvPr id="324" name="AutoShape 7"/>
          <p:cNvSpPr/>
          <p:nvPr/>
        </p:nvSpPr>
        <p:spPr>
          <a:xfrm>
            <a:off x="8305920" y="6248520"/>
            <a:ext cx="533160" cy="433440"/>
          </a:xfrm>
          <a:custGeom>
            <a:avLst/>
            <a:gdLst>
              <a:gd name="textAreaLeft" fmla="*/ 28080 w 533160"/>
              <a:gd name="textAreaRight" fmla="*/ 505080 w 5331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6565" h="21600">
                <a:moveTo>
                  <a:pt x="0" y="0"/>
                </a:moveTo>
                <a:lnTo>
                  <a:pt x="26565" y="0"/>
                </a:lnTo>
                <a:lnTo>
                  <a:pt x="26565" y="21600"/>
                </a:lnTo>
                <a:lnTo>
                  <a:pt x="0" y="21600"/>
                </a:lnTo>
                <a:close/>
              </a:path>
              <a:path fill="lightenLess" w="26565" h="21600">
                <a:moveTo>
                  <a:pt x="0" y="0"/>
                </a:moveTo>
                <a:lnTo>
                  <a:pt x="26565" y="0"/>
                </a:lnTo>
                <a:lnTo>
                  <a:pt x="25165" y="1400"/>
                </a:lnTo>
                <a:lnTo>
                  <a:pt x="1400" y="1400"/>
                </a:lnTo>
                <a:close/>
              </a:path>
              <a:path fill="darken" w="26565" h="21600">
                <a:moveTo>
                  <a:pt x="26565" y="0"/>
                </a:moveTo>
                <a:lnTo>
                  <a:pt x="26565" y="21600"/>
                </a:lnTo>
                <a:lnTo>
                  <a:pt x="25165" y="20200"/>
                </a:lnTo>
                <a:lnTo>
                  <a:pt x="25165" y="1400"/>
                </a:lnTo>
                <a:close/>
              </a:path>
              <a:path fill="darkenLess" w="26565" h="21600">
                <a:moveTo>
                  <a:pt x="26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5" y="20200"/>
                </a:lnTo>
                <a:close/>
              </a:path>
              <a:path fill="lighten" w="26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65" h="21600">
                <a:moveTo>
                  <a:pt x="13283" y="3837"/>
                </a:moveTo>
                <a:lnTo>
                  <a:pt x="15859" y="6448"/>
                </a:lnTo>
                <a:lnTo>
                  <a:pt x="15859" y="4707"/>
                </a:lnTo>
                <a:lnTo>
                  <a:pt x="17635" y="4707"/>
                </a:lnTo>
                <a:lnTo>
                  <a:pt x="17635" y="8224"/>
                </a:lnTo>
                <a:lnTo>
                  <a:pt x="20246" y="10800"/>
                </a:lnTo>
                <a:lnTo>
                  <a:pt x="18592" y="10800"/>
                </a:lnTo>
                <a:lnTo>
                  <a:pt x="18592" y="17989"/>
                </a:lnTo>
                <a:lnTo>
                  <a:pt x="7973" y="17989"/>
                </a:lnTo>
                <a:lnTo>
                  <a:pt x="7973" y="10800"/>
                </a:lnTo>
                <a:lnTo>
                  <a:pt x="6320" y="10800"/>
                </a:lnTo>
                <a:close/>
              </a:path>
              <a:path fill="darkenLess" w="26565" h="21600">
                <a:moveTo>
                  <a:pt x="15859" y="6448"/>
                </a:moveTo>
                <a:lnTo>
                  <a:pt x="15859" y="4707"/>
                </a:lnTo>
                <a:lnTo>
                  <a:pt x="17635" y="4707"/>
                </a:lnTo>
                <a:lnTo>
                  <a:pt x="17635" y="8224"/>
                </a:lnTo>
                <a:close/>
              </a:path>
              <a:path fill="darkenLess" w="26565" h="21600">
                <a:moveTo>
                  <a:pt x="12360" y="14299"/>
                </a:moveTo>
                <a:lnTo>
                  <a:pt x="14205" y="14299"/>
                </a:lnTo>
                <a:lnTo>
                  <a:pt x="14205" y="17989"/>
                </a:lnTo>
                <a:lnTo>
                  <a:pt x="18592" y="17989"/>
                </a:lnTo>
                <a:lnTo>
                  <a:pt x="18592" y="10800"/>
                </a:lnTo>
                <a:lnTo>
                  <a:pt x="7973" y="10800"/>
                </a:lnTo>
                <a:lnTo>
                  <a:pt x="7973" y="17989"/>
                </a:lnTo>
                <a:lnTo>
                  <a:pt x="1236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7" dur="3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EB48-5D4C-483B-8959-5211D90EDE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76720" y="762120"/>
            <a:ext cx="2108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600"/>
                </a:solidFill>
                <a:latin typeface="Arial"/>
              </a:rPr>
              <a:t>План</a:t>
            </a:r>
            <a:r>
              <a:rPr b="0" lang="en-US" sz="4400" spc="-1" strike="noStrike">
                <a:solidFill>
                  <a:srgbClr val="0036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2004840"/>
            <a:ext cx="8229600" cy="38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Элементы зданий. Требования к зда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Классификация зданий и соору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Конструктивные элементы зданий и соору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9CF0-6E8A-4C36-8FFE-6A135D68EF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071a"/>
                </a:solidFill>
                <a:latin typeface="Arial"/>
              </a:rPr>
              <a:t>По материалу стен здания бывают</a:t>
            </a:r>
            <a:r>
              <a:rPr b="0" lang="en-US" sz="3600" spc="-1" strike="noStrike">
                <a:solidFill>
                  <a:srgbClr val="d1071a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ревя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рпи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езо-бето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6" descr="zagot_korp[1]"/>
          <p:cNvPicPr/>
          <p:nvPr/>
        </p:nvPicPr>
        <p:blipFill>
          <a:blip r:embed="rId1"/>
          <a:stretch/>
        </p:blipFill>
        <p:spPr>
          <a:xfrm>
            <a:off x="3276720" y="2743200"/>
            <a:ext cx="2209680" cy="21574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d7f5bcdd243549b9fa00106c4720a36c[1]"/>
          <p:cNvPicPr/>
          <p:nvPr/>
        </p:nvPicPr>
        <p:blipFill>
          <a:blip r:embed="rId2"/>
          <a:stretch/>
        </p:blipFill>
        <p:spPr>
          <a:xfrm>
            <a:off x="6019920" y="4572000"/>
            <a:ext cx="2908080" cy="21589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рисунок дерев"/>
          <p:cNvPicPr/>
          <p:nvPr/>
        </p:nvPicPr>
        <p:blipFill>
          <a:blip r:embed="rId3"/>
          <a:stretch/>
        </p:blipFill>
        <p:spPr>
          <a:xfrm>
            <a:off x="6248520" y="1447920"/>
            <a:ext cx="2286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2" dur="3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Номер слайда 5"/>
          <p:cNvSpPr/>
          <p:nvPr/>
        </p:nvSpPr>
        <p:spPr>
          <a:xfrm>
            <a:off x="6553080" y="6134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37B5-6254-4847-9DA0-044DB20C84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ать характеристику зданию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 классифик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7" descr="kark3"/>
          <p:cNvPicPr/>
          <p:nvPr/>
        </p:nvPicPr>
        <p:blipFill>
          <a:blip r:embed="rId1"/>
          <a:stretch/>
        </p:blipFill>
        <p:spPr>
          <a:xfrm>
            <a:off x="228600" y="1523880"/>
            <a:ext cx="4343400" cy="4191120"/>
          </a:xfrm>
          <a:prstGeom prst="rect">
            <a:avLst/>
          </a:prstGeom>
          <a:ln w="0">
            <a:noFill/>
          </a:ln>
        </p:spPr>
      </p:pic>
      <p:sp>
        <p:nvSpPr>
          <p:cNvPr id="334" name="AutoShape 8"/>
          <p:cNvSpPr/>
          <p:nvPr/>
        </p:nvSpPr>
        <p:spPr>
          <a:xfrm>
            <a:off x="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4800600" y="1600200"/>
          <a:ext cx="4343400" cy="4262400"/>
        </p:xfrm>
        <a:graphic>
          <a:graphicData uri="http://schemas.openxmlformats.org/drawingml/2006/table">
            <a:tbl>
              <a:tblPr/>
              <a:tblGrid>
                <a:gridCol w="2317680"/>
                <a:gridCol w="2025720"/>
              </a:tblGrid>
              <a:tr h="6476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назна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та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онструкции ст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особу возве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тепени долговеч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тепени огнестойк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асс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арактеристика здан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 классифик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57200" y="1600200"/>
          <a:ext cx="4343400" cy="3997440"/>
        </p:xfrm>
        <a:graphic>
          <a:graphicData uri="http://schemas.openxmlformats.org/drawingml/2006/table">
            <a:tbl>
              <a:tblPr/>
              <a:tblGrid>
                <a:gridCol w="2317680"/>
                <a:gridCol w="2025720"/>
              </a:tblGrid>
              <a:tr h="6476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назна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ждан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та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этажное с мансард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онструкции ст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элемент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особу возве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индустриа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тепени долговеч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теп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тепени огнестойк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теп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асс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0703-E67A-4767-9737-902EC40390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5486400" y="2514600"/>
            <a:ext cx="29592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52A3-C65E-4C99-A0EA-93F2A35F9F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ать характеристику зданию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 классифик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4" descr="pic_18_1"/>
          <p:cNvPicPr/>
          <p:nvPr/>
        </p:nvPicPr>
        <p:blipFill>
          <a:blip r:embed="rId1"/>
          <a:stretch/>
        </p:blipFill>
        <p:spPr>
          <a:xfrm>
            <a:off x="1238400" y="1685880"/>
            <a:ext cx="666720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7A0C-47E1-464C-97BB-6D951DAE8F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600"/>
                </a:solidFill>
                <a:latin typeface="Arial"/>
              </a:rPr>
              <a:t>Закрепление знан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здания бывают по назначен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называется зданиями, сооружения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какие группы подразделяют зд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ь характеристику зданию по классифик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6C49-862A-440B-93D6-EBFB44D930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600"/>
                </a:solidFill>
                <a:latin typeface="Times New Roman"/>
              </a:rPr>
              <a:t>Список литера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В.А.Неелов  «Архитектурные конструкции зданий»  стр. 3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Ивлиев А.А. Отделочные строительные работы: учебник для нач. проф. образования стр.5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650D-5EC6-43BA-BDF7-CB6023C2FA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дания – это надземная часть предназначенная для отдыха, учебы, работы 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ооружение – это постройка технического назна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3" descr="рисунок госдума"/>
          <p:cNvPicPr/>
          <p:nvPr/>
        </p:nvPicPr>
        <p:blipFill>
          <a:blip r:embed="rId1"/>
          <a:stretch/>
        </p:blipFill>
        <p:spPr>
          <a:xfrm>
            <a:off x="5029200" y="609480"/>
            <a:ext cx="3429000" cy="2362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" descr="сооружения париж"/>
          <p:cNvPicPr/>
          <p:nvPr/>
        </p:nvPicPr>
        <p:blipFill>
          <a:blip r:embed="rId2"/>
          <a:stretch/>
        </p:blipFill>
        <p:spPr>
          <a:xfrm>
            <a:off x="5029200" y="3581280"/>
            <a:ext cx="342900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832F-17D2-4A8F-9925-9E38D62FD91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Comic Sans MS"/>
              </a:rPr>
              <a:t>В 1 веке до н. э. римский архитектор </a:t>
            </a:r>
            <a:br>
              <a:rPr sz="2400"/>
            </a:br>
            <a:r>
              <a:rPr b="0" lang="ru-RU" sz="2400" spc="-1" strike="noStrike">
                <a:solidFill>
                  <a:srgbClr val="0099ff"/>
                </a:solidFill>
                <a:latin typeface="Comic Sans MS"/>
              </a:rPr>
              <a:t>Витруем создал формулу: </a:t>
            </a:r>
            <a:br>
              <a:rPr sz="2400"/>
            </a:br>
            <a:r>
              <a:rPr b="1" lang="ru-RU" sz="2800" spc="-1" strike="noStrike">
                <a:solidFill>
                  <a:srgbClr val="0099ff"/>
                </a:solidFill>
                <a:latin typeface="Comic Sans MS"/>
              </a:rPr>
              <a:t>польза, прочность, красо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Comic Sans MS"/>
              </a:rPr>
              <a:t>Польза</a:t>
            </a:r>
            <a:r>
              <a:rPr b="0" lang="ru-RU" sz="2000" spc="-1" strike="noStrike">
                <a:solidFill>
                  <a:srgbClr val="333399"/>
                </a:solidFill>
                <a:latin typeface="Comic Sans MS"/>
              </a:rPr>
              <a:t> – цель, ради которой создается здание или сооружение, т. е. функциональное предназначени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Comic Sans MS"/>
              </a:rPr>
              <a:t>Прочность</a:t>
            </a:r>
            <a:r>
              <a:rPr b="0" lang="ru-RU" sz="2000" spc="-1" strike="noStrike">
                <a:solidFill>
                  <a:srgbClr val="333399"/>
                </a:solidFill>
                <a:latin typeface="Comic Sans MS"/>
              </a:rPr>
              <a:t> – обязательное условие материального существования зд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Comic Sans MS"/>
              </a:rPr>
              <a:t>Красота</a:t>
            </a:r>
            <a:r>
              <a:rPr b="0" lang="ru-RU" sz="2000" spc="-1" strike="noStrike">
                <a:solidFill>
                  <a:srgbClr val="333399"/>
                </a:solidFill>
                <a:latin typeface="Comic Sans MS"/>
              </a:rPr>
              <a:t> – нужна для удовлетворения наших эстетических потребностей.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3848-3F71-4B19-9D3B-5EC64F4D88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90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600"/>
                </a:solidFill>
                <a:latin typeface="Times New Roman"/>
              </a:rPr>
              <a:t>Требования к здания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8000" y="914040"/>
            <a:ext cx="4384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ba30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ba300a"/>
                </a:solidFill>
                <a:uFillTx/>
                <a:latin typeface="Arial"/>
              </a:rPr>
              <a:t>Капитальность</a:t>
            </a:r>
            <a:r>
              <a:rPr b="0" i="1" lang="ru-RU" sz="1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изуется долговечностью и огнестойк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ba30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ba300a"/>
                </a:solidFill>
                <a:uFillTx/>
                <a:latin typeface="Arial"/>
              </a:rPr>
              <a:t>Долговечность</a:t>
            </a:r>
            <a:r>
              <a:rPr b="0" lang="ru-RU" sz="1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исит от: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прочности основных конструк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качества строительно-монтажных        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 сопряжения конструк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) соблюдения технологических              правил в производстве рабо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ba30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ba300a"/>
                </a:solidFill>
                <a:uFillTx/>
                <a:latin typeface="Arial"/>
              </a:rPr>
              <a:t>Огнестойкость</a:t>
            </a:r>
            <a:r>
              <a:rPr b="0" lang="ru-RU" sz="16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яется степенью возгораемости материалов, применяемых для строительства зданий и пределом стой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ba30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ba300a"/>
                </a:solidFill>
                <a:uFillTx/>
                <a:latin typeface="Arial"/>
              </a:rPr>
              <a:t>Функциональность</a:t>
            </a:r>
            <a:r>
              <a:rPr b="0" lang="ru-RU" sz="16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предназначе-ние зд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ba30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ba300a"/>
                </a:solidFill>
                <a:uFillTx/>
                <a:latin typeface="Arial"/>
              </a:rPr>
              <a:t>Эстетичность</a:t>
            </a:r>
            <a:r>
              <a:rPr b="0" lang="ru-RU" sz="2000" spc="-1" strike="noStrike">
                <a:solidFill>
                  <a:srgbClr val="ba300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удовлетворение наших потреб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ba30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ba300a"/>
                </a:solidFill>
                <a:uFillTx/>
                <a:latin typeface="Arial"/>
              </a:rPr>
              <a:t>Экономичность</a:t>
            </a:r>
            <a:r>
              <a:rPr b="0" lang="ru-RU" sz="20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уменьшение затрат труда, 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2720" y="1218960"/>
            <a:ext cx="4390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a30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ba300a"/>
                </a:solidFill>
                <a:uFillTx/>
                <a:latin typeface="Arial"/>
              </a:rPr>
              <a:t>Технические</a:t>
            </a:r>
            <a:r>
              <a:rPr b="0" lang="ru-RU" sz="16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еспечивают защиту помещений от воздействий внешней среды, а также достаточную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чнос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это способность воспринимать воздействия без разрушения и существенных остаточных деформа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тойчивос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пособность сохранять равновесие при внешних воздействия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лговечнос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значает прочность, устойчивость и сохранность как здания в целом, так и его элементов во времен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гнестойкость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противление воздействию огня (в часах) до потери прочности либо до образования сквозных трещ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3D38-9AF8-41C1-AD28-291E816BF2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зд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о назнач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о эта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о конструкции ст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по способу во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по степени долгове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по степени огнестой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по клас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">
            <a:hlinkClick r:id="rId8" action="ppaction://hlinksldjump"/>
          </p:cNvPr>
          <p:cNvSpPr/>
          <p:nvPr/>
        </p:nvSpPr>
        <p:spPr>
          <a:xfrm>
            <a:off x="228600" y="6095880"/>
            <a:ext cx="662040" cy="609840"/>
          </a:xfrm>
          <a:custGeom>
            <a:avLst/>
            <a:gdLst>
              <a:gd name="textAreaLeft" fmla="*/ 39240 w 662040"/>
              <a:gd name="textAreaRight" fmla="*/ 622800 w 6620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3448" h="21600">
                <a:moveTo>
                  <a:pt x="0" y="0"/>
                </a:moveTo>
                <a:lnTo>
                  <a:pt x="23448" y="0"/>
                </a:lnTo>
                <a:lnTo>
                  <a:pt x="23448" y="21600"/>
                </a:lnTo>
                <a:lnTo>
                  <a:pt x="0" y="21600"/>
                </a:lnTo>
                <a:close/>
              </a:path>
              <a:path fill="lightenLess" w="23448" h="21600">
                <a:moveTo>
                  <a:pt x="0" y="0"/>
                </a:moveTo>
                <a:lnTo>
                  <a:pt x="23448" y="0"/>
                </a:lnTo>
                <a:lnTo>
                  <a:pt x="22048" y="1400"/>
                </a:lnTo>
                <a:lnTo>
                  <a:pt x="1400" y="1400"/>
                </a:lnTo>
                <a:close/>
              </a:path>
              <a:path fill="darken" w="23448" h="21600">
                <a:moveTo>
                  <a:pt x="23448" y="0"/>
                </a:moveTo>
                <a:lnTo>
                  <a:pt x="23448" y="21600"/>
                </a:lnTo>
                <a:lnTo>
                  <a:pt x="22048" y="20200"/>
                </a:lnTo>
                <a:lnTo>
                  <a:pt x="22048" y="1400"/>
                </a:lnTo>
                <a:close/>
              </a:path>
              <a:path fill="darkenLess" w="23448" h="21600">
                <a:moveTo>
                  <a:pt x="234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8" y="20200"/>
                </a:lnTo>
                <a:close/>
              </a:path>
              <a:path fill="lighten" w="234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48" h="21600">
                <a:moveTo>
                  <a:pt x="4717" y="3794"/>
                </a:moveTo>
                <a:lnTo>
                  <a:pt x="18730" y="10800"/>
                </a:lnTo>
                <a:lnTo>
                  <a:pt x="471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60B0-D6BF-4D4D-A112-C7C422E0C1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Organization Chart 7"/>
          <p:cNvGrpSpPr/>
          <p:nvPr/>
        </p:nvGrpSpPr>
        <p:grpSpPr>
          <a:xfrm>
            <a:off x="457200" y="457200"/>
            <a:ext cx="8076960" cy="5667840"/>
            <a:chOff x="457200" y="457200"/>
            <a:chExt cx="8076960" cy="5667840"/>
          </a:xfrm>
        </p:grpSpPr>
        <p:cxnSp>
          <p:nvCxnSpPr>
            <p:cNvPr id="222" name="_s1028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993640" y="3889800"/>
              <a:ext cx="709200" cy="927720"/>
            </a:xfrm>
            <a:prstGeom prst="bentConnector3">
              <a:avLst>
                <a:gd name="adj1" fmla="val 1609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1029"/>
            <p:cNvCxnSpPr>
              <a:stCxn id="226" idx="0"/>
              <a:endCxn id="224" idx="2"/>
            </p:cNvCxnSpPr>
            <p:nvPr/>
          </p:nvCxnSpPr>
          <p:spPr>
            <a:xfrm flipH="1" flipV="1" rot="5400000">
              <a:off x="5066280" y="3889800"/>
              <a:ext cx="709200" cy="928080"/>
            </a:xfrm>
            <a:prstGeom prst="bentConnector3">
              <a:avLst>
                <a:gd name="adj1" fmla="val 1609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1030"/>
            <p:cNvCxnSpPr>
              <a:stCxn id="228" idx="0"/>
              <a:endCxn id="229" idx="2"/>
            </p:cNvCxnSpPr>
            <p:nvPr/>
          </p:nvCxnSpPr>
          <p:spPr>
            <a:xfrm flipV="1" rot="16200000">
              <a:off x="2285280" y="3890520"/>
              <a:ext cx="709200" cy="925920"/>
            </a:xfrm>
            <a:prstGeom prst="bentConnector3">
              <a:avLst>
                <a:gd name="adj1" fmla="val 1609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0" name="_s1031"/>
            <p:cNvCxnSpPr>
              <a:stCxn id="231" idx="0"/>
              <a:endCxn id="229" idx="2"/>
            </p:cNvCxnSpPr>
            <p:nvPr/>
          </p:nvCxnSpPr>
          <p:spPr>
            <a:xfrm flipH="1" flipV="1" rot="5400000">
              <a:off x="1359000" y="3889800"/>
              <a:ext cx="709200" cy="927720"/>
            </a:xfrm>
            <a:prstGeom prst="bentConnector3">
              <a:avLst>
                <a:gd name="adj1" fmla="val 1609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2" name="_s1032"/>
            <p:cNvCxnSpPr>
              <a:stCxn id="233" idx="0"/>
              <a:endCxn id="234" idx="2"/>
            </p:cNvCxnSpPr>
            <p:nvPr/>
          </p:nvCxnSpPr>
          <p:spPr>
            <a:xfrm flipV="1" rot="16200000">
              <a:off x="5994360" y="835920"/>
              <a:ext cx="709200" cy="2784240"/>
            </a:xfrm>
            <a:prstGeom prst="bentConnector3">
              <a:avLst>
                <a:gd name="adj1" fmla="val 1609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5" name="_s1033"/>
            <p:cNvCxnSpPr>
              <a:stCxn id="224" idx="0"/>
              <a:endCxn id="234" idx="2"/>
            </p:cNvCxnSpPr>
            <p:nvPr/>
          </p:nvCxnSpPr>
          <p:spPr>
            <a:xfrm flipV="1" rot="16200000">
              <a:off x="5066280" y="1764000"/>
              <a:ext cx="709200" cy="928080"/>
            </a:xfrm>
            <a:prstGeom prst="bentConnector3">
              <a:avLst>
                <a:gd name="adj1" fmla="val 1609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6" name="_s1034"/>
            <p:cNvCxnSpPr>
              <a:stCxn id="229" idx="0"/>
              <a:endCxn id="234" idx="2"/>
            </p:cNvCxnSpPr>
            <p:nvPr/>
          </p:nvCxnSpPr>
          <p:spPr>
            <a:xfrm flipH="1" flipV="1" rot="5400000">
              <a:off x="3212640" y="838080"/>
              <a:ext cx="709200" cy="2780640"/>
            </a:xfrm>
            <a:prstGeom prst="bentConnector3">
              <a:avLst>
                <a:gd name="adj1" fmla="val 1609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4" name="_s1035"/>
            <p:cNvSpPr/>
            <p:nvPr/>
          </p:nvSpPr>
          <p:spPr>
            <a:xfrm>
              <a:off x="4162320" y="457200"/>
              <a:ext cx="1589400" cy="1416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d1071a"/>
                  </a:solidFill>
                  <a:latin typeface="Arial"/>
                </a:rPr>
                <a:t>по назначени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6"/>
            <p:cNvSpPr/>
            <p:nvPr/>
          </p:nvSpPr>
          <p:spPr>
            <a:xfrm>
              <a:off x="1382400" y="2582640"/>
              <a:ext cx="1589400" cy="1416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ражданск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37"/>
            <p:cNvSpPr/>
            <p:nvPr/>
          </p:nvSpPr>
          <p:spPr>
            <a:xfrm>
              <a:off x="5090040" y="2582640"/>
              <a:ext cx="1589400" cy="1416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производственны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8"/>
            <p:cNvSpPr/>
            <p:nvPr/>
          </p:nvSpPr>
          <p:spPr>
            <a:xfrm>
              <a:off x="6944760" y="2582640"/>
              <a:ext cx="1589400" cy="1416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оч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9"/>
            <p:cNvSpPr/>
            <p:nvPr/>
          </p:nvSpPr>
          <p:spPr>
            <a:xfrm>
              <a:off x="457200" y="4708080"/>
              <a:ext cx="1587960" cy="1416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Жилые -дл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постоянного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или временного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прожива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40"/>
            <p:cNvSpPr/>
            <p:nvPr/>
          </p:nvSpPr>
          <p:spPr>
            <a:xfrm>
              <a:off x="2310120" y="4708080"/>
              <a:ext cx="1587240" cy="1416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Общественные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для социального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обслужива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41"/>
            <p:cNvSpPr/>
            <p:nvPr/>
          </p:nvSpPr>
          <p:spPr>
            <a:xfrm>
              <a:off x="4162320" y="4708080"/>
              <a:ext cx="1589400" cy="1416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Промышле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42"/>
            <p:cNvSpPr/>
            <p:nvPr/>
          </p:nvSpPr>
          <p:spPr>
            <a:xfrm>
              <a:off x="6017040" y="4708080"/>
              <a:ext cx="1589400" cy="1416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100" spc="-1" strike="noStrike">
                  <a:solidFill>
                    <a:srgbClr val="000000"/>
                  </a:solidFill>
                  <a:latin typeface="Arial"/>
                </a:rPr>
                <a:t>Сельскохозяйст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100" spc="-1" strike="noStrike">
                  <a:solidFill>
                    <a:srgbClr val="000000"/>
                  </a:solidFill>
                  <a:latin typeface="Arial"/>
                </a:rPr>
                <a:t>ве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Picture 37" descr="AG_radiotower"/>
          <p:cNvPicPr/>
          <p:nvPr/>
        </p:nvPicPr>
        <p:blipFill>
          <a:blip r:embed="rId1"/>
          <a:stretch/>
        </p:blipFill>
        <p:spPr>
          <a:xfrm>
            <a:off x="304920" y="38088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238" name="AutoShape 38">
            <a:hlinkClick r:id="rId2" action="ppaction://hlinksldjump"/>
          </p:cNvPr>
          <p:cNvSpPr/>
          <p:nvPr/>
        </p:nvSpPr>
        <p:spPr>
          <a:xfrm>
            <a:off x="152280" y="6172200"/>
            <a:ext cx="662040" cy="533520"/>
          </a:xfrm>
          <a:custGeom>
            <a:avLst/>
            <a:gdLst>
              <a:gd name="textAreaLeft" fmla="*/ 34560 w 662040"/>
              <a:gd name="textAreaRight" fmla="*/ 627480 w 662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6800" h="21600">
                <a:moveTo>
                  <a:pt x="0" y="0"/>
                </a:moveTo>
                <a:lnTo>
                  <a:pt x="26800" y="0"/>
                </a:lnTo>
                <a:lnTo>
                  <a:pt x="26800" y="21600"/>
                </a:lnTo>
                <a:lnTo>
                  <a:pt x="0" y="21600"/>
                </a:lnTo>
                <a:close/>
              </a:path>
              <a:path fill="lightenLess" w="26800" h="21600">
                <a:moveTo>
                  <a:pt x="0" y="0"/>
                </a:moveTo>
                <a:lnTo>
                  <a:pt x="26800" y="0"/>
                </a:lnTo>
                <a:lnTo>
                  <a:pt x="25400" y="1400"/>
                </a:lnTo>
                <a:lnTo>
                  <a:pt x="1400" y="1400"/>
                </a:lnTo>
                <a:close/>
              </a:path>
              <a:path fill="darken" w="26800" h="21600">
                <a:moveTo>
                  <a:pt x="26800" y="0"/>
                </a:moveTo>
                <a:lnTo>
                  <a:pt x="26800" y="21600"/>
                </a:lnTo>
                <a:lnTo>
                  <a:pt x="25400" y="20200"/>
                </a:lnTo>
                <a:lnTo>
                  <a:pt x="25400" y="1400"/>
                </a:lnTo>
                <a:close/>
              </a:path>
              <a:path fill="darkenLess" w="26800" h="21600">
                <a:moveTo>
                  <a:pt x="2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00" y="20200"/>
                </a:lnTo>
                <a:close/>
              </a:path>
              <a:path fill="lighten" w="2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00" h="21600">
                <a:moveTo>
                  <a:pt x="13400" y="3837"/>
                </a:moveTo>
                <a:lnTo>
                  <a:pt x="15976" y="6448"/>
                </a:lnTo>
                <a:lnTo>
                  <a:pt x="15976" y="4707"/>
                </a:lnTo>
                <a:lnTo>
                  <a:pt x="17752" y="4707"/>
                </a:lnTo>
                <a:lnTo>
                  <a:pt x="17752" y="8224"/>
                </a:lnTo>
                <a:lnTo>
                  <a:pt x="20363" y="10800"/>
                </a:lnTo>
                <a:lnTo>
                  <a:pt x="18709" y="10800"/>
                </a:lnTo>
                <a:lnTo>
                  <a:pt x="18709" y="17989"/>
                </a:lnTo>
                <a:lnTo>
                  <a:pt x="8091" y="17989"/>
                </a:lnTo>
                <a:lnTo>
                  <a:pt x="8091" y="10800"/>
                </a:lnTo>
                <a:lnTo>
                  <a:pt x="6437" y="10800"/>
                </a:lnTo>
                <a:close/>
              </a:path>
              <a:path fill="darkenLess" w="26800" h="21600">
                <a:moveTo>
                  <a:pt x="15976" y="6448"/>
                </a:moveTo>
                <a:lnTo>
                  <a:pt x="15976" y="4707"/>
                </a:lnTo>
                <a:lnTo>
                  <a:pt x="17752" y="4707"/>
                </a:lnTo>
                <a:lnTo>
                  <a:pt x="17752" y="8224"/>
                </a:lnTo>
                <a:close/>
              </a:path>
              <a:path fill="darkenLess" w="26800" h="21600">
                <a:moveTo>
                  <a:pt x="12477" y="14299"/>
                </a:moveTo>
                <a:lnTo>
                  <a:pt x="14322" y="14299"/>
                </a:lnTo>
                <a:lnTo>
                  <a:pt x="14322" y="17989"/>
                </a:lnTo>
                <a:lnTo>
                  <a:pt x="18709" y="17989"/>
                </a:lnTo>
                <a:lnTo>
                  <a:pt x="18709" y="10800"/>
                </a:lnTo>
                <a:lnTo>
                  <a:pt x="8091" y="10800"/>
                </a:lnTo>
                <a:lnTo>
                  <a:pt x="8091" y="17989"/>
                </a:lnTo>
                <a:lnTo>
                  <a:pt x="124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5204-9C2F-4AD0-BBD2-AB50785B00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Organization Chart 12"/>
          <p:cNvGrpSpPr/>
          <p:nvPr/>
        </p:nvGrpSpPr>
        <p:grpSpPr>
          <a:xfrm>
            <a:off x="457200" y="152280"/>
            <a:ext cx="8152560" cy="3123360"/>
            <a:chOff x="457200" y="152280"/>
            <a:chExt cx="8152560" cy="3123360"/>
          </a:xfrm>
        </p:grpSpPr>
        <p:cxnSp>
          <p:nvCxnSpPr>
            <p:cNvPr id="241" name="_s2052"/>
            <p:cNvCxnSpPr>
              <a:stCxn id="242" idx="0"/>
              <a:endCxn id="243" idx="2"/>
            </p:cNvCxnSpPr>
            <p:nvPr/>
          </p:nvCxnSpPr>
          <p:spPr>
            <a:xfrm flipV="1" rot="16200000">
              <a:off x="5807160" y="126720"/>
              <a:ext cx="625320" cy="3173040"/>
            </a:xfrm>
            <a:prstGeom prst="bentConnector3">
              <a:avLst>
                <a:gd name="adj1" fmla="val 1826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4" name="_s2053"/>
            <p:cNvCxnSpPr>
              <a:stCxn id="245" idx="0"/>
              <a:endCxn id="243" idx="2"/>
            </p:cNvCxnSpPr>
            <p:nvPr/>
          </p:nvCxnSpPr>
          <p:spPr>
            <a:xfrm flipV="1" rot="16200000">
              <a:off x="4749120" y="1184760"/>
              <a:ext cx="625320" cy="1057320"/>
            </a:xfrm>
            <a:prstGeom prst="bentConnector3">
              <a:avLst>
                <a:gd name="adj1" fmla="val 1826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6" name="_s2054"/>
            <p:cNvCxnSpPr>
              <a:stCxn id="247" idx="0"/>
              <a:endCxn id="243" idx="2"/>
            </p:cNvCxnSpPr>
            <p:nvPr/>
          </p:nvCxnSpPr>
          <p:spPr>
            <a:xfrm flipH="1" flipV="1" rot="5400000">
              <a:off x="3693600" y="1185480"/>
              <a:ext cx="625320" cy="1055880"/>
            </a:xfrm>
            <a:prstGeom prst="bentConnector3">
              <a:avLst>
                <a:gd name="adj1" fmla="val 1826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8" name="_s2055"/>
            <p:cNvCxnSpPr>
              <a:stCxn id="249" idx="0"/>
              <a:endCxn id="243" idx="2"/>
            </p:cNvCxnSpPr>
            <p:nvPr/>
          </p:nvCxnSpPr>
          <p:spPr>
            <a:xfrm flipH="1" flipV="1" rot="5400000">
              <a:off x="2635920" y="127800"/>
              <a:ext cx="625320" cy="3171600"/>
            </a:xfrm>
            <a:prstGeom prst="bentConnector3">
              <a:avLst>
                <a:gd name="adj1" fmla="val 1826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2056"/>
            <p:cNvSpPr/>
            <p:nvPr/>
          </p:nvSpPr>
          <p:spPr>
            <a:xfrm>
              <a:off x="3628080" y="152280"/>
              <a:ext cx="1811520" cy="12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1071a"/>
                  </a:solidFill>
                  <a:latin typeface="Arial"/>
                </a:rPr>
                <a:t>по этаж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57"/>
            <p:cNvSpPr/>
            <p:nvPr/>
          </p:nvSpPr>
          <p:spPr>
            <a:xfrm>
              <a:off x="457200" y="2026440"/>
              <a:ext cx="1811520" cy="12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Малоэтажн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( до 5 этажей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58"/>
            <p:cNvSpPr/>
            <p:nvPr/>
          </p:nvSpPr>
          <p:spPr>
            <a:xfrm>
              <a:off x="2570760" y="2026440"/>
              <a:ext cx="1811520" cy="12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Средне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этажност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(от 5 до 12 этажей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2059"/>
            <p:cNvSpPr/>
            <p:nvPr/>
          </p:nvSpPr>
          <p:spPr>
            <a:xfrm>
              <a:off x="4684680" y="2026440"/>
              <a:ext cx="1811520" cy="12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Многоэтажн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(от 12 до 16 этажей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2060"/>
            <p:cNvSpPr/>
            <p:nvPr/>
          </p:nvSpPr>
          <p:spPr>
            <a:xfrm>
              <a:off x="6798240" y="2026440"/>
              <a:ext cx="1811520" cy="12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Высотн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( более 16 этажей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Picture 21" descr="рисунок раз"/>
          <p:cNvPicPr/>
          <p:nvPr/>
        </p:nvPicPr>
        <p:blipFill>
          <a:blip r:embed="rId1"/>
          <a:stretch/>
        </p:blipFill>
        <p:spPr>
          <a:xfrm>
            <a:off x="6988320" y="3505320"/>
            <a:ext cx="1666800" cy="23619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2" descr="рисунок адм"/>
          <p:cNvPicPr/>
          <p:nvPr/>
        </p:nvPicPr>
        <p:blipFill>
          <a:blip r:embed="rId2"/>
          <a:stretch/>
        </p:blipFill>
        <p:spPr>
          <a:xfrm>
            <a:off x="2743200" y="3581280"/>
            <a:ext cx="1905120" cy="22100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3" descr="kark1"/>
          <p:cNvPicPr/>
          <p:nvPr/>
        </p:nvPicPr>
        <p:blipFill>
          <a:blip r:embed="rId3"/>
          <a:stretch/>
        </p:blipFill>
        <p:spPr>
          <a:xfrm>
            <a:off x="457200" y="3581280"/>
            <a:ext cx="1981080" cy="221004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24">
            <a:hlinkClick r:id="rId4" action="ppaction://hlinksldjump"/>
          </p:cNvPr>
          <p:cNvSpPr/>
          <p:nvPr/>
        </p:nvSpPr>
        <p:spPr>
          <a:xfrm>
            <a:off x="228600" y="6400800"/>
            <a:ext cx="509760" cy="457200"/>
          </a:xfrm>
          <a:custGeom>
            <a:avLst/>
            <a:gdLst>
              <a:gd name="textAreaLeft" fmla="*/ 29520 w 509760"/>
              <a:gd name="textAreaRight" fmla="*/ 480240 w 509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4081" h="21600">
                <a:moveTo>
                  <a:pt x="0" y="0"/>
                </a:moveTo>
                <a:lnTo>
                  <a:pt x="24081" y="0"/>
                </a:lnTo>
                <a:lnTo>
                  <a:pt x="24081" y="21600"/>
                </a:lnTo>
                <a:lnTo>
                  <a:pt x="0" y="21600"/>
                </a:lnTo>
                <a:close/>
              </a:path>
              <a:path fill="lightenLess" w="24081" h="21600">
                <a:moveTo>
                  <a:pt x="0" y="0"/>
                </a:moveTo>
                <a:lnTo>
                  <a:pt x="24081" y="0"/>
                </a:lnTo>
                <a:lnTo>
                  <a:pt x="22681" y="1400"/>
                </a:lnTo>
                <a:lnTo>
                  <a:pt x="1400" y="1400"/>
                </a:lnTo>
                <a:close/>
              </a:path>
              <a:path fill="darken" w="24081" h="21600">
                <a:moveTo>
                  <a:pt x="24081" y="0"/>
                </a:moveTo>
                <a:lnTo>
                  <a:pt x="24081" y="21600"/>
                </a:lnTo>
                <a:lnTo>
                  <a:pt x="22681" y="20200"/>
                </a:lnTo>
                <a:lnTo>
                  <a:pt x="22681" y="1400"/>
                </a:lnTo>
                <a:close/>
              </a:path>
              <a:path fill="darkenLess" w="24081" h="21600">
                <a:moveTo>
                  <a:pt x="24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81" y="20200"/>
                </a:lnTo>
                <a:close/>
              </a:path>
              <a:path fill="lighten" w="24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81" h="21600">
                <a:moveTo>
                  <a:pt x="12041" y="3837"/>
                </a:moveTo>
                <a:lnTo>
                  <a:pt x="14617" y="6448"/>
                </a:lnTo>
                <a:lnTo>
                  <a:pt x="14617" y="4707"/>
                </a:lnTo>
                <a:lnTo>
                  <a:pt x="16392" y="4707"/>
                </a:lnTo>
                <a:lnTo>
                  <a:pt x="16392" y="8224"/>
                </a:lnTo>
                <a:lnTo>
                  <a:pt x="19004" y="10800"/>
                </a:lnTo>
                <a:lnTo>
                  <a:pt x="17350" y="10800"/>
                </a:lnTo>
                <a:lnTo>
                  <a:pt x="17350" y="17989"/>
                </a:lnTo>
                <a:lnTo>
                  <a:pt x="6731" y="17989"/>
                </a:lnTo>
                <a:lnTo>
                  <a:pt x="6731" y="10800"/>
                </a:lnTo>
                <a:lnTo>
                  <a:pt x="5078" y="10800"/>
                </a:lnTo>
                <a:close/>
              </a:path>
              <a:path fill="darkenLess" w="24081" h="21600">
                <a:moveTo>
                  <a:pt x="14617" y="6448"/>
                </a:moveTo>
                <a:lnTo>
                  <a:pt x="14617" y="4707"/>
                </a:lnTo>
                <a:lnTo>
                  <a:pt x="16392" y="4707"/>
                </a:lnTo>
                <a:lnTo>
                  <a:pt x="16392" y="8224"/>
                </a:lnTo>
                <a:close/>
              </a:path>
              <a:path fill="darkenLess" w="24081" h="21600">
                <a:moveTo>
                  <a:pt x="11118" y="14299"/>
                </a:moveTo>
                <a:lnTo>
                  <a:pt x="12963" y="14299"/>
                </a:lnTo>
                <a:lnTo>
                  <a:pt x="12963" y="17989"/>
                </a:lnTo>
                <a:lnTo>
                  <a:pt x="17350" y="17989"/>
                </a:lnTo>
                <a:lnTo>
                  <a:pt x="17350" y="10800"/>
                </a:lnTo>
                <a:lnTo>
                  <a:pt x="6731" y="10800"/>
                </a:lnTo>
                <a:lnTo>
                  <a:pt x="6731" y="17989"/>
                </a:lnTo>
                <a:lnTo>
                  <a:pt x="1111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7" descr="plai1[1]"/>
          <p:cNvPicPr/>
          <p:nvPr/>
        </p:nvPicPr>
        <p:blipFill>
          <a:blip r:embed="rId5"/>
          <a:stretch/>
        </p:blipFill>
        <p:spPr>
          <a:xfrm>
            <a:off x="4800600" y="358128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6AA6-E51B-4DAC-8E31-3827E71E7C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071a"/>
                </a:solidFill>
                <a:latin typeface="Arial"/>
              </a:rPr>
              <a:t>По конструктивному решению здания делятся на</a:t>
            </a:r>
            <a:r>
              <a:rPr b="0" lang="en-US" sz="3600" spc="-1" strike="noStrike">
                <a:solidFill>
                  <a:srgbClr val="d1071a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лкоэлемен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упноэлемен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оли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6" descr="fasad[1]"/>
          <p:cNvPicPr/>
          <p:nvPr/>
        </p:nvPicPr>
        <p:blipFill>
          <a:blip r:embed="rId1"/>
          <a:stretch/>
        </p:blipFill>
        <p:spPr>
          <a:xfrm>
            <a:off x="5029200" y="1523880"/>
            <a:ext cx="2362320" cy="1946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sb_mech9[1]"/>
          <p:cNvPicPr/>
          <p:nvPr/>
        </p:nvPicPr>
        <p:blipFill>
          <a:blip r:embed="rId2"/>
          <a:stretch/>
        </p:blipFill>
        <p:spPr>
          <a:xfrm>
            <a:off x="6172200" y="3276720"/>
            <a:ext cx="2595600" cy="2003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16[2]"/>
          <p:cNvPicPr/>
          <p:nvPr/>
        </p:nvPicPr>
        <p:blipFill>
          <a:blip r:embed="rId3"/>
          <a:stretch/>
        </p:blipFill>
        <p:spPr>
          <a:xfrm>
            <a:off x="3809880" y="5181480"/>
            <a:ext cx="3024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митриенко Марина Ивановна</dc:creator>
  <dc:description/>
  <dc:language>en-US</dc:language>
  <cp:lastModifiedBy>User</cp:lastModifiedBy>
  <dcterms:modified xsi:type="dcterms:W3CDTF">2016-10-16T06:57:19Z</dcterms:modified>
  <cp:revision>67</cp:revision>
  <dc:subject>Строительство</dc:subject>
  <dc:title>Основные сведения о зданиях и сооружения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