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FBD-7393-4CFD-AE67-3CBBFF29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037-786E-4348-9D52-CB6D47F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9DD-6030-4A18-A558-C472550C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F3A-CB66-410F-B83D-76D07629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244-C669-4DCF-BACC-5E3B4C9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A46-51F2-4F4E-9C43-0187C1B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48B-EB5A-4C02-9900-1D62288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021-7D7F-4671-8C75-FB29881D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F7A-49D7-4731-ABE6-BC802A00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AD2-6B74-4A1F-9F9E-11C7800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39A-6A2C-4CC5-8620-4935A8F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000-F7D8-4E98-9AE9-23F406A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974-9DFB-4F11-AD6C-4CBE254D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иление деревян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онструкц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отмеченных методов для защиты древесины от биологических вредителей могут применяться методы радиоактивного облучения, газовой дезинфекции и дезинфекции горячим воздухом, биохимические методы борь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по антисептированию рекомендуется проводить в весенний или летний период, т.к. в это время личинки жучков подходят к поверхности пораженной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ая 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ревянных конструкций от возгорания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типир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гнезащитными составам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ной кислотой, бурой, сульфатом аммо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 Огнезащитные составы наносятся пневмораспылителями или кистями. Для комбинирования защиты деревянных конструкций от возгорания и  гниения  в огнезащитные составы  могут добавляться антисептики,  которые не снижают огнезащитных свойств 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методы усиления деревянных констру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рабочих  элементов новыми деревянными  или металлическ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частей элементов или конструкций протез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ка добавочных элементов или конструкций без  изменения схемы работы констр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схемы работы констр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поврежденных 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уществляется  установкой новых деревянных или металлических стержней. Замене подлежат обычно перенапряженные, сильно деформированные или имеющие значительные повреждения в пролетной части деревянные  элементы, главным образом,  сквозных конструкций. Сжатые элементы заменяются деревянными, а растянутые элементы предпочтительнее заме­нять ста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ка дополнительных элементов и констру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изменения  схемы  работы конструкции (увеличением сечения) осущест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путем  установки  рядом с существующей конструкцией но­вой,  которая может быть аналогична усиленной, а может быть отличной от нее. По мере необходимости старый и новый элемент мо­гут быть соединены на болтах или гвозд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утем установки в узловых соединениях добавочного коли­чества болтов или гвоздей.  Этот способ эффективен в тех случа­ях,  когда  имеется достаточно места для правильной расстановки добавочных болтов или гвоздей.  Если  новые  болты  или  гвозди воспринимают не менее 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действующего усилия, то их допускается устанавливать без разгрузки ко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реплением  накладок или прокладок. Этот способ применя­ют для повышения устойчивости сжатых, повышения жесткости изги­баемых, а также увеличения прочности имеющих дефекты растянутых и изгибаемых деревянных элементов. Размеры накладок и прокладок определяются расчетом для каждого конкретного случ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установкой параллельно дефектному растянутому  элементу к  усиливаемым  деревянным элементам дополни­тельных деревя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яжных хомутов или стальных тяжей. Симметричной постановкой  стальных тяжей усиливают стропильные фермы с перенапряженным нижним поя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изменением схемы работы конструк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ироко приме­няется в строительной практике.  Способы изменения схемы работы конструкции  разнообразны  и зависят от многих факторов,  в том числе от вида строительной  конструкции, напряженного  состояния, габаритов  помещ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усиления  наряду с деревянными  широко применяются стальные элементы: арматурная и круглая сталь, фасонный про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элементов деревянных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ешивание деревянного дома для замены деревянных стульев на бетонные стол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домк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подводимые столбы фунда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- сж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К усиление"/>
          <p:cNvPicPr/>
          <p:nvPr/>
        </p:nvPicPr>
        <p:blipFill>
          <a:blip r:embed="rId1"/>
          <a:srcRect l="9180" t="9966" r="49654" b="6982"/>
          <a:stretch/>
        </p:blipFill>
        <p:spPr>
          <a:xfrm>
            <a:off x="1042920" y="1557360"/>
            <a:ext cx="440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и усиление фундаментов и цоколей деревянных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более часто применяемый вид усиления деревянных стульев и фундаментных балок - замена их на бетонные элементы. Для это­го  здание  вывешивают на высоту 5...10 см с помощью домкратов, подводимых под нижний венец или обвязку сте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период замены фундаментов стены здания поддерживают сж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есенная на 1 п.м нагрузка от наружных продольных стен составляет в среднем 2,2...2,3 т/м для одноэтажного и 3,5...3,6 т/м для двухэтажного здания,  отсюда при расстановке  домкратов через 4 м грузоподъемность домкратов соответственно составит 10 т и 15 т. Бетон фундамента укладывают на песчано-гравийную подготовку, не доводя верх на 5...6 см до низа окладного венца или стен. Устраивается цементная стяжка, слой гидроизоляции, укладывается в зазор просмоленная и завернутая в толь доска. Домкраты  разгружаются после  набора бетоном необходимой прочности.  В цоколе по периметру устанавливаются продухи размером 15...20 см, с шагом 4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с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леные стены усиливаются установкой сжимов. Диаметр болтов принимается не менее 16 мм, шаг болтов 1...1,2 м. Отверстия для болтов  должны  быть  овальными  для  восприятия  возможных  осадок. Воздухопроницаемость и  промерзание  рубленых  стен  могут быть  снижены с помощью обшивки из досок толщиной 13...19 мм по брускам 50*50 или 50*70 мм.  Соединение досок выполняют в паз или в греб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вешивание рубленых с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40360" y="1341000"/>
            <a:ext cx="289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кронштейнов и домкр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через оконные про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мачтовых кр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меняемые в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–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клин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ле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ДК усиление 001"/>
          <p:cNvPicPr/>
          <p:nvPr/>
        </p:nvPicPr>
        <p:blipFill>
          <a:blip r:embed="rId1"/>
          <a:srcRect l="52986" t="7195" r="4519" b="31823"/>
          <a:stretch/>
        </p:blipFill>
        <p:spPr>
          <a:xfrm>
            <a:off x="468360" y="105408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е конструкции  широко применялись в старых жилых, общественных и реже промышленных зданиях. Основная область применения конструкций из дерева - покрытия с наружным отводом атмосферных вод и междуэтажные перекр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использования  древесины  в крупных зданиях связа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й зависимостью долговечности древесины от усло- вий эксплуа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ой пожароопас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льно невысокой проч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ю деревян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,  в области малоэтажного строительства древесина остается одним из основ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ение деревянных конструкций чаще всего связано с гниением  и действием энтомологических разрушителей.  Реже усиление вызывается силовыми и механическими повреждениями, некачественным выполнением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ДК усиление 001"/>
          <p:cNvPicPr/>
          <p:nvPr/>
        </p:nvPicPr>
        <p:blipFill>
          <a:blip r:embed="rId1"/>
          <a:srcRect l="2554" t="60629" r="75281" b="16626"/>
          <a:stretch/>
        </p:blipFill>
        <p:spPr>
          <a:xfrm>
            <a:off x="826920" y="836640"/>
            <a:ext cx="2953080" cy="2886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429264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на рубленых венцов каменной клад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пакля; 2 – отливная доска; 3 – штукатурный слой; 4 – фундамент; 5 – подоконный венец; 6 – подоконная доска; 7 – толь; 8 – кладка из бетонных блоков; 9 – уровень чистого пола; 10 – слой гидроизоляции (то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ДК усиление 002"/>
          <p:cNvPicPr/>
          <p:nvPr/>
        </p:nvPicPr>
        <p:blipFill>
          <a:blip r:embed="rId2"/>
          <a:srcRect l="55861" t="16259" r="7310" b="26125"/>
          <a:stretch/>
        </p:blipFill>
        <p:spPr>
          <a:xfrm>
            <a:off x="5148360" y="333360"/>
            <a:ext cx="309240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611280" y="400536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шивание рубленой стены с помощью коротких парных схваток и подкосов при смене поврежденного гнилью окладного ве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иление сто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ые повреждения  деревянных стоек - это загнивание в нижней части, особенно, если они заделаны в грунт. Усиление производится пасынками, т.е. короткими вспомогательными стойками,  устанавливаемыми рядом с усиливаемыми и скрепляемыми с  ними при помощи болтов и хомуто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епление стойки подпор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ыв ямы, и удаление загнившей части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ка пасынков, скреп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сыпка я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лаблении стоек усушенными трещинами, пороками произрастания,  механическими повреждениями  их  усиливают  болтами, рассчитанными  на восприятие сдвигающих усилий,  или накладками на болтах или гвоздях.  Продольный изгиб стоек устраняется усилением накладками с соединением на болтах, работающих на растя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кладки при этом до опор не довод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rcRect l="32905" t="39180" r="28853" b="30403"/>
          <a:stretch/>
        </p:blipFill>
        <p:spPr>
          <a:xfrm>
            <a:off x="1042920" y="404640"/>
            <a:ext cx="727236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деревянных стоек при загнивании конца (а) и  искривлении (б): 1 – усиливаемая стойка; 2 – усиливающие стойки (пасынки и накладки); 3 – удаляемая часть стойки; 4 – обмотка из проволоки; 5 - бол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характерным повреждением балок перекрытий и стропильных  ног  является загнивание их по концам на 30...80 см от поверхности стены и реже загнивание в про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ростым способом усиления в этом случае  является постановка  опорных  элементов - стоек,  подкосов и пр.  При этом усилие должно передаваться в надежное перекрытие или на  фундаменты. Ввиду вмешательства в планировочное решение зданий опорные элементы применяются как временные кре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замена  поврежденной  балки на новую, с эквивалентными характеристиками.  Практикуется замена сгнивших концов балок накладками, подбалками, надбалками, стальными  протез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 повреждении  в пролете балки также могут быть усилены пролетными накладками и протезами.  Длину протезов принимают на 10%  больше  двойной  длины  обрезанного  конца  балки.  Применяются швеллеры N 20...30 для балок междуэтажных перекрытий и N 12...16 для по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балок в середине про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59092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, б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ревянными накладками на бол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утковым прот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К усиление 003"/>
          <p:cNvPicPr/>
          <p:nvPr/>
        </p:nvPicPr>
        <p:blipFill>
          <a:blip r:embed="rId1"/>
          <a:srcRect l="4519" t="0" r="47266" b="9501"/>
          <a:stretch/>
        </p:blipFill>
        <p:spPr>
          <a:xfrm>
            <a:off x="3635280" y="907920"/>
            <a:ext cx="4730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а сгнивших концов балок деревянными накладками (а) и стальными протезами (б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деревянная балка; 2 – деревянные накладки; 3 – болты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деревянная прокладка, закрепляемая гвоздям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– швеллеры; 6 – хомут из полосовой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20753" t="20917" r="55523" b="62226"/>
          <a:stretch/>
        </p:blipFill>
        <p:spPr>
          <a:xfrm>
            <a:off x="1042920" y="2133720"/>
            <a:ext cx="7416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с помощью подвесок (а) и коротышей (б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гнивший конец балки; 2 – стальная тяга; 3 – коротыш; 4 болт диаметром 16-20 мм; 5 – деревянный прог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20698" t="56250" r="59952" b="29196"/>
          <a:stretch/>
        </p:blipFill>
        <p:spPr>
          <a:xfrm>
            <a:off x="1332000" y="2324160"/>
            <a:ext cx="6696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пластмассовым прот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она опорного конца балки с различной степенью повреждения гнилью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конец балки, зачищенный от гнили ( в здоровой части просверлены отверстия под стеклопластиковую арматуру)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вклеивание стеклопластиковой арматуры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ид пластмассового пр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60591" t="12768" r="4990" b="38761"/>
          <a:stretch/>
        </p:blipFill>
        <p:spPr>
          <a:xfrm>
            <a:off x="1835280" y="1484280"/>
            <a:ext cx="532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силения  загнивших  опорных  частей  балок эффективно применение полимерных сост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есина опорной  части  подразделяется на три зон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зона разрушенной древесины, не обладающая несущей способностью; 2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на частично поврежденной древесины, облада­ющей некоторой несущей способностью, но недостаточной для экс­плуатацион-ных  целей; 3 - зона  здоровой 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ревянной балке под некоторым углом просверливаются отверстия, выходящие на зону 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ушенная зона удаляется, в отверстие вставляются стержни из стеклопластика, содержащего 65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текловолокна и 35% ненасыщенной полиэфир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лость зоны 1 и отверстия заполняют составом на основе модифицированной эпоксид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ла проникает в поры  древесины,  укрепляя  ее  и  обеспечивая сцепление  арматурных  стержней с древесиной.  Совместная работа арматуры и древесины основана  на  близости  физико-механических свойств.  Данным  методом  усиливаются и другие части деревянных конструкций.  Достоинством метода является  сохранение  внешнего вида конструкции,  арматура не создает мостиков холода, следовательно, не вызывает образование конденс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 преобразованием в шпренгельную систему или в балку составного поперечного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58920" y="1700280"/>
            <a:ext cx="3476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– система со шпренгелем сверху; б – со стальным шпренгелем снизу; в – балка составного сечения; 1 – наклонные трещины; 2 – накладка из полосовой стали; 3 – стальной шпрен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ДК усиление 004"/>
          <p:cNvPicPr/>
          <p:nvPr/>
        </p:nvPicPr>
        <p:blipFill>
          <a:blip r:embed="rId1"/>
          <a:srcRect l="54380" t="8993" r="21248" b="22592"/>
          <a:stretch/>
        </p:blipFill>
        <p:spPr>
          <a:xfrm>
            <a:off x="684360" y="1484280"/>
            <a:ext cx="3808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щита деревянных конструкци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гниения и  возгор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летний опыт эксплуатации показал, что при отсутствии увлажнения, проветривании, систематической защите от гниения деревянные конструкции обеспечивают длительный срок  безопас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иение древесины происходит при влажности более 25%, температуре от -3 до +35...70°С, застойном воздухе и заражении ее гриб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защиты подразделяются на конструктивные мероприятия и химическую за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стропильных ног подкосами, опирающимися на пере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08720" y="2133720"/>
            <a:ext cx="3178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усиливаемый конец стропильной ног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гвозд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подко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- л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ДК усиление 004"/>
          <p:cNvPicPr/>
          <p:nvPr/>
        </p:nvPicPr>
        <p:blipFill>
          <a:blip r:embed="rId1"/>
          <a:srcRect l="10852" t="7105" r="60923" b="28150"/>
          <a:stretch/>
        </p:blipFill>
        <p:spPr>
          <a:xfrm>
            <a:off x="611280" y="1484280"/>
            <a:ext cx="4187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опорного узла фермы на лобовых врубках от скал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ДК усиление 005"/>
          <p:cNvPicPr/>
          <p:nvPr/>
        </p:nvPicPr>
        <p:blipFill>
          <a:blip r:embed="rId1"/>
          <a:srcRect l="3785" t="51686" r="53986" b="13127"/>
          <a:stretch/>
        </p:blipFill>
        <p:spPr>
          <a:xfrm>
            <a:off x="1258920" y="1557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сжатого раскоса стропильной фермы встречным растянутым раск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монтируемый деревянный раскос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тяж усиления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ременная стойка для передачи узловой нагрузки с верхнего пояса на ниж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ехнологичность 1 011"/>
          <p:cNvPicPr/>
          <p:nvPr/>
        </p:nvPicPr>
        <p:blipFill>
          <a:blip r:embed="rId1"/>
          <a:srcRect l="0" t="7382" r="54712" b="35249"/>
          <a:stretch/>
        </p:blipFill>
        <p:spPr>
          <a:xfrm>
            <a:off x="2268360" y="1268280"/>
            <a:ext cx="48960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труктивные мероприятия защиты древесины от гниения и возгор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гни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отвода воды, размещение деревянных элементов и конструкций так, чтобы не попадали брызги воды. Нижняя отметка  расположения деревянных элементов должна не менее чем на 30 см. превышать отметку поверхности гру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го проветривания сырых поме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идроизоляционных прокладок в местах соприкасания древесины с другими материалами для предотвращения ее от увлажнения капиллярной  влагой.  Гидроизоляционные материалы не должны иметь швов, или должны в местах сты­кования соединяться на кле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й толщины теплоизоляционных слоев ограждающих конструкций и правильное чередование тепло- и паро-изоляционных слоев в них для исключения возможнос­ти образования конденс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озгор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шивка листовыми огнезащитными материалами (цементно-стружечными плитами,  асбестоцементными плитами с кремнеземистой добавкой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штукатур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ы, применяемые для химической защиты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гозащитные лаки и эма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езащитные краски и обма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окрасочные составы в жидком виде наносятся тонким слоем кистью  или опрыскивателем на поверхность защищаемого элемента. Образующаяся при этом защитная пленка обладает паро- и влаго-непроницаемостью, гидрофобностью и другими защитными свойствами, например, стойкостью к истир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лакокрасочным материалам относя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и пентафталевые и уретан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али уретановые, пентафталевые и меламиноалкидные и перхлор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иловые;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ы на основе эпоксидных см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о-силикатные сост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 наносятся на поверхность древесины напылением, окрашиванием, пропиткой, инъецир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тка эксплуатируемых  деревянных конструкций элементов производ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иллярной пропи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ом устройства подвесных и подставных ван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ъециров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ванием в отверс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ой вспененными соста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иллярной пропит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верхность  детали  покрывается непроницаемой оболочкой, например, из полиэтиленовой пленки. По контуру на ней пленка крепится рейками или планками, швы герметизируются клеем или липкой лентой. В пространства между непроницаемой оболочкой и поверхностью древесины дозировано подается пропиточная жидкость.  Метод может быть использован для пропитки рубленых 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тод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авных  и  подвесных ва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круг элемента создается оболочка в форме ванны, заполняемая  впоследствии пропиточной жидкостью.  Ванна 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дста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 опирается  на  грунт или  ниже расположенные конструкци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е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если  подвеш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нъециров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питочная жидкость с помощью специального пистолета, снабженного шприцем или полой иглой, вводится под давлением 0,1...0,3 МПа. Игла обычно вводится поперек вол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янные конструкции, не имеющие доступа со всех сторон, пропитываются вливанием инсектици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сверленные  отверс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Пропиточные составы подаются под давлением или без него. Диаметр отверстия составляет 10...15 мм, а расстояние между отверстиями составляет при подаче без давления 15-30 см, под давлением - 50 - 60 см. Глубина отверстий составляет (2/3...3/4) толщины элемента. После пропитки просверленные отверстия заделываются проб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работ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ененными состав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енивание достигается применением поверхностно - активных веществ. Вспениванию могут  подвергаться водные растворы химических защитных составов (фунгизита, инсектицида или комбинаций солей с различными  защитными свойствами) весьма  высокой  концентрации - до 3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%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м исходного раствора  и  объем  пены  могут  находиться  в  соотношении до 1:30. Метод, ввиду технологичности и высокоэффективности, является весьма  персп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древесины, эксплуатирующейся в условиях повышенной влажности, может быть осуществлена нанес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септических па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одержащих антисептик (фтористый натрий, буру) и связующие материалы (каменноугольные лаки,  поливинилацетатные эмульсии  и  др.). Пасты наносятся как с последующей дополнительной гидроизоляцией, так и без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09:38Z</dcterms:created>
  <dc:creator>User</dc:creator>
  <dc:description/>
  <dc:language>en-US</dc:language>
  <cp:lastModifiedBy>Admin</cp:lastModifiedBy>
  <dcterms:modified xsi:type="dcterms:W3CDTF">2010-11-29T06:24:33Z</dcterms:modified>
  <cp:revision>28</cp:revision>
  <dc:subject/>
  <dc:title>Слайд 1</dc:title>
</cp:coreProperties>
</file>