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C9C4-5332-4842-B11A-2C626363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D326-B18A-48D5-9C2D-D6A17C71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FACB-76CD-4830-93BF-79A656384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359E-59E3-46CE-A424-DCBEED18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88D6-3CC5-43D2-927C-55C021F4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450C-3CD6-4587-853B-34E4A44D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AE5C-F97E-46A3-A760-E1FFCA03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FC68-44B8-4370-821A-5E6B38B3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9138-3D6D-476A-B99F-1309604C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9976-D198-416E-AFDC-56D1C728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03AA-15EE-4EA9-B745-44E81BF1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C48F-5340-463B-A873-44983284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306D-449B-44C0-9B13-DE39F76C5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силение деревянных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конструкци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имо отмеченных методов для защиты древесины от биологических вредителей могут применяться методы радиоактивного облучения, газовой дезинфекции и дезинфекции горячим воздухом, биохимические методы борьб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ы по антисептированию рекомендуется проводить в весенний или летний период, т.к. в это время личинки жучков подходят к поверхности пораженной древес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имическая защи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еревянных конструкций от возгорания осуществля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нтипирирова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гнезащитными составами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рной кислотой, бурой, сульфатом аммо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т.д. Огнезащитные составы наносятся пневмораспылителями или кистями. Для комбинирования защиты деревянных конструкций от возгорания и  гниения  в огнезащитные составы  могут добавляться антисептики,  которые не снижают огнезащитных свойств состав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новные методы усиления деревянных конструкц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мена поврежденных рабочих  элементов новыми деревянными  или металлически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мена поврежденных частей элементов или конструкций протезам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ановка добавочных элементов или конструкций без  изменения схемы работы конструк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менение схемы работы констру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мена поврежденных  элемент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существляется  установкой новых деревянных или металлических стержней. Замене подлежат обычно перенапряженные, сильно деформированные или имеющие значительные повреждения в пролетной части деревянные  элементы, главным образом,  сквозных конструкций. Сжатые элементы заменяются деревянными, а растянутые элементы предпочтительнее заме­нять сталь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тановка дополнительных элементов и конструкц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без изменения  схемы  работы конструкции (увеличением сечения) осуществля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путем  установки  рядом с существующей конструкцией но­вой,  которая может быть аналогична усиленной, а может быть отличной от нее. По мере необходимости старый и новый элемент мо­гут быть соединены на болтах или гвозд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путем установки в узловых соединениях добавочного коли­чества болтов или гвоздей.  Этот способ эффективен в тех случа­ях,  когда  имеется достаточно места для правильной расстановки добавочных болтов или гвоздей.  Если  новые  болты  или  гвозди воспринимают не менее 25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действующего усилия, то их допускается устанавливать без разгрузки конструк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) креплением  накладок или прокладок. Этот способ применя­ют для повышения устойчивости сжатых, повышения жесткости изги­баемых, а также увеличения прочности имеющих дефекты растянутых и изгибаемых деревянных элементов. Размеры накладок и прокладок определяются расчетом для каждого конкретного случ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) установкой параллельно дефектному растянутому  элементу к  усиливаемым  деревянным элементам дополни­тельных деревя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яжных хомутов или стальных тяжей. Симметричной постановкой  стальных тяжей усиливают стропильные фермы с перенапряженным нижним пояс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силение изменением схемы работы конструкц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широко приме­няется в строительной практике.  Способы изменения схемы работы конструкции  разнообразны  и зависят от многих факторов,  в том числе от вида строительной  конструкции, напряженного  состояния, габаритов  помещений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усиления  наряду с деревянными  широко применяются стальные элементы: арматурная и круглая сталь, фасонный прок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силение элементов деревянных зд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вешивание деревянного дома для замены деревянных стульев на бетонные стол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86728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– домкра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– подводимые столбы фундамен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- сжи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ДК усиление"/>
          <p:cNvPicPr/>
          <p:nvPr/>
        </p:nvPicPr>
        <p:blipFill>
          <a:blip r:embed="rId1"/>
          <a:srcRect l="9180" t="9966" r="49654" b="6982"/>
          <a:stretch/>
        </p:blipFill>
        <p:spPr>
          <a:xfrm>
            <a:off x="1042920" y="1557360"/>
            <a:ext cx="44038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мена и усиление фундаментов и цоколей деревянных зд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иболее часто применяемый вид усиления деревянных стульев и фундаментных балок - замена их на бетонные элементы. Для это­го  здание  вывешивают на высоту 5...10 см с помощью домкратов, подводимых под нижний венец или обвязку стен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 период замены фундаментов стены здания поддерживают сжим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несенная на 1 п.м нагрузка от наружных продольных стен составляет в среднем 2,2...2,3 т/м для одноэтажного и 3,5...3,6 т/м для двухэтажного здания,  отсюда при расстановке  домкратов через 4 м грузоподъемность домкратов соответственно составит 10 т и 15 т. Бетон фундамента укладывают на песчано-гравийную подготовку, не доводя верх на 5...6 см до низа окладного венца или стен. Устраивается цементная стяжка, слой гидроизоляции, укладывается в зазор просмоленная и завернутая в толь доска. Домкраты  разгружаются после  набора бетоном необходимой прочности.  В цоколе по периметру устанавливаются продухи размером 15...20 см, с шагом 4 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силение ст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бленые стены усиливаются установкой сжимов. Диаметр болтов принимается не менее 16 мм, шаг болтов 1...1,2 м. Отверстия для болтов  должны  быть  овальными  для  восприятия  возможных  осадок. Воздухопроницаемость и  промерзание  рубленых  стен  могут быть  снижены с помощью обшивки из досок толщиной 13...19 мм по брускам 50*50 или 50*70 мм.  Соединение досок выполняют в паз или в греб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вешивание рубленых ст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940360" y="1341000"/>
            <a:ext cx="2890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с помощью кронштейнов и домкра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б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через оконные прое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с помощью мачтовых кран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– заменяемые венц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– стой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– сжи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– клинь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- леж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ДК усиление 001"/>
          <p:cNvPicPr/>
          <p:nvPr/>
        </p:nvPicPr>
        <p:blipFill>
          <a:blip r:embed="rId1"/>
          <a:srcRect l="52986" t="7195" r="4519" b="31823"/>
          <a:stretch/>
        </p:blipFill>
        <p:spPr>
          <a:xfrm>
            <a:off x="468360" y="1054080"/>
            <a:ext cx="518328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ревянные конструкции  широко применялись в старых жилых, общественных и реже промышленных зданиях. Основная область применения конструкций из дерева - покрытия с наружным отводом атмосферных вод и междуэтажные перекры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раниченность использования  древесины  в крупных зданиях связа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й зависимостью долговечности древесины от усло- вий эксплуат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ышенной пожароопасность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авнительно невысокой прочность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раниченностью деревянных ресур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месте с тем,  в области малоэтажного строительства древесина остается одним из основных материа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иление деревянных конструкций чаще всего связано с гниением  и действием энтомологических разрушителей.  Реже усиление вызывается силовыми и механическими повреждениями, некачественным выполнением соеди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ДК усиление 001"/>
          <p:cNvPicPr/>
          <p:nvPr/>
        </p:nvPicPr>
        <p:blipFill>
          <a:blip r:embed="rId1"/>
          <a:srcRect l="2554" t="60629" r="75281" b="16626"/>
          <a:stretch/>
        </p:blipFill>
        <p:spPr>
          <a:xfrm>
            <a:off x="826920" y="836640"/>
            <a:ext cx="2953080" cy="2886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8320" y="4292640"/>
            <a:ext cx="40384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мена рубленых венцов каменной клад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– пакля; 2 – отливная доска; 3 – штукатурный слой; 4 – фундамент; 5 – подоконный венец; 6 – подоконная доска; 7 – толь; 8 – кладка из бетонных блоков; 9 – уровень чистого пола; 10 – слой гидроизоляции (тол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ДК усиление 002"/>
          <p:cNvPicPr/>
          <p:nvPr/>
        </p:nvPicPr>
        <p:blipFill>
          <a:blip r:embed="rId2"/>
          <a:srcRect l="55861" t="16259" r="7310" b="26125"/>
          <a:stretch/>
        </p:blipFill>
        <p:spPr>
          <a:xfrm>
            <a:off x="5148360" y="333360"/>
            <a:ext cx="3092400" cy="37432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8"/>
          <p:cNvSpPr/>
          <p:nvPr/>
        </p:nvSpPr>
        <p:spPr>
          <a:xfrm>
            <a:off x="611280" y="4005360"/>
            <a:ext cx="374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вешивание рубленой стены с помощью коротких парных схваток и подкосов при смене поврежденного гнилью окладного вен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силение сто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арактерные повреждения  деревянных стоек - это загнивание в нижней части, особенно, если они заделаны в грунт. Усиление производится пасынками, т.е. короткими вспомогательными стойками,  устанавливаемыми рядом с усиливаемыми и скрепляемыми с  ними при помощи болтов и хомутов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рядок рабо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крепление стойки подпор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рыв ямы, и удаление загнившей части стой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становка пасынков, скрепл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сыпка я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ослаблении стоек усушенными трещинами, пороками произрастания,  механическими повреждениями  их  усиливают  болтами, рассчитанными  на восприятие сдвигающих усилий,  или накладками на болтах или гвоздях.  Продольный изгиб стоек устраняется усилением накладками с соединением на болтах, работающих на растяжение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кладки при этом до опор не доводя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Rectangle 3" descr=""/>
          <p:cNvPicPr/>
          <p:nvPr/>
        </p:nvPicPr>
        <p:blipFill>
          <a:blip r:embed="rId1"/>
          <a:srcRect l="32905" t="39180" r="28853" b="30403"/>
          <a:stretch/>
        </p:blipFill>
        <p:spPr>
          <a:xfrm>
            <a:off x="1042920" y="404640"/>
            <a:ext cx="7272360" cy="4321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0920" y="486900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иление деревянных стоек при загнивании конца (а) и  искривлении (б): 1 – усиливаемая стойка; 2 – усиливающие стойки (пасынки и накладки); 3 – удаляемая часть стойки; 4 – обмотка из проволоки; 5 - бол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силение балок перекрытий и стропильных н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характерным повреждением балок перекрытий и стропильных  ног  является загнивание их по концам на 30...80 см от поверхности стены и реже загнивание в прол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простым способом усиления в этом случае  является постановка  опорных  элементов - стоек,  подкосов и пр.  При этом усилие должно передаваться в надежное перекрытие или на  фундаменты. Ввиду вмешательства в планировочное решение зданий опорные элементы применяются как временные кре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няется замена  поврежденной  балки на новую, с эквивалентными характеристиками.  Практикуется замена сгнивших концов балок накладками, подбалками, надбалками, стальными  протезам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При  повреждении  в пролете балки также могут быть усилены пролетными накладками и протезами.  Длину протезов принимают на 10%  больше  двойной  длины  обрезанного  конца  балки.  Применяются швеллеры N 20...30 для балок междуэтажных перекрытий и N 12...16 для покры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иление балок в середине прол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259092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, б, 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деревянными накладками на болта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г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прутковым протез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ДК усиление 003"/>
          <p:cNvPicPr/>
          <p:nvPr/>
        </p:nvPicPr>
        <p:blipFill>
          <a:blip r:embed="rId1"/>
          <a:srcRect l="4519" t="0" r="47266" b="9501"/>
          <a:stretch/>
        </p:blipFill>
        <p:spPr>
          <a:xfrm>
            <a:off x="3635280" y="907920"/>
            <a:ext cx="47307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мена сгнивших концов балок деревянными накладками (а) и стальными протезами (б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– деревянная балка; 2 – деревянные накладки; 3 – болты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– деревянная прокладка, закрепляемая гвоздями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– швеллеры; 6 – хомут из полосовой ст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rcRect l="20753" t="20917" r="55523" b="62226"/>
          <a:stretch/>
        </p:blipFill>
        <p:spPr>
          <a:xfrm>
            <a:off x="1042920" y="2133720"/>
            <a:ext cx="741672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иление концов балок с помощью подвесок (а) и коротышей (б)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– загнивший конец балки; 2 – стальная тяга; 3 – коротыш; 4 болт диаметром 16-20 мм; 5 – деревянный прог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rcRect l="20698" t="56250" r="59952" b="29196"/>
          <a:stretch/>
        </p:blipFill>
        <p:spPr>
          <a:xfrm>
            <a:off x="1332000" y="2324160"/>
            <a:ext cx="669600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иление концов балок пластмассовым протез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5229000"/>
            <a:ext cx="8229600" cy="13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зона опорного конца балки с различной степенью повреждения гнилью;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конец балки, зачищенный от гнили ( в здоровой части просверлены отверстия под стеклопластиковую арматуру);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вклеивание стеклопластиковой арматуры;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вид пластмассового прот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rcRect l="60591" t="12768" r="4990" b="38761"/>
          <a:stretch/>
        </p:blipFill>
        <p:spPr>
          <a:xfrm>
            <a:off x="1835280" y="1484280"/>
            <a:ext cx="53276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усиления  загнивших  опорных  частей  балок эффективно применение полимерных состав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евесина опорной  части  подразделяется на три зоны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- зона разрушенной древесины, не обладающая несущей способностью; 2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она частично поврежденной древесины, облада­ющей некоторой несущей способностью, но недостаточной для экс­плуатацион-ных  целей; 3 - зона  здоровой  древес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еревянной балке под некоторым углом просверливаются отверстия, выходящие на зону 1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а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зрушенная зона удаляется, в отверстие вставляются стержни из стеклопластика, содержащего 65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стекловолокна и 35% ненасыщенной полиэфирной смолы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Полость зоны 1 и отверстия заполняют составом на основе модифицированной эпоксидной смолы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)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ола проникает в поры  древесины,  укрепляя  ее  и  обеспечивая сцепление  арматурных  стержней с древесиной.  Совместная работа арматуры и древесины основана  на  близости  физико-механических свойств.  Данным  методом  усиливаются и другие части деревянных конструкций.  Достоинством метода является  сохранение  внешнего вида конструкции,  арматура не создает мостиков холода, следовательно, не вызывает образование конденс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иление балок перекрытий и стропильных ног преобразованием в шпренгельную систему или в балку составного поперечного се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858920" y="1700280"/>
            <a:ext cx="3476520" cy="49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– система со шпренгелем сверху; б – со стальным шпренгелем снизу; в – балка составного сечения; 1 – наклонные трещины; 2 – накладка из полосовой стали; 3 – стальной шпренг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ДК усиление 004"/>
          <p:cNvPicPr/>
          <p:nvPr/>
        </p:nvPicPr>
        <p:blipFill>
          <a:blip r:embed="rId1"/>
          <a:srcRect l="54380" t="8993" r="21248" b="22592"/>
          <a:stretch/>
        </p:blipFill>
        <p:spPr>
          <a:xfrm>
            <a:off x="684360" y="1484280"/>
            <a:ext cx="3808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щита деревянных конструкций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 гниения и  возгора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оголетний опыт эксплуатации показал, что при отсутствии увлажнения, проветривании, систематической защите от гниения деревянные конструкции обеспечивают длительный срок  безопасной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ниение древесины происходит при влажности более 25%, температуре от -3 до +35...70°С, застойном воздухе и заражении ее гриб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тоды защиты подразделяются на конструктивные мероприятия и химическую защи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иление стропильных ног подкосами, опирающимися на перекры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08720" y="2133720"/>
            <a:ext cx="31780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– усиливаемый конец стропильной ног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– гвозд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– подкос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- леж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ДК усиление 004"/>
          <p:cNvPicPr/>
          <p:nvPr/>
        </p:nvPicPr>
        <p:blipFill>
          <a:blip r:embed="rId1"/>
          <a:srcRect l="10852" t="7105" r="60923" b="28150"/>
          <a:stretch/>
        </p:blipFill>
        <p:spPr>
          <a:xfrm>
            <a:off x="611280" y="1484280"/>
            <a:ext cx="41878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иление опорного узла фермы на лобовых врубках от скалы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ДК усиление 005"/>
          <p:cNvPicPr/>
          <p:nvPr/>
        </p:nvPicPr>
        <p:blipFill>
          <a:blip r:embed="rId1"/>
          <a:srcRect l="3785" t="51686" r="53986" b="13127"/>
          <a:stretch/>
        </p:blipFill>
        <p:spPr>
          <a:xfrm>
            <a:off x="1258920" y="1557360"/>
            <a:ext cx="6192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иление сжатого раскоса стропильной фермы встречным растянутым раско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0920" y="5444640"/>
            <a:ext cx="82184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емонтируемый деревянный раскос;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тяж усиления;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временная стойка для передачи узловой нагрузки с верхнего пояса на ниж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Технологичность 1 011"/>
          <p:cNvPicPr/>
          <p:nvPr/>
        </p:nvPicPr>
        <p:blipFill>
          <a:blip r:embed="rId1"/>
          <a:srcRect l="0" t="7382" r="54712" b="35249"/>
          <a:stretch/>
        </p:blipFill>
        <p:spPr>
          <a:xfrm>
            <a:off x="2268360" y="1268280"/>
            <a:ext cx="489600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нструктивные мероприятия защиты древесины от гниения и возгор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щит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 гни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ение отвода воды, размещение деревянных элементов и конструкций так, чтобы не попадали брызги воды. Нижняя отметка  расположения деревянных элементов должна не менее чем на 30 см. превышать отметку поверхности грун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ение надлежащего проветривания сырых помещ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ройство гидроизоляционных прокладок в местах соприкасания древесины с другими материалами для предотвращения ее от увлажнения капиллярной  влагой.  Гидроизоляционные материалы не должны иметь швов, или должны в местах сты­кования соединяться на кле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ение надлежащей толщины теплоизоляционных слоев ограждающих конструкций и правильное чередование тепло- и паро-изоляционных слоев в них для исключения возможнос­ти образования конденс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щита о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озгор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шивка листовыми огнезащитными материалами (цементно-стружечными плитами,  асбестоцементными плитами с кремнеземистой добавкой и пр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штукатури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атериалы, применяемые для химической защиты древес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разделяются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агозащитные лаки и эма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тисептические водные и маслянистые пропиточные составы и пас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незащитные краски и обмаз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кокрасочные составы в жидком виде наносятся тонким слоем кистью  или опрыскивателем на поверхность защищаемого элемента. Образующаяся при этом защитная пленка обладает паро- и влаго-непроницаемостью, гидрофобностью и другими защитными свойствами, например, стойкостью к истир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 лакокрасочным материалам относя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ки пентафталевые и уретанов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мали уретановые, пентафталевые и меламиноалкидные и перхлор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ниловые;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ы на основе эпоксидных смо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о-силикатные соста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тисептические водные и маслянистые пропиточные составы и пасты наносятся на поверхность древесины напылением, окрашиванием, пропиткой, инъецировани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питка эксплуатируемых  деревянных конструкций элементов производи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пиллярной пропитк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ом устройства подвесных и подставных ван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ъецировани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иванием в отверст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боткой вспененными соста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пиллярной пропитк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поверхность  детали  покрывается непроницаемой оболочкой, например, из полиэтиленовой пленки. По контуру на ней пленка крепится рейками или планками, швы герметизируются клеем или липкой лентой. В пространства между непроницаемой оболочкой и поверхностью древесины дозировано подается пропиточная жидкость.  Метод может быть использован для пропитки рубленых ст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етоде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ставных  и  подвесных ван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округ элемента создается оболочка в форме ванны, заполняемая  впоследствии пропиточной жидкостью.  Ванна  являетс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подстав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если  опирается  на  грунт или  ниже расположенные конструкции 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двес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если  подвеше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нъецирован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опиточная жидкость с помощью специального пистолета, снабженного шприцем или полой иглой, вводится под давлением 0,1...0,3 МПа. Игла обычно вводится поперек волок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ревянные конструкции, не имеющие доступа со всех сторон, пропитываются вливанием инсектицидо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росверленные  отверст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 Пропиточные составы подаются под давлением или без него. Диаметр отверстия составляет 10...15 мм, а расстояние между отверстиями составляет при подаче без давления 15-30 см, под давлением - 50 - 60 см. Глубина отверстий составляет (2/3...3/4) толщины элемента. После пропитки просверленные отверстия заделываются проб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обработк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пененными состав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спенивание достигается применением поверхностно - активных веществ. Вспениванию могут  подвергаться водные растворы химических защитных составов (фунгизита, инсектицида или комбинаций солей с различными  защитными свойствами) весьма  высокой  концентрации - до 30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%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ъем исходного раствора  и  объем  пены  могут  находиться  в  соотношении до 1:30. Метод, ввиду технологичности и высокоэффективности, является весьма  перспектив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щита древесины, эксплуатирующейся в условиях повышенной влажности, может быть осуществлена нанесение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тисептических пас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содержащих антисептик (фтористый натрий, буру) и связующие материалы (каменноугольные лаки,  поливинилацетатные эмульсии  и  др.). Пасты наносятся как с последующей дополнительной гидроизоляцией, так и без н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0T14:09:38Z</dcterms:created>
  <dc:creator>User</dc:creator>
  <dc:description/>
  <dc:language>en-US</dc:language>
  <cp:lastModifiedBy>Admin</cp:lastModifiedBy>
  <dcterms:modified xsi:type="dcterms:W3CDTF">2010-11-29T06:24:33Z</dcterms:modified>
  <cp:revision>28</cp:revision>
  <dc:subject/>
  <dc:title>Слайд 1</dc:title>
</cp:coreProperties>
</file>