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6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png" ContentType="image/png"/>
  <Override PartName="/ppt/media/image14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0.png" ContentType="image/png"/>
  <Override PartName="/ppt/media/image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8D53-D0A7-4D7D-9E94-007590B11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BC64-37A3-4F0D-B065-44A9ABBA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E2DD23-43B8-42DE-BA8C-6278810B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0B2703-449F-46F0-B26E-C40BC625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A39BAF-FFE1-4A6D-80A3-B11BC4D6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A0B901-5703-4980-912F-EF70A6F6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8DA292-D9D0-4455-A30D-03EFC64F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D6BC7A-3DB4-48AE-93CC-E70150D7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6DAB73-E3F1-4966-8063-E71E6192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3CC089-292E-491A-B3DA-4A72705D6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0055D2-43CA-4F5C-A94A-84FBA0BDC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27A035-8347-46C1-A7F0-191A6E0EF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220B-1465-4503-B2D1-2A1F85B07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16A374-FEF8-4334-9796-C2BFFB0B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171A3B-EEB9-4E41-AF1A-F2CDD4EB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5D8D74-43F2-4B5A-AB0F-ABD77ED3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0328D7-3756-423E-80B2-E66D06C3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FA8FB2-FA0B-4086-9953-A835CF1F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F323D5-8328-4A08-8081-D0F2D189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2E771B-AE76-40BB-8798-06CB7716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BC1515-A0CA-4FC7-9F01-BDF0CD6A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5DAC2B-9C88-4310-A1A8-473B7069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08F326-F8DD-4DDE-B6C2-4CDCA439B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3AFF-869A-455E-ABEE-3591BEC18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85FFC3-5CEA-4FD2-8D8F-B1F63FF1B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C68D9A-14F6-415F-A9E7-036B00FCF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1DFAD2-B7BF-4A08-A21F-65503C18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D4AFE-DA73-421B-AA56-45846FE2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64826-F95C-4007-A105-9326CEC2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0F977A-A282-4A59-9165-EFAFE39D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C940E-2830-4920-BC2A-6175EFEB8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52E898-2C60-4BD3-9626-111C5262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790F1-D6E7-4187-9F7E-EDBC8A4D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C9D26-5D6B-4400-B08E-6F6C4B40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9E39-31E0-45EC-A915-1C639FDE8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4B09A-CD35-40AC-AE35-EE46AEB0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04962-9190-4466-98EE-936FDE442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53548D-6505-4920-8431-0C7282BFF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163097-9955-4B6A-80BF-98FBBED07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55B8DA-3B21-430C-BA44-6E8E693B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FB68F0-1200-4E0D-978B-39CD0116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386A4B-F293-4141-A12D-C6626AFB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6B7575-2E9B-424E-965A-952B3D92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9B490E-BB70-4906-BEE6-7F8506F4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E7290F-9A35-4842-A154-1968B766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A474-1EAC-4E47-9689-9BCB1B63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723679-C50B-469B-BE22-293907DD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A4569A-1328-47D6-A5D8-18F7AD4C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BC7145-B32E-46EF-8052-1AD9B8FF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C84BB5-650E-428D-9E3D-6E19B7560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47D4A8-802C-46FD-9A24-DEB5ACFCC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3A93-6774-4CCD-9D20-FEE79F33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F40D-7897-457A-BF47-F8CF625C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2AA84-BDBE-46D8-9731-D625CACC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1DAC0-B017-4E5B-A120-0D2FE38D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8434-A86C-424D-94FB-E646C976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573E-FCB7-4701-80A8-938CFE70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0EE8-10CD-4327-A4DD-3E777719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A662-95F2-43F1-82DC-782B03C8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5284-0301-454E-8EFD-3A9ADEA1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BFA4-7810-435F-BDF4-52A02F80B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01F0-BF52-4C7A-90FF-A66F4E5A3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85302-12E3-4540-AB5A-4487B9B67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2829C-7941-4033-AB5C-BCD4EC32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443B6-12E5-43CB-854E-D81D3BCB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35BA4-3969-4C4D-BE4E-6D956E4E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6B3DC-8601-4E08-A119-4DEA16FD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F226-D072-4530-92F9-BFB38900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1F42C-3024-42A0-BE2C-D5F652CD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B737C-1B81-4484-96EA-EBFC2B7D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D3AB6-760E-4769-99FA-7402FF5B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45BDA-93A0-40D6-998E-9EDA783B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34AD5-21DE-4525-8065-2DFFD87C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F2A2F-4019-4883-86D9-C1671144A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122E6-3429-48B1-B16B-F51797627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5693D-9270-458A-9BD0-7CA134657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FC729-4D8E-4CFE-8405-E0F1830D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3953D-4706-499F-97D0-51CB5C78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22F7-A650-49EF-B6A6-304F0D77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892B0-3C35-4BAE-92B7-95B8AA81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12223-DFDD-4433-B975-3ACE0FB4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B237D-C78C-45E5-B571-87E931CD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1EC0F-C4C1-4D17-B7B2-4D0C7A8F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75B93-89D9-4C58-B905-6A9F9E04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88975-44DE-4221-8112-17598B71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6ADD1-F64E-4C0C-8CA8-572475E2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E53C0-C15A-45F6-8CE4-0FB376B36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3BE15-392C-4DA2-8BF7-6B9A0E1A4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5BE99-464E-409F-A14D-5D5012AC7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61A1-F4AD-4114-91AF-9DBFA1C6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09F6E-67EE-4755-A4C4-1814DB96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10433-1B9D-4CCA-B3B2-D015F3BA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DD122-9339-4466-B739-827DFC6E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690E6-279F-4ADA-9DA9-AEAF82A3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63905-E954-44E9-B899-77698E1B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33223-109F-4056-B6D4-6E7587E3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74BCE-0459-4A69-921A-9A83D764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E1A3F-CB77-49A8-ACC8-1FC61F13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1EF66-987D-4CE1-9056-5BA33A2F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845F6-05FB-4F34-A137-7A0B31A85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A794-855B-4458-8CEF-9EB825B1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1CF9D-9373-4067-B33D-13049CB5F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E797C-D4F6-4C80-929D-B8E71F74F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0DADB-0FD7-4221-AA80-48244D1C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B12D2-8751-42E5-8B98-A87E7D3C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5F757-7805-4F86-88A8-E7D15846B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D820C-F5DD-4A63-8C25-578086F1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64773-246E-46AD-AE39-15C0CAD2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DF9A8-119A-466F-94D1-1E158412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D2F7F-BA5A-4342-BCC2-05044AF2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348DF-CEFB-4D3E-AA2F-72F79098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B411-4898-4228-8250-8B570BCB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8E190-CBE6-46DE-B124-27C2DB5A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AA689-FA08-4699-8E34-22E474BAA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B09D9-4178-448E-8F36-B544BF74F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9198E-FF4C-466B-B97F-F1062BE49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F1608-8B2D-4D42-8097-F80908C5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47F03-041C-451D-A306-629B21E5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326BE-1058-4A4D-975A-27A44666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158F9-8402-45DA-A59E-CF3FBF12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76063-1BE7-4C1D-8117-B3EE8B19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88A61-9B3F-49DE-96DB-BB8D730A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CD35-764F-4C7C-9114-92868574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325C2-8E5F-4190-AD55-998F938C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1EC12-BD91-4FE3-889C-D2C592E4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589FB-1E40-473F-8896-BCA529C1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161BE-1BA9-4EAC-B506-ACC0C4753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5FA86-EE6F-4FEE-9BFD-44E70003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AC07E-870F-4FE1-B610-2E2C67165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37C35-2E62-474A-9244-9A3D40CD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6B35D-66AE-4EBA-93D7-A465F6A5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799BA-4CDD-467B-AB37-329C24A7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B36E3-02DF-4C60-B5A1-65FDDDBF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2FFF-1F54-4653-A1C7-AA847266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54334-47F9-4584-A52B-80D60A21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C8A94-5AF2-4873-AC92-B87569DC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DB6B7-6FBC-4DDF-866B-80BF539B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D428A-C307-4AA3-948D-16C11DC2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8FD92-2754-4732-B39C-42A79188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A043D-F7A1-4976-8CDA-B92E45088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13A5A-72BD-439B-B08E-A2A20224F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C60EB4-1F29-45FC-8018-C675EF767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5F36AE-B7E3-4E8B-8C7F-0B84A40C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BA094F-8106-4A17-84F7-485297D7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E06D-F2B7-4FF9-9F58-2661159121F0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BA06-D434-4607-8E22-951DD99EFEDE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A628-4D3F-4608-B904-32AF4CF286D2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C2F4-B6AA-42CA-8CE4-ABB3965E779A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D8AB-7FE2-40F8-B5F5-1495E214D501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6A83-AEDD-410B-AFEF-403DC81BDA6E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79C5-EAB6-473F-85A5-8A72C8374418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FCEA-1575-4EB6-A32C-A18EB680C618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1996-8153-4A6A-A823-293A6EF84096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589D-EC56-4224-BE4C-07BFE28ED992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A15C8-EAF1-4F96-AABB-450206E3C68A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F4FC-8691-4219-956B-78462455E09E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g-2003-04.photosight.ru/22/195539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auto.ptz.ru/photos/2008/11/2b08e31a40b7c147476e967653dc2ffa/0-36.jp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collectimages.ru/base_big_img/%CB%FE%E4%E8/%D0%E0%E1%EE%F2%E0%26nbsp%3B%E8%26nbsp%3B%EE%E1%F9%E5%ED%E8%E5/2_2966.jpg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ruflex.ru/pub/img/news/21_07/roofer.jp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www.interpress.ru/getfull.php?name=95841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img-2005-12.photosight.ru/18/1185526.jpg" TargetMode="External"/><Relationship Id="rId3" Type="http://schemas.openxmlformats.org/officeDocument/2006/relationships/image" Target="../media/image18.jpeg"/><Relationship Id="rId4" Type="http://schemas.openxmlformats.org/officeDocument/2006/relationships/hyperlink" Target="http://spb-foto.ru/foto/thumbs/lrg-182-kulikov.jpg" TargetMode="External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www.uainfo.com/photos/big/110614_1.jpg" TargetMode="External"/><Relationship Id="rId3" Type="http://schemas.openxmlformats.org/officeDocument/2006/relationships/image" Target="../media/image21.jpeg"/><Relationship Id="rId4" Type="http://schemas.openxmlformats.org/officeDocument/2006/relationships/hyperlink" Target="http://59315s010.edusite.ru/images/p14_pic_0057.jpg" TargetMode="External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www.yug.so-ups.ru/images/sten/2002/04rdu.jpg" TargetMode="External"/><Relationship Id="rId3" Type="http://schemas.openxmlformats.org/officeDocument/2006/relationships/image" Target="../media/image24.jpeg"/><Relationship Id="rId4" Type="http://schemas.openxmlformats.org/officeDocument/2006/relationships/hyperlink" Target="http://www.x-iks.ru/face/yn.jpg" TargetMode="External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://www.trestssc.ru/pictures/sorochinsk/engineer.jpg" TargetMode="Externa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hyperlink" Target="http://www.museum.ru/imgB.asp?17771" TargetMode="External"/><Relationship Id="rId3" Type="http://schemas.openxmlformats.org/officeDocument/2006/relationships/image" Target="../media/image29.jpeg"/><Relationship Id="rId4" Type="http://schemas.openxmlformats.org/officeDocument/2006/relationships/hyperlink" Target="http://as.baikal.tv/news/nimg/2001_02_03/1/Korrek2.jpg" TargetMode="External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yaroslavbud.com.ua/images/builders1.jpg" TargetMode="External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3286080" y="214200"/>
            <a:ext cx="585792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Arno Pro Smbd Display"/>
              </a:rPr>
              <a:t>ЕСТЬ ТАКАЯ ПРОФЕССИЯ - СТРОИТЕЛЬ!</a:t>
            </a:r>
            <a:endParaRPr b="0" lang="en-US" sz="5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0" y="2928960"/>
            <a:ext cx="5500800" cy="292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Georgia"/>
              </a:rPr>
              <a:t>Все профессии нужны,</a:t>
            </a: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Georgia"/>
              </a:rPr>
              <a:t> все профессии важны, </a:t>
            </a: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Georgia"/>
              </a:rPr>
              <a:t>а строителя работа — </a:t>
            </a: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Georgia"/>
              </a:rPr>
              <a:t>всех нужней </a:t>
            </a: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Georgia"/>
              </a:rPr>
              <a:t>и всех важней!</a:t>
            </a:r>
            <a:br>
              <a:rPr sz="3800"/>
            </a:br>
            <a:endParaRPr b="0" lang="en-US" sz="28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08" name="Picture 5" descr="Картинка 3 из 426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840" y="285840"/>
            <a:ext cx="1571400" cy="207468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7" descr="Картинка 48 из 426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57880" y="3286080"/>
            <a:ext cx="3378240" cy="221472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9" descr="Картинка 60 из 426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071800" y="285840"/>
            <a:ext cx="133020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Заголовок 1" descr=""/>
          <p:cNvPicPr/>
          <p:nvPr/>
        </p:nvPicPr>
        <p:blipFill>
          <a:blip r:embed="rId1"/>
          <a:stretch/>
        </p:blipFill>
        <p:spPr>
          <a:xfrm>
            <a:off x="85680" y="285840"/>
            <a:ext cx="8813880" cy="95724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 txBox="1"/>
          <p:nvPr/>
        </p:nvSpPr>
        <p:spPr>
          <a:xfrm>
            <a:off x="0" y="1571760"/>
            <a:ext cx="7128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троители нужны были во все времена. Эта специальность дает надежду на стабильность и веру в будущее. А с чем сравнить чувство гордости, когда, проходя мимо красивого высотного дома, понимаешь: «Здесь ничего бы не стояло, когда бы не было меня»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Какую бы специальность вы ни выбрали, самосовершенствоваться предстоит постоянно. Только при этом условии вы станете востребованным специалистом, и тогда из всех претендентов на вакансию возьмут именно Вас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0" name="Picture 4" descr="Картинка 90 из 34682"/>
          <p:cNvPicPr/>
          <p:nvPr/>
        </p:nvPicPr>
        <p:blipFill>
          <a:blip r:embed="rId2"/>
          <a:stretch/>
        </p:blipFill>
        <p:spPr>
          <a:xfrm>
            <a:off x="6858000" y="2357280"/>
            <a:ext cx="20858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2842920" y="2781000"/>
            <a:ext cx="5817960" cy="26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троитель, возведи мне дом,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без шуток,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 самом деле,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тобы леса росли на нем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и чтобы птицы пели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3" name="Picture 9" descr="Картинка 60 из 4265"/>
          <p:cNvPicPr/>
          <p:nvPr/>
        </p:nvPicPr>
        <p:blipFill>
          <a:blip r:embed="rId1"/>
          <a:stretch/>
        </p:blipFill>
        <p:spPr>
          <a:xfrm>
            <a:off x="468360" y="1989000"/>
            <a:ext cx="267012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Picture 6" descr="Картинка 97 из 34682"/>
          <p:cNvPicPr/>
          <p:nvPr/>
        </p:nvPicPr>
        <p:blipFill>
          <a:blip r:embed="rId1"/>
          <a:stretch/>
        </p:blipFill>
        <p:spPr>
          <a:xfrm>
            <a:off x="4429080" y="2500200"/>
            <a:ext cx="4276800" cy="381024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 txBox="1"/>
          <p:nvPr/>
        </p:nvSpPr>
        <p:spPr>
          <a:xfrm>
            <a:off x="301320" y="1527120"/>
            <a:ext cx="6985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спользованы Интернет-ресурсы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ttp://shalasha.net/stroitelnoe-remeslo/professiya-stroitel.-2.htm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petroglif.narod.ru/pub/drevniestroiteli.htm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images.yandex.ru/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2571840" y="1571400"/>
            <a:ext cx="40528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0000"/>
                </a:solidFill>
                <a:latin typeface="Georgia"/>
              </a:rPr>
              <a:t>Дворцов прекрасных очертанья,</a:t>
            </a:r>
            <a:br>
              <a:rPr sz="2300"/>
            </a:br>
            <a:r>
              <a:rPr b="1" lang="ru-RU" sz="2300" spc="-1" strike="noStrike">
                <a:solidFill>
                  <a:srgbClr val="ff0000"/>
                </a:solidFill>
                <a:latin typeface="Georgia"/>
              </a:rPr>
              <a:t>Простой избушки естество —</a:t>
            </a:r>
            <a:br>
              <a:rPr sz="2300"/>
            </a:br>
            <a:r>
              <a:rPr b="1" lang="ru-RU" sz="2300" spc="-1" strike="noStrike">
                <a:solidFill>
                  <a:srgbClr val="ff0000"/>
                </a:solidFill>
                <a:latin typeface="Georgia"/>
              </a:rPr>
              <a:t>Все рук строителей созданье,</a:t>
            </a:r>
            <a:br>
              <a:rPr sz="2300"/>
            </a:br>
            <a:r>
              <a:rPr b="1" lang="ru-RU" sz="2300" spc="-1" strike="noStrike">
                <a:solidFill>
                  <a:srgbClr val="ff0000"/>
                </a:solidFill>
                <a:latin typeface="Georgia"/>
              </a:rPr>
              <a:t>Все — дорогое мастерство.</a:t>
            </a:r>
            <a:br>
              <a:rPr sz="2300"/>
            </a:br>
            <a:r>
              <a:rPr b="1" lang="ru-RU" sz="2300" spc="-1" strike="noStrike">
                <a:solidFill>
                  <a:srgbClr val="ff0000"/>
                </a:solidFill>
                <a:latin typeface="Georgia"/>
              </a:rPr>
              <a:t>Мостов ажурность, ширь каналов,</a:t>
            </a:r>
            <a:br>
              <a:rPr sz="2300"/>
            </a:br>
            <a:r>
              <a:rPr b="1" lang="ru-RU" sz="2300" spc="-1" strike="noStrike">
                <a:solidFill>
                  <a:srgbClr val="ff0000"/>
                </a:solidFill>
                <a:latin typeface="Georgia"/>
              </a:rPr>
              <a:t>Стать городов и куполов —</a:t>
            </a:r>
            <a:br>
              <a:rPr sz="2300"/>
            </a:br>
            <a:r>
              <a:rPr b="1" lang="ru-RU" sz="2300" spc="-1" strike="noStrike">
                <a:solidFill>
                  <a:srgbClr val="ff0000"/>
                </a:solidFill>
                <a:latin typeface="Georgia"/>
              </a:rPr>
              <a:t>Их труд, не то чтобы немалый —</a:t>
            </a:r>
            <a:br>
              <a:rPr sz="2300"/>
            </a:br>
            <a:r>
              <a:rPr b="1" lang="ru-RU" sz="2300" spc="-1" strike="noStrike">
                <a:solidFill>
                  <a:srgbClr val="ff0000"/>
                </a:solidFill>
                <a:latin typeface="Georgia"/>
              </a:rPr>
              <a:t>Основа жизненных основ!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2" name="Picture 4" descr="http://im5-tub.yandex.net/i?id=11129121&amp;tov=5"/>
          <p:cNvPicPr/>
          <p:nvPr/>
        </p:nvPicPr>
        <p:blipFill>
          <a:blip r:embed="rId1"/>
          <a:stretch/>
        </p:blipFill>
        <p:spPr>
          <a:xfrm>
            <a:off x="1714680" y="3143160"/>
            <a:ext cx="1072800" cy="157176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6" descr="http://im7-tub.yandex.net/i?id=6853317&amp;tov=7"/>
          <p:cNvPicPr/>
          <p:nvPr/>
        </p:nvPicPr>
        <p:blipFill>
          <a:blip r:embed="rId2"/>
          <a:stretch/>
        </p:blipFill>
        <p:spPr>
          <a:xfrm>
            <a:off x="285840" y="2500200"/>
            <a:ext cx="928440" cy="143676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8" descr="http://im7-tub.yandex.net/i?id=39448059&amp;tov=7"/>
          <p:cNvPicPr/>
          <p:nvPr/>
        </p:nvPicPr>
        <p:blipFill>
          <a:blip r:embed="rId3"/>
          <a:stretch/>
        </p:blipFill>
        <p:spPr>
          <a:xfrm>
            <a:off x="1357200" y="1643040"/>
            <a:ext cx="1357560" cy="10126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10" descr="http://im7-tub.yandex.net/i?id=64993059&amp;tov=7"/>
          <p:cNvPicPr/>
          <p:nvPr/>
        </p:nvPicPr>
        <p:blipFill>
          <a:blip r:embed="rId4"/>
          <a:stretch/>
        </p:blipFill>
        <p:spPr>
          <a:xfrm>
            <a:off x="500040" y="4589640"/>
            <a:ext cx="1071720" cy="153000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12" descr="http://im7-tub.yandex.net/i?id=48883524&amp;tov=7"/>
          <p:cNvPicPr/>
          <p:nvPr/>
        </p:nvPicPr>
        <p:blipFill>
          <a:blip r:embed="rId5"/>
          <a:stretch/>
        </p:blipFill>
        <p:spPr>
          <a:xfrm>
            <a:off x="1928880" y="521496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14" descr="http://im3-tub.yandex.net/i?id=53044167&amp;tov=3"/>
          <p:cNvPicPr/>
          <p:nvPr/>
        </p:nvPicPr>
        <p:blipFill>
          <a:blip r:embed="rId6"/>
          <a:stretch/>
        </p:blipFill>
        <p:spPr>
          <a:xfrm>
            <a:off x="6643800" y="5143680"/>
            <a:ext cx="642960" cy="9842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16" descr="http://im8-tub.yandex.net/i?id=9378715&amp;tov=8"/>
          <p:cNvPicPr/>
          <p:nvPr/>
        </p:nvPicPr>
        <p:blipFill>
          <a:blip r:embed="rId7"/>
          <a:stretch/>
        </p:blipFill>
        <p:spPr>
          <a:xfrm>
            <a:off x="6572160" y="1428840"/>
            <a:ext cx="885960" cy="13618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18" descr="http://im5-tub.yandex.net/i?id=35230726&amp;tov=5"/>
          <p:cNvPicPr/>
          <p:nvPr/>
        </p:nvPicPr>
        <p:blipFill>
          <a:blip r:embed="rId8"/>
          <a:stretch/>
        </p:blipFill>
        <p:spPr>
          <a:xfrm>
            <a:off x="7500960" y="2428920"/>
            <a:ext cx="1333440" cy="100008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20" descr="http://im6-tub.yandex.net/i?id=31447849&amp;tov=6"/>
          <p:cNvPicPr/>
          <p:nvPr/>
        </p:nvPicPr>
        <p:blipFill>
          <a:blip r:embed="rId9"/>
          <a:stretch/>
        </p:blipFill>
        <p:spPr>
          <a:xfrm>
            <a:off x="6715080" y="3714840"/>
            <a:ext cx="1409760" cy="92376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22" descr="http://im8-tub.yandex.net/i?id=83880799&amp;tov=8"/>
          <p:cNvPicPr/>
          <p:nvPr/>
        </p:nvPicPr>
        <p:blipFill>
          <a:blip r:embed="rId10"/>
          <a:stretch/>
        </p:blipFill>
        <p:spPr>
          <a:xfrm>
            <a:off x="7929720" y="4786200"/>
            <a:ext cx="86652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0" y="1214280"/>
            <a:ext cx="492912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Georgia"/>
              </a:rPr>
              <a:t>Кровельщик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— одна из самых древних строительных профессий. Каменщиков и кровельщиков обучают в профессионально-технических училищах и колледжах. Со временем мастера могут повысить квалификацию, стать звеньевыми, бригадирами или продолжить обучение в строительных техникумах и институтах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3" name="Picture 2" descr="Картинка 8 из 75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760" y="1571760"/>
            <a:ext cx="2381040" cy="146664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4" descr="Картинка 41 из 75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86720" y="3143160"/>
            <a:ext cx="1857240" cy="2928960"/>
          </a:xfrm>
          <a:prstGeom prst="rect">
            <a:avLst/>
          </a:prstGeom>
          <a:ln w="0">
            <a:noFill/>
          </a:ln>
        </p:spPr>
      </p:pic>
      <p:pic>
        <p:nvPicPr>
          <p:cNvPr id="625" name="Заголовок 1" descr=""/>
          <p:cNvPicPr/>
          <p:nvPr/>
        </p:nvPicPr>
        <p:blipFill>
          <a:blip r:embed="rId5"/>
          <a:stretch/>
        </p:blipFill>
        <p:spPr>
          <a:xfrm>
            <a:off x="158760" y="285840"/>
            <a:ext cx="8869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Заголовок 1" descr=""/>
          <p:cNvPicPr/>
          <p:nvPr/>
        </p:nvPicPr>
        <p:blipFill>
          <a:blip r:embed="rId1"/>
          <a:stretch/>
        </p:blipFill>
        <p:spPr>
          <a:xfrm>
            <a:off x="298440" y="212760"/>
            <a:ext cx="8205840" cy="95724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 txBox="1"/>
          <p:nvPr/>
        </p:nvSpPr>
        <p:spPr>
          <a:xfrm>
            <a:off x="-360" y="1356840"/>
            <a:ext cx="50720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От профессионализма </a:t>
            </a:r>
            <a:r>
              <a:rPr b="1" lang="ru-RU" sz="2500" spc="-1" strike="noStrike">
                <a:solidFill>
                  <a:srgbClr val="ff0000"/>
                </a:solidFill>
                <a:latin typeface="Georgia"/>
              </a:rPr>
              <a:t>маляра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зависит внешний вид построенного здания. По тому, с каким качеством выполнены отделочные работы, жители судят о строительстве, о качестве выполненных работ. Именно маляр передает ключи инвесторам во вновь построенных квартирах. Малярами работают в основном женщины. Эта работа требует терпения, ловкости и сноровки, любви к своему делу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8" name="Picture 2" descr="Картинка 13 из 560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0760" y="3357720"/>
            <a:ext cx="1885680" cy="27144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4" descr="Картинка 104 из 560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929280" y="1428840"/>
            <a:ext cx="1845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Заголовок 1" descr=""/>
          <p:cNvPicPr/>
          <p:nvPr/>
        </p:nvPicPr>
        <p:blipFill>
          <a:blip r:embed="rId1"/>
          <a:stretch/>
        </p:blipFill>
        <p:spPr>
          <a:xfrm>
            <a:off x="298440" y="212760"/>
            <a:ext cx="7954920" cy="95724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 txBox="1"/>
          <p:nvPr/>
        </p:nvSpPr>
        <p:spPr>
          <a:xfrm>
            <a:off x="0" y="1214280"/>
            <a:ext cx="55720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Творческим натурам подойдет работа </a:t>
            </a:r>
            <a:r>
              <a:rPr b="1" lang="ru-RU" sz="2500" spc="-1" strike="noStrike">
                <a:solidFill>
                  <a:srgbClr val="ff0000"/>
                </a:solidFill>
                <a:latin typeface="Georgia"/>
              </a:rPr>
              <a:t>облицовщика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, которая состоит в создании мозаичных, плиточных или облицованных мрамором полов, стен, деталей различных архитектурных сооружений. Эти мастера трудятся на строительстве домов, промышленных предприятий.</a:t>
            </a: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Georgia"/>
              </a:rPr>
              <a:t>Мозаичник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высокого разряда оформляет колонны и пилястры, отделывает криволинейные поверхности, прорисовывает жилки на искусственном мраморе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2" name="Picture 2" descr="Картинка 11 из 14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29160" y="3714840"/>
            <a:ext cx="3097440" cy="242892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4" descr="Картинка 17 из 13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072200" y="1143000"/>
            <a:ext cx="1714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Заголовок 1" descr=""/>
          <p:cNvPicPr/>
          <p:nvPr/>
        </p:nvPicPr>
        <p:blipFill>
          <a:blip r:embed="rId1"/>
          <a:stretch/>
        </p:blipFill>
        <p:spPr>
          <a:xfrm>
            <a:off x="85680" y="139680"/>
            <a:ext cx="8813880" cy="96372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 txBox="1"/>
          <p:nvPr/>
        </p:nvSpPr>
        <p:spPr>
          <a:xfrm>
            <a:off x="0" y="1285920"/>
            <a:ext cx="52149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лово «инженер» в переводе с латинского обозначает «сообразительный, находчивый». Изначально инженерами называли тех, кто управлял военными машинами. Понятие гражданский инженер появилось в XVI веке 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Georgia"/>
              </a:rPr>
              <a:t>Инженер-строитель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олучает базовую строительную специальность ПГС (промышленное и гражданское строительство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Инженер – главный на стройке!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6" name="Picture 2" descr="Картинка 31 из 4798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86280" y="1500120"/>
            <a:ext cx="2760840" cy="207180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" descr="Картинка 67 из 4798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29120" y="4000680"/>
            <a:ext cx="276084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Заголовок 1" descr=""/>
          <p:cNvPicPr/>
          <p:nvPr/>
        </p:nvPicPr>
        <p:blipFill>
          <a:blip r:embed="rId1"/>
          <a:stretch/>
        </p:blipFill>
        <p:spPr>
          <a:xfrm>
            <a:off x="328680" y="212760"/>
            <a:ext cx="8815320" cy="95724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 txBox="1"/>
          <p:nvPr/>
        </p:nvSpPr>
        <p:spPr>
          <a:xfrm>
            <a:off x="0" y="1213920"/>
            <a:ext cx="52862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Georgia"/>
              </a:rPr>
              <a:t>Геодезист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Наряду с модными профессиями есть такие, о которых мало информации, несмотря на востребованность. Геодезист из их числа. В любой газете с вакансиями встречаются объявления «Приглашаем на работу геодезиста». Причем требуется он во многих сферах деятельности: строительство, составление карт, решение вопросов по навигации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0" name="Picture 2" descr="Картинка 22 из 4798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00800" y="1785960"/>
            <a:ext cx="25905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Заголовок 1" descr=""/>
          <p:cNvPicPr/>
          <p:nvPr/>
        </p:nvPicPr>
        <p:blipFill>
          <a:blip r:embed="rId1"/>
          <a:stretch/>
        </p:blipFill>
        <p:spPr>
          <a:xfrm>
            <a:off x="85680" y="212760"/>
            <a:ext cx="8813880" cy="9572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 txBox="1"/>
          <p:nvPr/>
        </p:nvSpPr>
        <p:spPr>
          <a:xfrm>
            <a:off x="0" y="1213920"/>
            <a:ext cx="52149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Georgia"/>
              </a:rPr>
              <a:t>Архитектор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Если бы на свете не существовало профессии архитектор, человечество до сих пор ютилось бы в пещерах. Он придумывает основную концепцию здания, его облик, увязывает воедино все нюансы. Задача архитектора — спроектировать сооружение, максимально отвечающее потребностям заказчика.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Успех архитектора складывается из таланта, любви к профессии и упорного труда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3" name="Picture 2" descr="Картинка 52 из 3442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43680" y="1571760"/>
            <a:ext cx="2862000" cy="214776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4" descr="Картинка 51 из 3442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50080" y="3857760"/>
            <a:ext cx="2927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2" descr="Картинка 16 из 3468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120" y="357120"/>
            <a:ext cx="2857680" cy="371484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4" descr="Картинка 32 из 34682"/>
          <p:cNvPicPr/>
          <p:nvPr/>
        </p:nvPicPr>
        <p:blipFill>
          <a:blip r:embed="rId3"/>
          <a:stretch/>
        </p:blipFill>
        <p:spPr>
          <a:xfrm>
            <a:off x="6929280" y="2500200"/>
            <a:ext cx="1962360" cy="3810240"/>
          </a:xfrm>
          <a:prstGeom prst="rect">
            <a:avLst/>
          </a:prstGeom>
          <a:ln w="0">
            <a:noFill/>
          </a:ln>
        </p:spPr>
      </p:pic>
      <p:sp>
        <p:nvSpPr>
          <p:cNvPr id="647" name=""/>
          <p:cNvSpPr txBox="1"/>
          <p:nvPr/>
        </p:nvSpPr>
        <p:spPr>
          <a:xfrm>
            <a:off x="2714760" y="1643040"/>
            <a:ext cx="464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Georgia"/>
              </a:rPr>
              <a:t>Профессия эта почетна,</a:t>
            </a:r>
            <a:br>
              <a:rPr sz="2400"/>
            </a:br>
            <a:r>
              <a:rPr b="0" lang="ru-RU" sz="2400" spc="-1" strike="noStrike">
                <a:solidFill>
                  <a:srgbClr val="403152"/>
                </a:solidFill>
                <a:latin typeface="Georgia"/>
              </a:rPr>
              <a:t>Строитель - ударник труда!</a:t>
            </a:r>
            <a:br>
              <a:rPr sz="2400"/>
            </a:br>
            <a:r>
              <a:rPr b="0" lang="ru-RU" sz="2400" spc="-1" strike="noStrike">
                <a:solidFill>
                  <a:srgbClr val="403152"/>
                </a:solidFill>
                <a:latin typeface="Georgia"/>
              </a:rPr>
              <a:t>Чем больше старанья в работе,</a:t>
            </a:r>
            <a:br>
              <a:rPr sz="2400"/>
            </a:br>
            <a:r>
              <a:rPr b="0" lang="ru-RU" sz="2400" spc="-1" strike="noStrike">
                <a:solidFill>
                  <a:srgbClr val="403152"/>
                </a:solidFill>
                <a:latin typeface="Georgia"/>
              </a:rPr>
              <a:t>Тем крепче, прочнее дома!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403152"/>
                </a:solidFill>
                <a:latin typeface="Georgia"/>
              </a:rPr>
              <a:t>Машины, высокие краны,</a:t>
            </a:r>
            <a:br>
              <a:rPr sz="2400"/>
            </a:br>
            <a:r>
              <a:rPr b="0" lang="ru-RU" sz="2400" spc="-1" strike="noStrike">
                <a:solidFill>
                  <a:srgbClr val="403152"/>
                </a:solidFill>
                <a:latin typeface="Georgia"/>
              </a:rPr>
              <a:t>Работай с душой, человек!</a:t>
            </a:r>
            <a:br>
              <a:rPr sz="2400"/>
            </a:br>
            <a:r>
              <a:rPr b="0" lang="ru-RU" sz="2400" spc="-1" strike="noStrike">
                <a:solidFill>
                  <a:srgbClr val="403152"/>
                </a:solidFill>
                <a:latin typeface="Georgia"/>
              </a:rPr>
              <a:t>Чтоб все получилось отлично,</a:t>
            </a:r>
            <a:br>
              <a:rPr sz="2400"/>
            </a:br>
            <a:r>
              <a:rPr b="0" lang="ru-RU" sz="2400" spc="-1" strike="noStrike">
                <a:solidFill>
                  <a:srgbClr val="403152"/>
                </a:solidFill>
                <a:latin typeface="Georgia"/>
              </a:rPr>
              <a:t>И зданья стояли весь век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4:52:46Z</dcterms:created>
  <dc:creator>Алёна</dc:creator>
  <dc:description/>
  <dc:language>en-US</dc:language>
  <cp:lastModifiedBy>user</cp:lastModifiedBy>
  <dcterms:modified xsi:type="dcterms:W3CDTF">2021-10-28T11:08:58Z</dcterms:modified>
  <cp:revision>24</cp:revision>
  <dc:subject/>
  <dc:title>Слайд 1</dc:title>
</cp:coreProperties>
</file>