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0.png" ContentType="image/pn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F0D6-436D-4F33-B3D4-E418F5E0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36C-AD97-4D0A-A5F5-7FB20A09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D031F-8DBA-41CC-9507-6BF0A9C7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311D2-34EF-4823-B5B1-937B17B3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FD7BF-DA29-4532-9214-2A01060E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95D05-EDD6-4274-8BE1-8156A28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883C3-AB29-4D0C-BBBC-64233614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435DA-8143-478F-BD3F-9B992F21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74BAA-DFF1-4510-8E14-CC2A55F7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95B4B-96EA-4056-A7BE-9BB60A36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754CF-5FB9-4A0D-AB54-1C050B87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E5DFD-0D8D-4432-8819-45F57FF8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925-3624-4F15-BC75-CC79F6D5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B7CD63-1F63-414C-8834-EFA80519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4DCC9-439D-4F8C-9059-24083DEB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E596B-803F-41B0-97F6-77FBC2FF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42ED4-D8FD-4E3D-B883-349A5B32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F6ECC-1D52-4772-B79D-33352720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E258C-07D2-46AF-8B60-48BCBA0E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9444F-2A82-42CC-93E8-A89ACF46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5092D-E0F1-4426-9630-D502B991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D1D7F-AE8F-4DA0-A3F6-C4575EF6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2BB69-914A-47B4-B6DF-169F834E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CB7-411B-4F15-80A6-9CCF45E7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6F398-5D50-44F1-909D-6AA60C69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57E46-87E1-44D4-A05F-CE5B2A35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12E66-F2F8-4AF1-B597-670762CE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E4C74-F9DD-4444-96B9-B138396D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A4AE7-EC63-4F57-AB3E-A55BE505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02B2D-948D-4FC9-994F-F0A279A5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B7AF7-2260-4D78-BBA6-992252F1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E66F0-654E-4822-8864-601F7A6C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88B00-D1ED-4CA3-A47E-8D51D62E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F2BFA-AF82-44D4-8659-3E7C8596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3E60-4DE5-4611-B5D4-C439AF2A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CB845-C6EA-4077-9F5E-796776F7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3781B-86FD-40B1-BD75-35CEB1BE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E0118-8791-45D5-9521-AD867562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79488-B3ED-4405-909F-21915B89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95324-B19E-4BAA-ADF7-8CAB2E22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25B09-51B4-4AD9-8306-8DB0E605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A6DA0C-93D2-458C-A914-B262DB30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E3EE8-5908-4554-8F5D-001F7C41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A2C96-4CCF-46EE-BDBF-3F455AB2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B98BE-009B-47BC-BBFD-7A03D92F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0991-4BB2-487A-806A-2AEA5C15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EEF3B-DE89-4D37-B584-15204DA1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5D9D81-2A17-4065-A032-25209134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D1F42-12C5-48FB-8F6A-27B60F7F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7C814-6E8C-4779-BBCB-9C2B1CBB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AF1B4-1DF1-433A-87EE-EA45386E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09E3-EDAC-4BE2-BE11-3A4D4BE4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7EB5-E116-4BC3-9B10-F5225829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2AD2-7AC1-4557-86BF-2E0A3B08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480B-A231-4872-8319-B7C0C5EC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5703-DC03-4382-BF28-7D97A0F4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EFF-5242-4B59-8BF2-1199D8F4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AF57-AF92-4A57-BF0A-9B0CD96B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A946-AB69-41D5-88C2-064C94C9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9C76-817E-48AD-91B3-BB106AB0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EC2C-DA54-4D5F-A574-589711E5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CD19-2366-4729-91D8-CE83E081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ECBE2-EEF1-4525-9C71-9BADD17B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4A62-B495-4037-AE81-50A393AD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7FD3-865C-4BA2-B7A3-84AA72BF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20DA1-1828-4ABE-BC4B-4D8644F9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47280-B890-4750-A7CB-53C8BE98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C45-E0AF-42A8-8921-EFC21262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2E237-AB18-476D-9EDB-206B4A4C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649A-D924-456D-941F-9DBE4849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2936-4A00-4E8C-8DAF-648AB343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EEE06-5C60-4E0A-B7C8-378EEFEF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E02E-3DA3-42CA-804D-482BCEBC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6F1EC-F783-4D65-AA46-A29E753A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6FAB4-82F5-459B-A0E5-47BDC07B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F0ED8-0D09-4EA2-961E-0F17F4DF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F0C39-4C28-4C05-857E-F38C000C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27CE2-3181-453E-91A9-91C3EEE7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627-0821-4EB8-B333-0FEF7085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B617F-B0D3-4BEE-BD58-CBBAF4AD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BEED-B064-41C1-BEF5-0060BD4A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DB7E2-BF5F-451B-BE9A-2E2D01C7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D11F1-00D6-4680-86D8-2A6F0DEE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F924-A1DC-4189-819E-C590CE2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BB502-43FF-4751-B204-BCD2744E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77E4A-5FC2-4B83-8BD9-D5C0F82B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E1D72-C4F3-4D49-AA23-C08576F0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6A444-4BAC-47D6-BE96-29CEC607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3265C-951A-4FDB-B894-1BEF3F6B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022-403D-4E80-BEDA-6197B0B0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0F08D-BD4A-4330-84A8-21BD311F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C6C6A-2F4E-42B2-8A82-BE283434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407CB-A16D-4B82-A909-61466D07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8207C-EAE1-454A-BDE6-862495C2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DDB7C-0083-4E58-B6BF-B69CE52D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C5B24-5809-4E79-896C-07A2AEE4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54C4E-F388-4C95-BF40-2B3864B4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4292B-8D78-40B2-8D7E-C7E18026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EE727-F0D7-434D-ACB5-351D12A0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0717-C9F7-4E67-A822-72D99745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24B-DABD-48F5-890E-B72EB615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C9C0C-C24D-4E5B-82DD-8318E6BA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05975-BEC0-4B33-B732-C63ABD39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43A2A-FCB2-4AB5-B2AE-B6FAF450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08122-F923-4043-8EC5-7A856EC4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E9811-E3FE-4B43-8293-AB6B36E9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9C3BE-1568-4F55-9179-EA236B93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9C524-A96F-435E-9AC6-F29AFA8A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B7AB6-CE8E-47BA-9FB8-2D8B3C61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EAB5D-FCDE-4A62-A984-17D2C24E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F65D1-C03F-4E7F-9D26-AB7259E3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19E-3450-485C-87A9-2916AC18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8451A-BD82-4365-8E4E-DFAB61F8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80050-A358-4163-BE96-31A39EFC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F4260-5A28-4C00-9156-560B88C5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2B933-7D87-4B15-ACAF-90AE2BB2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06415-8F73-4E1D-864B-72BFF077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DFB5F-943C-40B3-A1B4-7B77FE3D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671F3-FB6E-4934-AE81-6D3D9977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AAE00-8804-40D3-B841-88FCF6FD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0155D-3346-4EA1-B17F-1D098E12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90200-D4DE-4422-9C8D-C0234E23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DA4-156E-4AB7-9D49-F9FA7E01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1489F-635B-4396-A56A-8B432C01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8D92A-5EA7-4C59-8F09-211F170E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93612-B0DA-4FDF-8589-118FF8A6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C4F0A-8E00-43C8-B9CA-7E68CD56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E61B1-5599-41F2-B138-25CA1117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59A5F-DB92-4F74-B8AD-B6FF24E5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9BCD9-5BC4-42D7-88C6-F92F0553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63FFF-7C0D-469D-A250-4A713942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ADFC3-14D7-4488-8588-8348B184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FF250-CB71-4691-B601-0ED20DB6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6E3-531F-4F7B-BA39-20E8A276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23398-5DA8-4D9C-BE13-64B10ACA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48A5A-CF61-4709-AF82-095F49E3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44F7E-4BC5-417C-96AD-143400FC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21D03-3E9D-4CCC-9E91-7E0FBCD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4C246-4335-4D03-9CE4-276570D9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C5758-9D58-4E0C-BC11-DA5F984E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748B4-63F1-4B26-8C83-76583CCC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CFE33-D2C9-4D40-BFAD-F56CC7A6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DB866-D888-461D-81BA-17811D1E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62E03-5C90-49DB-B0D0-624E0CF6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CA09-7330-410B-AB25-FF152FC26F45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92D2-9F2F-4F3A-B0ED-68E70A60E300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876A-319A-475C-95E0-A27F9ECED627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4586-03DB-4A51-AE63-9937F8605676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3339-69AD-4EEB-A59D-50EA9FD35CE7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BDD1-46E4-4D49-A41D-221A9C35C8D0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511C-1F24-480A-AC55-98AE14A41DC7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8BD5-DAB6-4F94-8050-8082470CB192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4EFB-87A1-41B4-B9B2-E23813553D50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48BF-48A9-4503-A788-758B9BDEA9B6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9A25-36A1-428C-94CD-6615D498B8C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2EE8-CDA6-42FF-8A37-CE8CA3768B26}" type="slidenum">
              <a:rPr b="0" lang="ru-RU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-2003-04.photosight.ru/22/195539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auto.ptz.ru/photos/2008/11/2b08e31a40b7c147476e967653dc2ffa/0-36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collectimages.ru/base_big_img/%CB%FE%E4%E8/%D0%E0%E1%EE%F2%E0%26nbsp%3B%E8%26nbsp%3B%EE%E1%F9%E5%ED%E8%E5/2_2966.jp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uflex.ru/pub/img/news/21_07/roofer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interpress.ru/getfull.php?name=95841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mg-2005-12.photosight.ru/18/1185526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spb-foto.ru/foto/thumbs/lrg-182-kulikov.jpg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uainfo.com/photos/big/110614_1.jp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59315s010.edusite.ru/images/p14_pic_0057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yug.so-ups.ru/images/sten/2002/04rdu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www.x-iks.ru/face/yn.jpg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trestssc.ru/pictures/sorochinsk/engineer.jpg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museum.ru/imgB.asp?17771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as.baikal.tv/news/nimg/2001_02_03/1/Korrek2.jpg" TargetMode="External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yaroslavbud.com.ua/images/builders1.jpg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286080" y="214200"/>
            <a:ext cx="58579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no Pro Smbd Display"/>
              </a:rPr>
              <a:t>ЕСТЬ ТАКАЯ ПРОФЕССИЯ - СТРОИТЕЛЬ!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2928960"/>
            <a:ext cx="550080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Все профессии нужны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 все профессии важны,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а строителя работа —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всех нужней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Georgia"/>
              </a:rPr>
              <a:t>и всех важней!</a:t>
            </a:r>
            <a:br>
              <a:rPr sz="3800"/>
            </a:br>
            <a:endParaRPr b="0" lang="en-US" sz="28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608" name="Picture 5" descr="Картинка 3 из 42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85840"/>
            <a:ext cx="1571400" cy="2074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Картинка 48 из 42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57880" y="3286080"/>
            <a:ext cx="3378240" cy="2214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9" descr="Картинка 60 из 42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71800" y="285840"/>
            <a:ext cx="13302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Заголовок 1" descr=""/>
          <p:cNvPicPr/>
          <p:nvPr/>
        </p:nvPicPr>
        <p:blipFill>
          <a:blip r:embed="rId1"/>
          <a:stretch/>
        </p:blipFill>
        <p:spPr>
          <a:xfrm>
            <a:off x="85680" y="285840"/>
            <a:ext cx="8813880" cy="95724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 txBox="1"/>
          <p:nvPr/>
        </p:nvSpPr>
        <p:spPr>
          <a:xfrm>
            <a:off x="0" y="1571760"/>
            <a:ext cx="712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троители нужны были во все времена. Эта специальность дает надежду на стабильность и веру в будущее. А с чем сравнить чувство гордости, когда, проходя мимо красивого высотного дома, понимаешь: «Здесь ничего бы не стояло, когда бы не было меня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акую бы специальность вы ни выбрали, самосовершенствоваться предстоит постоянно. Только при этом условии вы станете востребованным специалистом, и тогда из всех претендентов на вакансию возьмут именно Вас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0" name="Picture 4" descr="Картинка 90 из 34682"/>
          <p:cNvPicPr/>
          <p:nvPr/>
        </p:nvPicPr>
        <p:blipFill>
          <a:blip r:embed="rId2"/>
          <a:stretch/>
        </p:blipFill>
        <p:spPr>
          <a:xfrm>
            <a:off x="6858000" y="2357280"/>
            <a:ext cx="2085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842920" y="2781000"/>
            <a:ext cx="581796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оитель, возведи мне дом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ез шуток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самом деле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чтобы леса росли на нем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чтобы птицы пели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9" descr="Картинка 60 из 4265"/>
          <p:cNvPicPr/>
          <p:nvPr/>
        </p:nvPicPr>
        <p:blipFill>
          <a:blip r:embed="rId1"/>
          <a:stretch/>
        </p:blipFill>
        <p:spPr>
          <a:xfrm>
            <a:off x="468360" y="1989000"/>
            <a:ext cx="267012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6" descr="Картинка 97 из 34682"/>
          <p:cNvPicPr/>
          <p:nvPr/>
        </p:nvPicPr>
        <p:blipFill>
          <a:blip r:embed="rId1"/>
          <a:stretch/>
        </p:blipFill>
        <p:spPr>
          <a:xfrm>
            <a:off x="4429080" y="2500200"/>
            <a:ext cx="4276800" cy="381024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 txBox="1"/>
          <p:nvPr/>
        </p:nvSpPr>
        <p:spPr>
          <a:xfrm>
            <a:off x="301320" y="1527120"/>
            <a:ext cx="698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спользованы Интернет-ресурсы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shalasha.net/stroitelnoe-remeslo/professiya-stroitel.-2.htm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petroglif.narod.ru/pub/drevniestroiteli.htm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2571840" y="1571400"/>
            <a:ext cx="40528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Дворцов прекрасных очертанья,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Простой избушки естество —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Все рук строителей созданье,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Все — дорогое мастерство.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Мостов ажурность, ширь каналов,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Стать городов и куполов —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Их труд, не то чтобы немалый —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Georgia"/>
              </a:rPr>
              <a:t>Основа жизненных основ!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4" descr="http://im5-tub.yandex.net/i?id=11129121&amp;tov=5"/>
          <p:cNvPicPr/>
          <p:nvPr/>
        </p:nvPicPr>
        <p:blipFill>
          <a:blip r:embed="rId1"/>
          <a:stretch/>
        </p:blipFill>
        <p:spPr>
          <a:xfrm>
            <a:off x="1714680" y="3143160"/>
            <a:ext cx="1072800" cy="15717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http://im7-tub.yandex.net/i?id=6853317&amp;tov=7"/>
          <p:cNvPicPr/>
          <p:nvPr/>
        </p:nvPicPr>
        <p:blipFill>
          <a:blip r:embed="rId2"/>
          <a:stretch/>
        </p:blipFill>
        <p:spPr>
          <a:xfrm>
            <a:off x="285840" y="2500200"/>
            <a:ext cx="928440" cy="14367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http://im7-tub.yandex.net/i?id=39448059&amp;tov=7"/>
          <p:cNvPicPr/>
          <p:nvPr/>
        </p:nvPicPr>
        <p:blipFill>
          <a:blip r:embed="rId3"/>
          <a:stretch/>
        </p:blipFill>
        <p:spPr>
          <a:xfrm>
            <a:off x="1357200" y="1643040"/>
            <a:ext cx="1357560" cy="10126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0" descr="http://im7-tub.yandex.net/i?id=64993059&amp;tov=7"/>
          <p:cNvPicPr/>
          <p:nvPr/>
        </p:nvPicPr>
        <p:blipFill>
          <a:blip r:embed="rId4"/>
          <a:stretch/>
        </p:blipFill>
        <p:spPr>
          <a:xfrm>
            <a:off x="500040" y="4589640"/>
            <a:ext cx="1071720" cy="15300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2" descr="http://im7-tub.yandex.net/i?id=48883524&amp;tov=7"/>
          <p:cNvPicPr/>
          <p:nvPr/>
        </p:nvPicPr>
        <p:blipFill>
          <a:blip r:embed="rId5"/>
          <a:stretch/>
        </p:blipFill>
        <p:spPr>
          <a:xfrm>
            <a:off x="1928880" y="521496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4" descr="http://im3-tub.yandex.net/i?id=53044167&amp;tov=3"/>
          <p:cNvPicPr/>
          <p:nvPr/>
        </p:nvPicPr>
        <p:blipFill>
          <a:blip r:embed="rId6"/>
          <a:stretch/>
        </p:blipFill>
        <p:spPr>
          <a:xfrm>
            <a:off x="6643800" y="5143680"/>
            <a:ext cx="642960" cy="9842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6" descr="http://im8-tub.yandex.net/i?id=9378715&amp;tov=8"/>
          <p:cNvPicPr/>
          <p:nvPr/>
        </p:nvPicPr>
        <p:blipFill>
          <a:blip r:embed="rId7"/>
          <a:stretch/>
        </p:blipFill>
        <p:spPr>
          <a:xfrm>
            <a:off x="6572160" y="1428840"/>
            <a:ext cx="885960" cy="1361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8" descr="http://im5-tub.yandex.net/i?id=35230726&amp;tov=5"/>
          <p:cNvPicPr/>
          <p:nvPr/>
        </p:nvPicPr>
        <p:blipFill>
          <a:blip r:embed="rId8"/>
          <a:stretch/>
        </p:blipFill>
        <p:spPr>
          <a:xfrm>
            <a:off x="7500960" y="242892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0" descr="http://im6-tub.yandex.net/i?id=31447849&amp;tov=6"/>
          <p:cNvPicPr/>
          <p:nvPr/>
        </p:nvPicPr>
        <p:blipFill>
          <a:blip r:embed="rId9"/>
          <a:stretch/>
        </p:blipFill>
        <p:spPr>
          <a:xfrm>
            <a:off x="6715080" y="3714840"/>
            <a:ext cx="1409760" cy="9237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2" descr="http://im8-tub.yandex.net/i?id=83880799&amp;tov=8"/>
          <p:cNvPicPr/>
          <p:nvPr/>
        </p:nvPicPr>
        <p:blipFill>
          <a:blip r:embed="rId10"/>
          <a:stretch/>
        </p:blipFill>
        <p:spPr>
          <a:xfrm>
            <a:off x="7929720" y="4786200"/>
            <a:ext cx="866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0" y="1214280"/>
            <a:ext cx="49291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Georgia"/>
              </a:rPr>
              <a:t>Кровельщик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— одна из самых древних строительных профессий. Каменщиков и кровельщиков обучают в профессионально-технических училищах и колледжах. Со временем мастера могут повысить квалификацию, стать звеньевыми, бригадирами или продолжить обучение в строительных техникумах и институтах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Картинка 8 из 7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760" y="1571760"/>
            <a:ext cx="2381040" cy="14666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Картинка 41 из 7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6720" y="3143160"/>
            <a:ext cx="1857240" cy="2928960"/>
          </a:xfrm>
          <a:prstGeom prst="rect">
            <a:avLst/>
          </a:prstGeom>
          <a:ln w="0">
            <a:noFill/>
          </a:ln>
        </p:spPr>
      </p:pic>
      <p:pic>
        <p:nvPicPr>
          <p:cNvPr id="625" name="Заголовок 1" descr=""/>
          <p:cNvPicPr/>
          <p:nvPr/>
        </p:nvPicPr>
        <p:blipFill>
          <a:blip r:embed="rId5"/>
          <a:stretch/>
        </p:blipFill>
        <p:spPr>
          <a:xfrm>
            <a:off x="158760" y="285840"/>
            <a:ext cx="886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Заголовок 1" descr=""/>
          <p:cNvPicPr/>
          <p:nvPr/>
        </p:nvPicPr>
        <p:blipFill>
          <a:blip r:embed="rId1"/>
          <a:stretch/>
        </p:blipFill>
        <p:spPr>
          <a:xfrm>
            <a:off x="298440" y="212760"/>
            <a:ext cx="8205840" cy="9572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 txBox="1"/>
          <p:nvPr/>
        </p:nvSpPr>
        <p:spPr>
          <a:xfrm>
            <a:off x="-360" y="1356840"/>
            <a:ext cx="50720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т профессионализма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маляра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зависит внешний вид построенного здания. По тому, с каким качеством выполнены отделочные работы, жители судят о строительстве, о качестве выполненных работ. Именно маляр передает ключи инвесторам во вновь построенных квартирах. Малярами работают в основном женщины. Эта работа требует терпения, ловкости и сноровки, любви к своему делу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2" descr="Картинка 13 из 56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760" y="3357720"/>
            <a:ext cx="1885680" cy="27144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Картинка 104 из 560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29280" y="1428840"/>
            <a:ext cx="1845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Заголовок 1" descr=""/>
          <p:cNvPicPr/>
          <p:nvPr/>
        </p:nvPicPr>
        <p:blipFill>
          <a:blip r:embed="rId1"/>
          <a:stretch/>
        </p:blipFill>
        <p:spPr>
          <a:xfrm>
            <a:off x="298440" y="212760"/>
            <a:ext cx="7954920" cy="9572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 txBox="1"/>
          <p:nvPr/>
        </p:nvSpPr>
        <p:spPr>
          <a:xfrm>
            <a:off x="0" y="1214280"/>
            <a:ext cx="5572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Творческим натурам подойдет работа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облицовщика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которая состоит в создании мозаичных, плиточных или облицованных мрамором полов, стен, деталей различных архитектурных сооружений. Эти мастера трудятся на строительстве домов, промышленных предприятий.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Мозаичник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ысокого разряда оформляет колонны и пилястры, отделывает криволинейные поверхности, прорисовывает жилки на искусственном мраморе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Picture 2" descr="Картинка 11 из 14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29160" y="3714840"/>
            <a:ext cx="3097440" cy="2428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Картинка 17 из 13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72200" y="11430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Заголовок 1" descr=""/>
          <p:cNvPicPr/>
          <p:nvPr/>
        </p:nvPicPr>
        <p:blipFill>
          <a:blip r:embed="rId1"/>
          <a:stretch/>
        </p:blipFill>
        <p:spPr>
          <a:xfrm>
            <a:off x="85680" y="139680"/>
            <a:ext cx="8813880" cy="9637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 txBox="1"/>
          <p:nvPr/>
        </p:nvSpPr>
        <p:spPr>
          <a:xfrm>
            <a:off x="0" y="1285920"/>
            <a:ext cx="5214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лово «инженер» в переводе с латинского обозначает «сообразительный, находчивый». Изначально инженерами называли тех, кто управлял военными машинами. Понятие гражданский инженер появилось в XVI веке 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Инженер-строитель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олучает базовую строительную специальность ПГС (промышленное и гражданское строительство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Инженер – главный на стройке!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2" descr="Картинка 31 из 479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86280" y="1500120"/>
            <a:ext cx="2760840" cy="20718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Картинка 67 из 4798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29120" y="4000680"/>
            <a:ext cx="2760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Заголовок 1" descr=""/>
          <p:cNvPicPr/>
          <p:nvPr/>
        </p:nvPicPr>
        <p:blipFill>
          <a:blip r:embed="rId1"/>
          <a:stretch/>
        </p:blipFill>
        <p:spPr>
          <a:xfrm>
            <a:off x="328680" y="212760"/>
            <a:ext cx="8815320" cy="95724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 txBox="1"/>
          <p:nvPr/>
        </p:nvSpPr>
        <p:spPr>
          <a:xfrm>
            <a:off x="0" y="1213920"/>
            <a:ext cx="5286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Геодезист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ряду с модными профессиями есть такие, о которых мало информации, несмотря на востребованность. Геодезист из их числа. В любой газете с вакансиями встречаются объявления «Приглашаем на работу геодезиста». Причем требуется он во многих сферах деятельности: строительство, составление карт, решение вопросов по навигации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2" descr="Картинка 22 из 479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0800" y="1785960"/>
            <a:ext cx="2590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Заголовок 1" descr=""/>
          <p:cNvPicPr/>
          <p:nvPr/>
        </p:nvPicPr>
        <p:blipFill>
          <a:blip r:embed="rId1"/>
          <a:stretch/>
        </p:blipFill>
        <p:spPr>
          <a:xfrm>
            <a:off x="85680" y="212760"/>
            <a:ext cx="8813880" cy="9572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0" y="1213920"/>
            <a:ext cx="5214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Архитектор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Если бы на свете не существовало профессии архитектор, человечество до сих пор ютилось бы в пещерах. Он придумывает основную концепцию здания, его облик, увязывает воедино все нюансы. Задача архитектора — спроектировать сооружение, максимально отвечающее потребностям заказчика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спех архитектора складывается из таланта, любви к профессии и упорного труд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Picture 2" descr="Картинка 52 из 344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3680" y="1571760"/>
            <a:ext cx="2862000" cy="21477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Картинка 51 из 3442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50080" y="3857760"/>
            <a:ext cx="2927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Картинка 16 из 346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57120"/>
            <a:ext cx="2857680" cy="3714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Картинка 32 из 34682"/>
          <p:cNvPicPr/>
          <p:nvPr/>
        </p:nvPicPr>
        <p:blipFill>
          <a:blip r:embed="rId3"/>
          <a:stretch/>
        </p:blipFill>
        <p:spPr>
          <a:xfrm>
            <a:off x="6929280" y="2500200"/>
            <a:ext cx="1962360" cy="381024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 txBox="1"/>
          <p:nvPr/>
        </p:nvSpPr>
        <p:spPr>
          <a:xfrm>
            <a:off x="2714760" y="1643040"/>
            <a:ext cx="464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Профессия эта почетна,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Строитель - ударник труда!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Чем больше старанья в работе,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Тем крепче, прочнее дома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Машины, высокие краны,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Работай с душой, человек!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Чтоб все получилось отлично,</a:t>
            </a:r>
            <a:br>
              <a:rPr sz="2400"/>
            </a:br>
            <a:r>
              <a:rPr b="0" lang="ru-RU" sz="2400" spc="-1" strike="noStrike">
                <a:solidFill>
                  <a:srgbClr val="403152"/>
                </a:solidFill>
                <a:latin typeface="Georgia"/>
              </a:rPr>
              <a:t>И зданья стояли весь век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52:46Z</dcterms:created>
  <dc:creator>Алёна</dc:creator>
  <dc:description/>
  <dc:language>en-US</dc:language>
  <cp:lastModifiedBy>user</cp:lastModifiedBy>
  <dcterms:modified xsi:type="dcterms:W3CDTF">2021-10-28T11:08:58Z</dcterms:modified>
  <cp:revision>24</cp:revision>
  <dc:subject/>
  <dc:title>Слайд 1</dc:title>
</cp:coreProperties>
</file>