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14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0.png" ContentType="image/pn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EAD-3464-4B79-91F5-A545EDB3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E040-471D-4627-919C-CE9A8640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95A97B-2261-4B5E-9E98-BFBDB38C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33B497-57B2-402C-AFA0-0B22D9CB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A478AF-9831-463A-8A7A-DECDDAF7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96228-50D8-4D2C-B43E-4A2C673F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7EBABD-F1DD-4D4F-82C5-57E35648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32651D-C00A-4F64-943E-7CA3CCB8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E56706-289F-47F1-ABA1-8C1F0E77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594B95-899A-4853-ACA2-40D7CB3B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43E789-1555-446A-BB96-EC0A10FD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695C41-C167-4AEF-84E6-DF2EA9A4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D3FE-D46A-4DF3-BA37-CA9C38E7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CB249E-443A-44DC-A710-3E67EA44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60EDD8-4AAC-4B30-AE14-4245CDA5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F2E9FA-2EEB-49E7-ADDE-4BEAE6F2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200B1B-36BF-4EBE-A6C6-9C00B95F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B8E0D-0D83-4FF7-BB4B-AF616824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6A86BC-B996-4CEC-B9AD-D184551F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CB3169-3826-460F-9C27-02D7D9B5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4CE94C-E96D-4818-AE4B-D6ED94E1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A74A8F-D1DD-4E73-A7B8-F375E6AC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2E22F0-D56A-4BC3-B24C-4640E24D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68EB-FFBA-4E51-9E11-6798CEA3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EF9807-A43C-4618-9DED-C51D4BAF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D2954-44E6-4EB1-8D04-F33798D2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79C64-FE23-4B25-A358-B461CE75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5A83F-B82F-4008-9DA2-DEB7807A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A8422-F28A-4242-9316-6DF2D522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EF019-0C21-41F5-9EE2-AB9AB2A8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0B990-3B09-4D4F-A045-D4707861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BA9D5-B971-4348-9531-CE8112CC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8B8AC-9371-4782-8486-2F95EBA7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766FC-617C-47ED-87D2-224A2686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E419-5D14-4299-AB63-B81372FE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8248D-1A04-4680-AA6E-4E8C5E3F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0A681-7E0C-4C40-B773-8D7085D5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4C2F5-CE82-4892-B399-D3EB4EF2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B04D0D-A736-4C85-9018-EC020CC1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88ECA6-1A51-4D6A-B734-3AF5930F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C858D6-ACD1-4AB5-8A3E-06EEC2B8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3724B2-19A1-45BE-BDE8-5AFBEEF0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4083F9-7308-4E35-A9E4-A13D1456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A59BD2-3F8D-44B5-921B-9279C5EB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A08E7B-9264-414A-BD3F-53F51794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176F-D0A9-426E-B71B-B5A653B3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A21940-3396-45A8-BBD3-D21C3C88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CAF9CE-0B48-4032-BBEE-FD9D8599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7C9532-82F7-4AAD-948F-1EC421D4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528446-2F84-48A9-AC91-CBF99B9E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6E6952-6E2A-46BD-B988-600E7DDD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8B63-9A20-4160-827A-1703C4C8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290D-BF61-4775-BB75-F6E2FC95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80B3-019E-42B7-8320-59A48692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7F2B-E4CC-4EEC-8142-B8CBC4D3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1A15-9E6A-44BD-96D9-067EA557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1B35-3CB6-423D-A422-2C252E2F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EC39-BDD6-4B67-B557-DD091A5D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4BB3-A735-4109-9A7F-B15772E6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A907-A2AC-4015-B994-7DA722A3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96FE-51CD-4078-811D-BBC1FC82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D0EE-ED3A-46F2-9A23-506E5998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FAB95-0E46-4AA0-82A0-6E35FED3D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FDACD-0B3D-40DC-88AB-D033EC6A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A774C-C56E-4B4E-92FE-F342299B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0094F-FB81-4F31-B963-02A84AE2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FEBC6-8646-4C39-9788-3D744833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67F8-EAAE-45C2-88C0-1B7B8D53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F9F79-FC52-4295-A9A9-CB9409BA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C88D4-DD45-4C4F-BD7A-6F1ACDC3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B38B2-FF0C-49C6-9C7C-DC6EE61D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733B7-E7DC-4983-BDA7-813B9AAB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7570D-5652-4717-B7B1-2BFEA419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62FA9-3D12-4405-96AF-68F88187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2CE95-4D80-4BBD-A765-CC36A646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2BC2D-DB6F-40D6-BC6B-E5845569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1E671-427D-4FC5-A3AF-F606348B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3FC5A-0D57-41D2-AA49-20D542F0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C664-8615-4887-B63A-FE378983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37634-DE73-4BC9-96EA-55544296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2F211-441F-47B0-BA15-9F4B124A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06BB3-FE55-4B28-BBC3-EB2F8438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ADD77-9F03-45DB-9F04-44E67EA3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90FCA-DA1C-4F6F-9261-F211DB7D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C83CE-A8F4-40DF-86B5-3E02C4C2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AE508-1914-4847-AD1C-252E425D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C609C-E62A-42A3-A1A7-6A6A166C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C3BC5-4AFA-4817-B5E5-885A6163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45F50-5682-47B1-9E84-1A61935C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39D0-DE31-4B47-B6CB-B5A400A8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DD889-CA33-4F10-BE72-6C457DB3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09319-5347-4A0B-8B96-791D46EB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59051-9910-4385-B896-2EC0377A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21FAE-73DF-4362-9D15-4A3140FF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10C05-8173-4F15-9BDD-15C39E84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833F3-9ADF-408E-B8F0-84E5DCBA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FC568-95F8-4C65-90F3-9CFCDC12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0E20B-3EFE-4308-A476-9E594067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9A99D-F743-4A1D-9A8D-848D8525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0AC58-59F1-4686-99E4-F2AE668C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BA4D-903F-47C7-8E88-463A85D7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72469-C697-4D26-BFC4-2E493AB6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AE258-0777-4541-8506-EC2DFB40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2E5E9-EC56-487A-B942-89D70C5C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C84D9-8D8C-49FA-BD42-FBEE1AB7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BDB5C-3011-47FA-8846-1928E556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89327-FC0D-4A09-94F8-516BDA10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811C1-1EF1-4A09-8F26-A8E2F48F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FEB1C-6C5B-4979-A21F-EEE13B15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D1A18-2416-421B-8E69-0B832EA4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A9275-F109-4AF2-AFC8-0AD08AB0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57AD-6208-47A5-A1E5-78018A2D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FF99B-4BC0-4366-979B-5B3C2565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87B6B-76B7-4280-9F8C-2E147CAC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7815D-823D-4A29-B9B3-47DAE6D3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6C119-7E9F-4B84-9E31-06266102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E8788-6C58-485C-9465-B6246CE3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C6FB0-8943-4C81-8FF5-AC2FDA17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30CE9-D2E4-416C-8AC7-738D69EC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8E60D-BB49-43B4-AC5A-8F9696BA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924A3-6E2A-4696-89E2-BBA542C6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C146C-472A-4443-9825-E924E2B5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39D9-61C4-4E35-BE66-5DD8EF73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31188-7D26-400C-92A9-BA10A1CE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822ED-3FD4-4DD6-9B5A-80A529E6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56542-2B95-40B5-835A-08A91494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61A3F-883B-412E-9EF1-7FBF3461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EBE41-AE9F-4F66-AD85-8EE94B65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29EFA-C7F0-4548-BB66-0E08F157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26B50-0002-4E4E-8DD1-D4DE264F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4A2A0-68C8-4E8F-9F2C-9257FA0D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32A83-A4CD-45B4-814B-10C19CE4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CEB7B-C089-465F-AFD5-AAD30677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921E-6CA8-4B3B-BBB9-844AC725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EA66B-74C4-48FE-BEA4-3DADF9DD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FD4CA-68C5-4FAB-819D-E156E72A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E2140-B851-4B83-AF20-4174613F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A3B52-4406-4636-A636-7B7C509B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68A1F-EAE8-4C1F-ACE9-63B6E49F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581B6-3917-4AA8-9AEE-4C3430742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815A9-5376-45FE-954D-443E3FEB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69086C-A215-4D76-A5F5-6EE45D3A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06CC21-2F76-40E5-8CFC-A3EEB51E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01823C-D8EA-4936-B59F-9FC2C036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711A-4D4D-4671-AA87-2E9795B91D62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8A4B-41FF-48AC-8B28-A666EC3283E9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0312-6D0F-4642-AAFB-0C115DFEE33C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A6F7-84F6-4CA5-90D8-6B4E943710D1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9EC7-0173-4653-8911-32BE5D7CA381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9192-FCAA-4B08-A899-C2F90E25757F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85B0-0D4E-47A8-B05E-B362AD985C02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6487-BB1A-4CC4-AEA5-E8EC89076FAA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2A00-C18A-46D2-9159-9D554C069C61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972C-888C-4187-A5BB-E8E7B424500C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5FAE-075F-4975-8B71-260F6A9A97C5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B37F-D41E-4925-9ADB-784D330B4A5F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-2003-04.photosight.ru/22/195539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uto.ptz.ru/photos/2008/11/2b08e31a40b7c147476e967653dc2ffa/0-36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collectimages.ru/base_big_img/%CB%FE%E4%E8/%D0%E0%E1%EE%F2%E0%26nbsp%3B%E8%26nbsp%3B%EE%E1%F9%E5%ED%E8%E5/2_2966.jpg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uflex.ru/pub/img/news/21_07/roofer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interpress.ru/getfull.php?name=95841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img-2005-12.photosight.ru/18/1185526.jpg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spb-foto.ru/foto/thumbs/lrg-182-kulikov.jpg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uainfo.com/photos/big/110614_1.jpg" TargetMode="External"/><Relationship Id="rId3" Type="http://schemas.openxmlformats.org/officeDocument/2006/relationships/image" Target="../media/image21.jpeg"/><Relationship Id="rId4" Type="http://schemas.openxmlformats.org/officeDocument/2006/relationships/hyperlink" Target="http://59315s010.edusite.ru/images/p14_pic_0057.jpg" TargetMode="Externa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yug.so-ups.ru/images/sten/2002/04rdu.jpg" TargetMode="External"/><Relationship Id="rId3" Type="http://schemas.openxmlformats.org/officeDocument/2006/relationships/image" Target="../media/image24.jpeg"/><Relationship Id="rId4" Type="http://schemas.openxmlformats.org/officeDocument/2006/relationships/hyperlink" Target="http://www.x-iks.ru/face/yn.jpg" TargetMode="External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www.trestssc.ru/pictures/sorochinsk/engineer.jpg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www.museum.ru/imgB.asp?17771" TargetMode="External"/><Relationship Id="rId3" Type="http://schemas.openxmlformats.org/officeDocument/2006/relationships/image" Target="../media/image29.jpeg"/><Relationship Id="rId4" Type="http://schemas.openxmlformats.org/officeDocument/2006/relationships/hyperlink" Target="http://as.baikal.tv/news/nimg/2001_02_03/1/Korrek2.jpg" TargetMode="External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yaroslavbud.com.ua/images/builders1.jpg" TargetMode="External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286080" y="214200"/>
            <a:ext cx="585792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Arno Pro Smbd Display"/>
              </a:rPr>
              <a:t>ЕСТЬ ТАКАЯ ПРОФЕССИЯ - СТРОИТЕЛЬ!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0" y="2928960"/>
            <a:ext cx="550080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Georgia"/>
              </a:rPr>
              <a:t>Все профессии нужны,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Georgia"/>
              </a:rPr>
              <a:t> все профессии важны, 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Georgia"/>
              </a:rPr>
              <a:t>а строителя работа — 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Georgia"/>
              </a:rPr>
              <a:t>всех нужней 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Georgia"/>
              </a:rPr>
              <a:t>и всех важней!</a:t>
            </a:r>
            <a:br>
              <a:rPr sz="3800"/>
            </a:br>
            <a:endParaRPr b="0" lang="en-US" sz="28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08" name="Picture 5" descr="Картинка 3 из 42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285840"/>
            <a:ext cx="1571400" cy="20746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Картинка 48 из 426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57880" y="3286080"/>
            <a:ext cx="3378240" cy="22147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9" descr="Картинка 60 из 426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71800" y="285840"/>
            <a:ext cx="13302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Заголовок 1" descr=""/>
          <p:cNvPicPr/>
          <p:nvPr/>
        </p:nvPicPr>
        <p:blipFill>
          <a:blip r:embed="rId1"/>
          <a:stretch/>
        </p:blipFill>
        <p:spPr>
          <a:xfrm>
            <a:off x="85680" y="285840"/>
            <a:ext cx="8813880" cy="95724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 txBox="1"/>
          <p:nvPr/>
        </p:nvSpPr>
        <p:spPr>
          <a:xfrm>
            <a:off x="0" y="1571760"/>
            <a:ext cx="712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троители нужны были во все времена. Эта специальность дает надежду на стабильность и веру в будущее. А с чем сравнить чувство гордости, когда, проходя мимо красивого высотного дома, понимаешь: «Здесь ничего бы не стояло, когда бы не было меня»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Какую бы специальность вы ни выбрали, самосовершенствоваться предстоит постоянно. Только при этом условии вы станете востребованным специалистом, и тогда из всех претендентов на вакансию возьмут именно Вас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0" name="Picture 4" descr="Картинка 90 из 34682"/>
          <p:cNvPicPr/>
          <p:nvPr/>
        </p:nvPicPr>
        <p:blipFill>
          <a:blip r:embed="rId2"/>
          <a:stretch/>
        </p:blipFill>
        <p:spPr>
          <a:xfrm>
            <a:off x="6858000" y="2357280"/>
            <a:ext cx="2085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2842920" y="2781000"/>
            <a:ext cx="5817960" cy="26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троитель, возведи мне дом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ез шуток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самом деле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бы леса росли на нем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 чтобы птицы пели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3" name="Picture 9" descr="Картинка 60 из 4265"/>
          <p:cNvPicPr/>
          <p:nvPr/>
        </p:nvPicPr>
        <p:blipFill>
          <a:blip r:embed="rId1"/>
          <a:stretch/>
        </p:blipFill>
        <p:spPr>
          <a:xfrm>
            <a:off x="468360" y="1989000"/>
            <a:ext cx="267012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6" descr="Картинка 97 из 34682"/>
          <p:cNvPicPr/>
          <p:nvPr/>
        </p:nvPicPr>
        <p:blipFill>
          <a:blip r:embed="rId1"/>
          <a:stretch/>
        </p:blipFill>
        <p:spPr>
          <a:xfrm>
            <a:off x="4429080" y="2500200"/>
            <a:ext cx="4276800" cy="381024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 txBox="1"/>
          <p:nvPr/>
        </p:nvSpPr>
        <p:spPr>
          <a:xfrm>
            <a:off x="301320" y="1527120"/>
            <a:ext cx="6985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спользованы Интернет-ресурсы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ttp://shalasha.net/stroitelnoe-remeslo/professiya-stroitel.-2.htm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petroglif.narod.ru/pub/drevniestroiteli.htm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images.yandex.ru/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2571840" y="1571400"/>
            <a:ext cx="40528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Дворцов прекрасных очертанья,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Простой избушки естество —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Все рук строителей созданье,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Все — дорогое мастерство.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Мостов ажурность, ширь каналов,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Стать городов и куполов —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Их труд, не то чтобы немалый —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Основа жизненных основ!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4" descr="http://im5-tub.yandex.net/i?id=11129121&amp;tov=5"/>
          <p:cNvPicPr/>
          <p:nvPr/>
        </p:nvPicPr>
        <p:blipFill>
          <a:blip r:embed="rId1"/>
          <a:stretch/>
        </p:blipFill>
        <p:spPr>
          <a:xfrm>
            <a:off x="1714680" y="3143160"/>
            <a:ext cx="1072800" cy="157176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http://im7-tub.yandex.net/i?id=6853317&amp;tov=7"/>
          <p:cNvPicPr/>
          <p:nvPr/>
        </p:nvPicPr>
        <p:blipFill>
          <a:blip r:embed="rId2"/>
          <a:stretch/>
        </p:blipFill>
        <p:spPr>
          <a:xfrm>
            <a:off x="285840" y="2500200"/>
            <a:ext cx="928440" cy="14367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8" descr="http://im7-tub.yandex.net/i?id=39448059&amp;tov=7"/>
          <p:cNvPicPr/>
          <p:nvPr/>
        </p:nvPicPr>
        <p:blipFill>
          <a:blip r:embed="rId3"/>
          <a:stretch/>
        </p:blipFill>
        <p:spPr>
          <a:xfrm>
            <a:off x="1357200" y="1643040"/>
            <a:ext cx="1357560" cy="10126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0" descr="http://im7-tub.yandex.net/i?id=64993059&amp;tov=7"/>
          <p:cNvPicPr/>
          <p:nvPr/>
        </p:nvPicPr>
        <p:blipFill>
          <a:blip r:embed="rId4"/>
          <a:stretch/>
        </p:blipFill>
        <p:spPr>
          <a:xfrm>
            <a:off x="500040" y="4589640"/>
            <a:ext cx="1071720" cy="15300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2" descr="http://im7-tub.yandex.net/i?id=48883524&amp;tov=7"/>
          <p:cNvPicPr/>
          <p:nvPr/>
        </p:nvPicPr>
        <p:blipFill>
          <a:blip r:embed="rId5"/>
          <a:stretch/>
        </p:blipFill>
        <p:spPr>
          <a:xfrm>
            <a:off x="1928880" y="521496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4" descr="http://im3-tub.yandex.net/i?id=53044167&amp;tov=3"/>
          <p:cNvPicPr/>
          <p:nvPr/>
        </p:nvPicPr>
        <p:blipFill>
          <a:blip r:embed="rId6"/>
          <a:stretch/>
        </p:blipFill>
        <p:spPr>
          <a:xfrm>
            <a:off x="6643800" y="5143680"/>
            <a:ext cx="642960" cy="9842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6" descr="http://im8-tub.yandex.net/i?id=9378715&amp;tov=8"/>
          <p:cNvPicPr/>
          <p:nvPr/>
        </p:nvPicPr>
        <p:blipFill>
          <a:blip r:embed="rId7"/>
          <a:stretch/>
        </p:blipFill>
        <p:spPr>
          <a:xfrm>
            <a:off x="6572160" y="1428840"/>
            <a:ext cx="885960" cy="13618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8" descr="http://im5-tub.yandex.net/i?id=35230726&amp;tov=5"/>
          <p:cNvPicPr/>
          <p:nvPr/>
        </p:nvPicPr>
        <p:blipFill>
          <a:blip r:embed="rId8"/>
          <a:stretch/>
        </p:blipFill>
        <p:spPr>
          <a:xfrm>
            <a:off x="7500960" y="2428920"/>
            <a:ext cx="1333440" cy="10000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20" descr="http://im6-tub.yandex.net/i?id=31447849&amp;tov=6"/>
          <p:cNvPicPr/>
          <p:nvPr/>
        </p:nvPicPr>
        <p:blipFill>
          <a:blip r:embed="rId9"/>
          <a:stretch/>
        </p:blipFill>
        <p:spPr>
          <a:xfrm>
            <a:off x="6715080" y="3714840"/>
            <a:ext cx="1409760" cy="9237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22" descr="http://im8-tub.yandex.net/i?id=83880799&amp;tov=8"/>
          <p:cNvPicPr/>
          <p:nvPr/>
        </p:nvPicPr>
        <p:blipFill>
          <a:blip r:embed="rId10"/>
          <a:stretch/>
        </p:blipFill>
        <p:spPr>
          <a:xfrm>
            <a:off x="7929720" y="4786200"/>
            <a:ext cx="8665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0" y="1214280"/>
            <a:ext cx="49291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Georgia"/>
              </a:rPr>
              <a:t>Кровельщик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— одна из самых древних строительных профессий. Каменщиков и кровельщиков обучают в профессионально-технических училищах и колледжах. Со временем мастера могут повысить квалификацию, стать звеньевыми, бригадирами или продолжить обучение в строительных техникумах и институтах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2" descr="Картинка 8 из 7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760" y="1571760"/>
            <a:ext cx="2381040" cy="146664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4" descr="Картинка 41 из 75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86720" y="3143160"/>
            <a:ext cx="1857240" cy="2928960"/>
          </a:xfrm>
          <a:prstGeom prst="rect">
            <a:avLst/>
          </a:prstGeom>
          <a:ln w="0">
            <a:noFill/>
          </a:ln>
        </p:spPr>
      </p:pic>
      <p:pic>
        <p:nvPicPr>
          <p:cNvPr id="625" name="Заголовок 1" descr=""/>
          <p:cNvPicPr/>
          <p:nvPr/>
        </p:nvPicPr>
        <p:blipFill>
          <a:blip r:embed="rId5"/>
          <a:stretch/>
        </p:blipFill>
        <p:spPr>
          <a:xfrm>
            <a:off x="158760" y="285840"/>
            <a:ext cx="886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Заголовок 1" descr=""/>
          <p:cNvPicPr/>
          <p:nvPr/>
        </p:nvPicPr>
        <p:blipFill>
          <a:blip r:embed="rId1"/>
          <a:stretch/>
        </p:blipFill>
        <p:spPr>
          <a:xfrm>
            <a:off x="298440" y="212760"/>
            <a:ext cx="8205840" cy="95724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 txBox="1"/>
          <p:nvPr/>
        </p:nvSpPr>
        <p:spPr>
          <a:xfrm>
            <a:off x="-360" y="1356840"/>
            <a:ext cx="50720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т профессионализма </a:t>
            </a: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маляра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зависит внешний вид построенного здания. По тому, с каким качеством выполнены отделочные работы, жители судят о строительстве, о качестве выполненных работ. Именно маляр передает ключи инвесторам во вновь построенных квартирах. Малярами работают в основном женщины. Эта работа требует терпения, ловкости и сноровки, любви к своему делу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8" name="Picture 2" descr="Картинка 13 из 560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0760" y="3357720"/>
            <a:ext cx="1885680" cy="27144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" descr="Картинка 104 из 560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929280" y="1428840"/>
            <a:ext cx="1845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Заголовок 1" descr=""/>
          <p:cNvPicPr/>
          <p:nvPr/>
        </p:nvPicPr>
        <p:blipFill>
          <a:blip r:embed="rId1"/>
          <a:stretch/>
        </p:blipFill>
        <p:spPr>
          <a:xfrm>
            <a:off x="298440" y="212760"/>
            <a:ext cx="7954920" cy="95724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 txBox="1"/>
          <p:nvPr/>
        </p:nvSpPr>
        <p:spPr>
          <a:xfrm>
            <a:off x="0" y="1214280"/>
            <a:ext cx="55720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Творческим натурам подойдет работа </a:t>
            </a: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облицовщика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 которая состоит в создании мозаичных, плиточных или облицованных мрамором полов, стен, деталей различных архитектурных сооружений. Эти мастера трудятся на строительстве домов, промышленных предприятий.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Мозаичник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высокого разряда оформляет колонны и пилястры, отделывает криволинейные поверхности, прорисовывает жилки на искусственном мраморе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2" name="Picture 2" descr="Картинка 11 из 14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29160" y="3714840"/>
            <a:ext cx="3097440" cy="24289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4" descr="Картинка 17 из 13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72200" y="114300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Заголовок 1" descr=""/>
          <p:cNvPicPr/>
          <p:nvPr/>
        </p:nvPicPr>
        <p:blipFill>
          <a:blip r:embed="rId1"/>
          <a:stretch/>
        </p:blipFill>
        <p:spPr>
          <a:xfrm>
            <a:off x="85680" y="139680"/>
            <a:ext cx="8813880" cy="96372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 txBox="1"/>
          <p:nvPr/>
        </p:nvSpPr>
        <p:spPr>
          <a:xfrm>
            <a:off x="0" y="1285920"/>
            <a:ext cx="5214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лово «инженер» в переводе с латинского обозначает «сообразительный, находчивый». Изначально инженерами называли тех, кто управлял военными машинами. Понятие гражданский инженер появилось в XVI веке 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Инженер-строитель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олучает базовую строительную специальность ПГС (промышленное и гражданское строительство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Инженер – главный на стройке!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6" name="Picture 2" descr="Картинка 31 из 479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86280" y="1500120"/>
            <a:ext cx="2760840" cy="20718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Картинка 67 из 4798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29120" y="4000680"/>
            <a:ext cx="27608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Заголовок 1" descr=""/>
          <p:cNvPicPr/>
          <p:nvPr/>
        </p:nvPicPr>
        <p:blipFill>
          <a:blip r:embed="rId1"/>
          <a:stretch/>
        </p:blipFill>
        <p:spPr>
          <a:xfrm>
            <a:off x="328680" y="212760"/>
            <a:ext cx="8815320" cy="95724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 txBox="1"/>
          <p:nvPr/>
        </p:nvSpPr>
        <p:spPr>
          <a:xfrm>
            <a:off x="0" y="1213920"/>
            <a:ext cx="52862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Геодезист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Наряду с модными профессиями есть такие, о которых мало информации, несмотря на востребованность. Геодезист из их числа. В любой газете с вакансиями встречаются объявления «Приглашаем на работу геодезиста». Причем требуется он во многих сферах деятельности: строительство, составление карт, решение вопросов по навигации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0" name="Picture 2" descr="Картинка 22 из 479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0800" y="1785960"/>
            <a:ext cx="25905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Заголовок 1" descr=""/>
          <p:cNvPicPr/>
          <p:nvPr/>
        </p:nvPicPr>
        <p:blipFill>
          <a:blip r:embed="rId1"/>
          <a:stretch/>
        </p:blipFill>
        <p:spPr>
          <a:xfrm>
            <a:off x="85680" y="212760"/>
            <a:ext cx="8813880" cy="9572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 txBox="1"/>
          <p:nvPr/>
        </p:nvSpPr>
        <p:spPr>
          <a:xfrm>
            <a:off x="0" y="1213920"/>
            <a:ext cx="52149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Архитектор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Если бы на свете не существовало профессии архитектор, человечество до сих пор ютилось бы в пещерах. Он придумывает основную концепцию здания, его облик, увязывает воедино все нюансы. Задача архитектора — спроектировать сооружение, максимально отвечающее потребностям заказчика.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Успех архитектора складывается из таланта, любви к профессии и упорного труда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3" name="Picture 2" descr="Картинка 52 из 3442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43680" y="1571760"/>
            <a:ext cx="2862000" cy="21477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4" descr="Картинка 51 из 3442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50080" y="3857760"/>
            <a:ext cx="2927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Картинка 16 из 3468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357120"/>
            <a:ext cx="2857680" cy="37148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" descr="Картинка 32 из 34682"/>
          <p:cNvPicPr/>
          <p:nvPr/>
        </p:nvPicPr>
        <p:blipFill>
          <a:blip r:embed="rId3"/>
          <a:stretch/>
        </p:blipFill>
        <p:spPr>
          <a:xfrm>
            <a:off x="6929280" y="2500200"/>
            <a:ext cx="1962360" cy="381024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 txBox="1"/>
          <p:nvPr/>
        </p:nvSpPr>
        <p:spPr>
          <a:xfrm>
            <a:off x="2714760" y="1643040"/>
            <a:ext cx="464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Georgia"/>
              </a:rPr>
              <a:t>Профессия эта почетна,</a:t>
            </a:r>
            <a:br>
              <a:rPr sz="2400"/>
            </a:br>
            <a:r>
              <a:rPr b="0" lang="ru-RU" sz="2400" spc="-1" strike="noStrike">
                <a:solidFill>
                  <a:srgbClr val="403152"/>
                </a:solidFill>
                <a:latin typeface="Georgia"/>
              </a:rPr>
              <a:t>Строитель - ударник труда!</a:t>
            </a:r>
            <a:br>
              <a:rPr sz="2400"/>
            </a:br>
            <a:r>
              <a:rPr b="0" lang="ru-RU" sz="2400" spc="-1" strike="noStrike">
                <a:solidFill>
                  <a:srgbClr val="403152"/>
                </a:solidFill>
                <a:latin typeface="Georgia"/>
              </a:rPr>
              <a:t>Чем больше старанья в работе,</a:t>
            </a:r>
            <a:br>
              <a:rPr sz="2400"/>
            </a:br>
            <a:r>
              <a:rPr b="0" lang="ru-RU" sz="2400" spc="-1" strike="noStrike">
                <a:solidFill>
                  <a:srgbClr val="403152"/>
                </a:solidFill>
                <a:latin typeface="Georgia"/>
              </a:rPr>
              <a:t>Тем крепче, прочнее дома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403152"/>
                </a:solidFill>
                <a:latin typeface="Georgia"/>
              </a:rPr>
              <a:t>Машины, высокие краны,</a:t>
            </a:r>
            <a:br>
              <a:rPr sz="2400"/>
            </a:br>
            <a:r>
              <a:rPr b="0" lang="ru-RU" sz="2400" spc="-1" strike="noStrike">
                <a:solidFill>
                  <a:srgbClr val="403152"/>
                </a:solidFill>
                <a:latin typeface="Georgia"/>
              </a:rPr>
              <a:t>Работай с душой, человек!</a:t>
            </a:r>
            <a:br>
              <a:rPr sz="2400"/>
            </a:br>
            <a:r>
              <a:rPr b="0" lang="ru-RU" sz="2400" spc="-1" strike="noStrike">
                <a:solidFill>
                  <a:srgbClr val="403152"/>
                </a:solidFill>
                <a:latin typeface="Georgia"/>
              </a:rPr>
              <a:t>Чтоб все получилось отлично,</a:t>
            </a:r>
            <a:br>
              <a:rPr sz="2400"/>
            </a:br>
            <a:r>
              <a:rPr b="0" lang="ru-RU" sz="2400" spc="-1" strike="noStrike">
                <a:solidFill>
                  <a:srgbClr val="403152"/>
                </a:solidFill>
                <a:latin typeface="Georgia"/>
              </a:rPr>
              <a:t>И зданья стояли весь век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4:52:46Z</dcterms:created>
  <dc:creator>Алёна</dc:creator>
  <dc:description/>
  <dc:language>en-US</dc:language>
  <cp:lastModifiedBy>user</cp:lastModifiedBy>
  <dcterms:modified xsi:type="dcterms:W3CDTF">2021-10-28T11:08:58Z</dcterms:modified>
  <cp:revision>24</cp:revision>
  <dc:subject/>
  <dc:title>Слайд 1</dc:title>
</cp:coreProperties>
</file>