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E40-879E-4D7F-9F97-D973D2AE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8A1-1664-4635-8DDF-D268A92C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953-39B7-4C8D-B542-965F7F7E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6D5-0271-47EF-AD63-1BEC87EF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F7BC-3233-494D-A5BF-B8C09C48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5E5-7CEB-4EB7-8E1C-2A2A6A8E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A345-E4D0-4578-B529-CC962B9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F0C9-C5D3-4E70-9B18-47682779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B1F5-8251-4CEA-ACEB-C17151E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ADE4-F8FC-4E99-818E-21EBBE38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1617-A78B-495D-AF06-BCE28F2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737-770E-4126-819C-BF15D538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2E1E-5876-45FF-902B-32B25A4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1BFC-0C47-49DC-904B-07A7B83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116F-FECF-451B-A43C-EBB4AF90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8E58-418B-4F25-9EC6-28F82209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997-FD83-427B-9A8E-4C2AA935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8EE-1A07-4D23-855E-34D4A1B6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C0E-EF5B-49B2-9B51-CD3F3C19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AC2-8011-4AAF-B5D6-EA0E73D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3C0-0DD2-4165-B382-334EB1EF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07C-4531-47E9-A5C3-D52B6B1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E14-E688-45A1-A40C-A95D25B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063-89B9-478F-84E9-29BC70A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3814-9BC0-461F-8C6A-F28BEDEF22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7A8-FFD0-4187-99E2-31E1DA435B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Усиление каменных конструкци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ть лекцию и нарисовать рису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делать фото и прислать на поч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й обойм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5300640"/>
            <a:ext cx="754524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- усиливаемая стена; 2 - арматурные стержни диаметром 10-14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- хомуты-связи диаметром 10 мм; 4 - отверстия в стене; 5 - арматурные сетки, привязанные к арматурным стержням; 6 - бетон обой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0323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ройство штукатурной предварительно напряженной обойм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металлические пластин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рстиями для тяж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тяжи-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отверстия в стене для тяж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арматурные стержни, приваренные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стинам и попарно стянут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с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рматурные сетки, привязанные к стержн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- штукатурка из цементно - песчаного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3304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штукатурной или железобетонной рубашк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прое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рубашка штукатурная толщиной 30-40 мм 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езобетонная толщиной 10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арматура диаметром 5-1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арма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ом 1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металлические шты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5057640" y="1836720"/>
            <a:ext cx="3446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сердечник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565360"/>
            <a:ext cx="38019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усиливаемый простенок; 2- проемы; 3 - стойка (сердечник) из железобето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ниша, вырубленная в простен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- арматурный каркас; 6- б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5172120" y="1978200"/>
            <a:ext cx="321768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наращивания в виде плиты сверх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несущие металлические бал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железобетонное наращивание в виде пли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нижние пролетные сетки уси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- верхние надопорные сетки уси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забутовка из битого кирпича на раство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- поверхность перекрытия, подготовленная к бетон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402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наращивания в виде арочной плиты снизу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несущие металлические бал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арматур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пазы в перекрытии для опирания железобетонного наращи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 анкеры (ерши) для закрепления сеток, забитые в швы клад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железобетон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ащивание в виде арочной п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9020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иление простенков стальными обоймам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337032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ирпичный элемен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стальные угол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пла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поперечная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431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кладных поясов из угол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2972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уголки накладных поя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поперечные план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стяжные бол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штукатур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 песчаным раствором по металлической се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930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дведение надломленных стоек из угол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проемы;3 - стойки из неравнобокого уголка, выгнутые в сторону простенка; 4 - линии надлома (разрезы) с последующей заваркой щели; 5 - закладная деталь; 6 - оголенная арматура перемыче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- сварка; 8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130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нструкции усиления кирпичных перемыче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37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- усиление перемычки подвеской; б - усиление перемычки угол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сетка; 2- штыр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уголок; 4 - пластина; 5 - бол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3146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5660640"/>
            <a:ext cx="76183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усиление метал"/>
          <p:cNvPicPr/>
          <p:nvPr/>
        </p:nvPicPr>
        <p:blipFill>
          <a:blip r:embed="rId1"/>
          <a:stretch/>
        </p:blipFill>
        <p:spPr>
          <a:xfrm>
            <a:off x="4716360" y="1197000"/>
            <a:ext cx="2805120" cy="446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усиление метал"/>
          <p:cNvPicPr/>
          <p:nvPr/>
        </p:nvPicPr>
        <p:blipFill>
          <a:blip r:embed="rId2"/>
          <a:stretch/>
        </p:blipFill>
        <p:spPr>
          <a:xfrm>
            <a:off x="1476360" y="2060640"/>
            <a:ext cx="2262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затяжек для восприятия распора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2 - несущие металлические балки (двутавр, рельс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затяжка из арматурной стали с гайками на концах; 4 - упор для затяжки в виде уголка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рами жесткости; 5 - крепление к полке балки с помощью пластин и бол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ниши в перекрытии (после устройства крепления заполнить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22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пряженных поясов с наружной стороны здания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стальные вяж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прокатный профиль из уголка 150x15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- стяжные муф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сварной ш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щины в стенах здания; 7 - штраба в стене для тяжа, заполненная цементно-песчаным раствор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- промежуточный карниз из цементно-песчаного раст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б - варианты установки тя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119560" y="1600200"/>
            <a:ext cx="332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пряженных поясов с внутренней стороны здан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стальные тяжи с гайк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металлические пласт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стяжные муф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отверстия в стенах, которые заделываются раствором по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аковки тяж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трещины в стенах з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поэтажных связей-распоро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стены; 2 - перекры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связи - распорки из прокатного металла (швеллер, угол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тяж с резьбой, приваренный к связям-распоркам; 5- шайб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гайка для натя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- отверстия и ниши в стенах (после установки тяжей и связей-распорок заполн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песчаным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5138640" y="1600200"/>
            <a:ext cx="328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- эскиз стабилизирующего устрой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- расчетная схема рессо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- расчетное се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ирпичная стена; 2 - стальной лист; 3 - упорный угол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ресс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 тяж; 6 - поперечная 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нструкция стабилизирующего устрой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4876920" y="2039760"/>
            <a:ext cx="380988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репление наклонившейся стены к стенам устойчивых зданий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 деформированное здание; 2 - распор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устойчивое соору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4746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грузка с последующей заменой простенка (столба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усиливаемый простенок (столб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грузочные стой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железобетонные перемы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леж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- подкла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- кли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79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астичное или полное заполнение проемов кладкой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е простенки; 2 - оконные проемы; 3- кладка из кирпича марки М75-100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е марки М50-76; 4- шов, расклиниваемый металлическими пластин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каниваемый цементно-песчаным раств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572000" y="2349360"/>
            <a:ext cx="43084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металлических накладо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трещины в стенах здания; 3 - накладки из швеллеров; 4 - накладки из металлических пластин; 5 - стяжные бол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штраба для установки пластин, заделываемая раствором, 7 - отверстия в стенах для болтов (после устан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тов зачеканить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876920" y="242712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иление оторванной поперечной стены стяжными болтам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4149720"/>
            <a:ext cx="3809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онтрфор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стальные накладки; 3 - стяжные бол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анкерная 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211640" y="1628640"/>
            <a:ext cx="4413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5660640"/>
            <a:ext cx="7905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Разборка кладки 4"/>
          <p:cNvPicPr/>
          <p:nvPr/>
        </p:nvPicPr>
        <p:blipFill>
          <a:blip r:embed="rId1"/>
          <a:stretch/>
        </p:blipFill>
        <p:spPr>
          <a:xfrm>
            <a:off x="1979640" y="1700280"/>
            <a:ext cx="53290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величение площади опирания балок и плит на кирпичную стен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- опирание бал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- опирание пл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балка; 2 - стойка из швеллеров; 3 - балка уси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швеллер; 5 - болт; 6 - плита перекрытия; 7 - трещины в кла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5219640" y="2313000"/>
            <a:ext cx="31244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ых пояс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железобетонные пояса; 2 - схема размещения арматуры в поя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металлический анк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железобетонная плита пере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4970520" y="2092320"/>
            <a:ext cx="36208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нъектирование трещин шириной до 10 мм цементно-песчаным раствором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5300640"/>
            <a:ext cx="76899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иливаемая стена; 2 - трещина в стене шириной не более 10 мм; 3 - отверстия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и инъекторов (через 800-1500 мм); 4 - инъекторы (стальные труб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ом 20-25 мм, установленные в отверстия на цементном растворе; 5 - нару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ки трещин, проконопаченные на клею; 6 - цементно-песчаныи раствор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мся це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195640" y="1557360"/>
            <a:ext cx="4392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скоб из арматурной стал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трещина в стене, инъетированная цементно – песча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ом после установки скоб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скобы из арматурной ст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паз в кладк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нный фрез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 углубления по концам паза, выполненные сверл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запол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 песчаным раствором пазов и углуб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579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двусторонних металлических накладок на болтах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635280" y="1700280"/>
            <a:ext cx="4632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елка широких трещин вставкой кирпичных замков с якоре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широкая трещина в стене (более 10 м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кирпичный зам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ой в 1/2 кирпича, установленный с двух сторон на месте разрушенной кла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граница разборки разрушенной клад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- якорь из прокатного металла (швеллер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тавр) с двух сторо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анкерные связи (болт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- полости, заполненные цементно-песчаны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1562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елка широких трещин вставкой простых кирпичных зам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329724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 усиливаемая ст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широкая трещина в стене (более 10м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кирпичный замок толщиной в 1/2 кирпича, установленный с двух сторон на месте разрушенной клад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граница разборки разрушенной 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1773360"/>
            <a:ext cx="377676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й или армированной растворной обойм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5157360"/>
            <a:ext cx="768996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 усиливаемый столб (простенок); 2 - стержни диаметром 6-12 мм; 3 - хомуты диаметром 5-10 мм; 4-бетон класса В15 или раствор марки 75-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16360" y="1773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13:43Z</dcterms:created>
  <dc:creator>sp</dc:creator>
  <dc:description/>
  <dc:language>en-US</dc:language>
  <cp:lastModifiedBy>User</cp:lastModifiedBy>
  <dcterms:modified xsi:type="dcterms:W3CDTF">2021-12-01T13:35:51Z</dcterms:modified>
  <cp:revision>4</cp:revision>
  <dc:subject/>
  <dc:title>Усиление каменных конструкций</dc:title>
</cp:coreProperties>
</file>