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42C-9602-40E0-95CE-AB06C5BE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9B3-60F1-4AA5-97CB-9F375437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211-28A1-4AA5-BB9D-44B17530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65B-420B-4169-8092-1246932D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A825-D042-4FAE-BF1F-137EBBFB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99FF-6886-4350-8A4A-BAB48DED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9400-625D-4D0E-878F-AEA9F9E7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B9AA-A206-4407-BFD4-27F0E7A7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90D8-8D60-4424-B0DA-39A57E1B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D9CF-999C-4E02-9C03-36C1FD5A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F140-2E25-4428-8F4A-F7118D5C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EB62-6CA1-4D66-9036-ABB6CE68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F6FA-6178-4929-AA50-9408437A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8E96-F0E6-4A1E-815F-C85DAE91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795D-327B-4D28-8795-43789201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3006-8FBD-47C8-8CEC-3D406D1E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7310-90A3-4C67-8119-84B0FD67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8989-47E8-4E13-A650-5C12A387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734B-14AC-450E-8130-BB50DB76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F49-94F2-4270-AD2A-C9CF0540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F55-CD88-4C80-A7AB-7AC59A87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7E0-B404-4FCF-9324-B8ECC5C1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A25-7505-4348-9401-A772A72E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EECB-1512-4587-8285-9379F842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9357-942A-426B-A269-EFED639409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AC65-6FDA-4818-B347-A3038B5368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Усиление каменных конструкций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сать лекцию и нарисовать рису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делать фото и прислать на поч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железобетонной обоймы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5300640"/>
            <a:ext cx="754524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- усиливаемая стена; 2 - арматурные стержни диаметром 10-14 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- хомуты-связи диаметром 10 мм; 4 - отверстия в стене; 5 - арматурные сетки, привязанные к арматурным стержням; 6 - бетон обой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0323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Устройство штукатурной предварительно напряженной обоймы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усиливаемая стен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- металлические пластин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рстиями для тяж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- тяжи-свя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отверстия в стене для тяж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- арматурные стержни, приваренные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стинам и попарно стянуты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- сжи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арматурные сетки, привязанные к стержн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- штукатурка из цементно - песчаного раст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4427640" y="2205000"/>
            <a:ext cx="433044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штукатурной или железобетонной рубашки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усиливаемый простено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- прое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рубашка штукатурная толщиной 30-40 мм 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езобетонная толщиной 100 м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арматура диаметром 5-10 м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– армату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метром 10 м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- металлические шты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5057640" y="1836720"/>
            <a:ext cx="34466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железобетонного сердечника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565360"/>
            <a:ext cx="380196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усиливаемый простенок; 2- проемы; 3 - стойка (сердечник) из железобетон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ниша, вырубленная в простенк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- арматурный каркас; 6- б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5172120" y="1978200"/>
            <a:ext cx="3217680" cy="37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железобетонного наращивания в виде плиты сверху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- арочное перекрытие из кирпич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- несущие металлические бал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- железобетонное наращивание в виде плит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- нижние пролетные сетки уси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- верхние надопорные сетки уси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- забутовка из битого кирпича на раство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- поверхность перекрытия, подготовленная к бетонир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4500720" y="2637000"/>
            <a:ext cx="44020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Устройство железобетонного наращивания в виде арочной плиты снизу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арочное перекрытие из кирпич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- несущие металлические бал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– арматурн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т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пазы в перекрытии для опирания железобетонного наращив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- анкеры (ерши) для закрепления сеток, забитые в швы клад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- железобетонн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ащивание в виде арочной пл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90204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иление простенков стальными обоймами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3370320" cy="33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кирпичный элемен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- стальные угол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- план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поперечная св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3924360" y="1484280"/>
            <a:ext cx="431460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накладных поясов из уголков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29724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усиливаемый простено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- уголки накладных поя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поперечные план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стяжные бол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– штукатур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ментно- песчаным раствором по металлической сет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393048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дведение надломленных стоек из уголков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усиливаемый простено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- проемы;3 - стойки из неравнобокого уголка, выгнутые в сторону простенка; 4 - линии надлома (разрезы) с последующей заваркой щели; 5 - закладная деталь; 6 - оголенная арматура перемыче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- сварка; 8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461304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онструкции усиления кирпичных перемычек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370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- усиление перемычки подвеской; б - усиление перемычки угол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сетка; 2- штыр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уголок; 4 - пластина; 5 - бол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43146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5660640"/>
            <a:ext cx="76183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усиление метал"/>
          <p:cNvPicPr/>
          <p:nvPr/>
        </p:nvPicPr>
        <p:blipFill>
          <a:blip r:embed="rId1"/>
          <a:stretch/>
        </p:blipFill>
        <p:spPr>
          <a:xfrm>
            <a:off x="4716360" y="1197000"/>
            <a:ext cx="2805120" cy="4467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усиление метал"/>
          <p:cNvPicPr/>
          <p:nvPr/>
        </p:nvPicPr>
        <p:blipFill>
          <a:blip r:embed="rId2"/>
          <a:stretch/>
        </p:blipFill>
        <p:spPr>
          <a:xfrm>
            <a:off x="1476360" y="2060640"/>
            <a:ext cx="2262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ановка затяжек для восприятия распорам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арочное перекрытие из кирпича; 2 - несущие металлические балки (двутавр, рельс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затяжка из арматурной стали с гайками на концах; 4 - упор для затяжки в виде уголка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рами жесткости; 5 - крепление к полке балки с помощью пластин и бол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- ниши в перекрытии (после устройства крепления заполнить раствор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4500720" y="1125360"/>
            <a:ext cx="4225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напряженных поясов с наружной стороны здания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деформированное здание; 2 - стальные вяж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- прокатный профиль из уголка 150x150 м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- стяжные муф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- сварной ш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трещины в стенах здания; 7 - штраба в стене для тяжа, заполненная цементно-песчаным раствор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- промежуточный карниз из цементно-песчаного раств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,б - варианты установки тяж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5119560" y="1600200"/>
            <a:ext cx="3322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напряженных поясов с внутренней стороны здания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деформированное здание; 2 - стальные тяжи с гайк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металлические пласти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стяжные муф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- отверстия в стенах, которые заделываются раствором пос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аковки тяж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- трещины в стенах з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4876920" y="2209680"/>
            <a:ext cx="38098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ановка поэтажных связей-распорок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стены; 2 - перекрыт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связи - распорки из прокатного металла (швеллер, уголо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тяж с резьбой, приваренный к связям-распоркам; 5- шайб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- гайка для натя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- отверстия и ниши в стенах (после установки тяжей и связей-распорок заполн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ментно-песчаным раствор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5138640" y="1600200"/>
            <a:ext cx="3286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- эскиз стабилизирующего устрой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 - расчетная схема рессо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- расчетное се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кирпичная стена; 2 - стальной лист; 3 - упорный уголок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рессо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- тяж; 6 - поперечная ба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онструкция стабилизирующего устройства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1"/>
          <a:stretch/>
        </p:blipFill>
        <p:spPr>
          <a:xfrm>
            <a:off x="4876920" y="2039760"/>
            <a:ext cx="380988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репление наклонившейся стены к стенам устойчивых зданий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- деформированное здание; 2 - распор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- устойчивое соору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3635280" y="2708280"/>
            <a:ext cx="47466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згрузка с последующей заменой простенка (столба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441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усиливаемый простенок (столб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- разгрузочные стой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- железобетонные перемыч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леже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- подклад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- кли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3797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астичное или полное заполнение проемов кладкой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усиливаемые простенки; 2 - оконные проемы; 3- кладка из кирпича марки М75-100 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воре марки М50-76; 4- шов, расклиниваемый металлическими пластинами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чеканиваемый цементно-песчаным раств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572000" y="2349360"/>
            <a:ext cx="430848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ановка металлических накладок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деформированное здание; 2 - трещины в стенах здания; 3 - накладки из швеллеров; 4 - накладки из металлических пластин; 5 - стяжные бол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- штраба для установки пластин, заделываемая раствором, 7 - отверстия в стенах для болтов (после установ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тов зачеканить раствор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4876920" y="2427120"/>
            <a:ext cx="38098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иление оторванной поперечной стены стяжными болтами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4149720"/>
            <a:ext cx="38098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контрфор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- стальные накладки; 3 - стяжные бол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анкерная ба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211640" y="1628640"/>
            <a:ext cx="441324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5660640"/>
            <a:ext cx="7905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Разборка кладки 4"/>
          <p:cNvPicPr/>
          <p:nvPr/>
        </p:nvPicPr>
        <p:blipFill>
          <a:blip r:embed="rId1"/>
          <a:stretch/>
        </p:blipFill>
        <p:spPr>
          <a:xfrm>
            <a:off x="1979640" y="1700280"/>
            <a:ext cx="532908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величение площади опирания балок и плит на кирпичную стену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- опирание бало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 - опирание пли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балка; 2 - стойка из швеллеров; 3 - балка усил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швеллер; 5 - болт; 6 - плита перекрытия; 7 - трещины в кла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5219640" y="2313000"/>
            <a:ext cx="31244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железобетонных поясов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железобетонные пояса; 2 - схема размещения арматуры в пояс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- металлический анке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железобетонная плита перекр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4970520" y="2092320"/>
            <a:ext cx="36208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Инъектирование трещин шириной до 10 мм цементно-песчаным раствором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5300640"/>
            <a:ext cx="76899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усиливаемая стена; 2 - трещина в стене шириной не более 10 мм; 3 - отверстия д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и инъекторов (через 800-1500 мм); 4 - инъекторы (стальные труб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метром 20-25 мм, установленные в отверстия на цементном растворе; 5 - нару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ки трещин, проконопаченные на клею; 6 - цементно-песчаныи раствор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яющемся цеме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195640" y="1557360"/>
            <a:ext cx="4392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ановка скоб из арматурной стали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58920" y="1628640"/>
            <a:ext cx="360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усиливаемая стен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- трещина в стене, инъетированная цементно – песча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вором после установки скоб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скобы из арматурной ста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паз в кладке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ранный фрез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- углубления по концам паза, выполненные сверл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– заполн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ментно- песчаным раствором пазов и углуб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5798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ановка двусторонних металлических накладок на болтах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635280" y="1700280"/>
            <a:ext cx="46324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аделка широких трещин вставкой кирпичных замков с якорем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- усиливаемая стен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- широкая трещина в стене (более 10 м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- кирпичный зам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щиной в 1/2 кирпича, установленный с двух сторон на месте разрушенной клад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- граница разборки разрушенной клад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- якорь из прокатного металла (швеллер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утавр) с двух сторо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- анкерные связи (болт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- полости, заполненные цементно-песчаным раств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415620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аделка широких трещин вставкой простых кирпичных замков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329724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 усиливаемая ст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- широкая трещина в стене (более 10мм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- кирпичный замок толщиной в 1/2 кирпича, установленный с двух сторон на месте разрушенной клад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граница разборки разрушенной кл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72000" y="1773360"/>
            <a:ext cx="3776760" cy="39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железобетонной или армированной растворной обоймы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5157360"/>
            <a:ext cx="768996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 усиливаемый столб (простенок); 2 - стержни диаметром 6-12 мм; 3 - хомуты диаметром 5-10 мм; 4-бетон класса В15 или раствор марки 75-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916360" y="1773360"/>
            <a:ext cx="3409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1:13:43Z</dcterms:created>
  <dc:creator>sp</dc:creator>
  <dc:description/>
  <dc:language>en-US</dc:language>
  <cp:lastModifiedBy>User</cp:lastModifiedBy>
  <dcterms:modified xsi:type="dcterms:W3CDTF">2021-12-01T13:35:51Z</dcterms:modified>
  <cp:revision>4</cp:revision>
  <dc:subject/>
  <dc:title>Усиление каменных конструкций</dc:title>
</cp:coreProperties>
</file>