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304-31BD-4284-B994-7D0FE578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104-1D6C-4DC8-873D-A706AD39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6182-673B-4E62-B7AE-BA8D13EE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057-A2F2-49E7-8508-2C8E66A5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052-35E2-4189-A0B2-5455BEF4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13DA-52E2-4A04-8564-3F369CB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06F0-7DC4-443C-A7B3-243FDF8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FBAD-CF2B-4149-934D-2449544B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683-9C7B-4DB6-8AED-0C6114A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64E-A5B9-4611-A5D0-FC4BF86B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5788-CD6B-48E4-8E99-2EED257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1E2-DA2A-4CCC-B079-62D3E943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8876-2B18-46F2-9D81-DDE2AF7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737-3247-4BB8-9651-8F339B0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8F66-9247-47B8-A220-4BA3318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E4BD-A37E-41B6-8291-18BD55E6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48DA-C1A6-45D7-81E3-0F4F2408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D7D-B7C8-4169-8F49-9F58B15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55E-866E-4CE2-B553-F5F80C4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CEA-AE54-4FCC-91E8-3A157357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AD9D-AFAB-4C28-AC32-93C82331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E94-CC89-4F90-83C9-4C3F867A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231-730A-4D8B-AC98-5FA1965B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787-4E58-42BB-9C4E-339876F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982-4FAA-4779-ACBE-16F818D1AD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6C41-26B1-4299-A30A-FF375C50ED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Усиление каменных конструкци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ть лекцию и нарисовать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делать фото и прислать на поч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54524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- усиливаемая стена; 2 - арматурные стержни диаметром 10-14 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- хомуты-связи диаметром 10 мм; 4 - отверстия в стене; 5 - арматурные сетки, привязанные к арматурным стержням; 6 - бетон обой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0323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штукатурной предварительно напряженной обоймы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металлические пластин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рстиями для тяж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тяжи-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отверстия в стене для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арматурные стержни, приваренные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стинам и попарно стянуты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рматурные сетки, привязанные к стержн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- штукатурка из цементно - песчаного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3304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штукатурной или железобетонной рубашк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рубашка штукатурная толщиной 30-40 мм 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езобетонная толщиной 10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арматура диаметром 5-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арма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ом 1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металлические шты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5057640" y="1836720"/>
            <a:ext cx="3446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сердечник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565360"/>
            <a:ext cx="38019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; 2- проемы; 3 - стойка (сердечник) из железобето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ниша, вырубленная в простен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арматурный каркас; 6- б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5172120" y="1978200"/>
            <a:ext cx="321768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плиты сверх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железобетонное наращивание в виде плит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нижние пролет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верхние надопорные сетки уси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забутовка из битого кирпича на раство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верхность перекрытия, подготовленная к бетониро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402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го наращивания в виде арочной плиты сниз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несущие металлические бал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рматур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ы в перекрытии для опирания железобетонного наращ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анкеры (ерши) для закрепления сеток, забитые в швы клад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железобетон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ащивание в виде арочной пл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4788000" y="2060640"/>
            <a:ext cx="39020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простенков стальными обойм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337032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ый элемен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угол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пла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поперечная 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3146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кладных поясов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29724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уголки накладных поя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поперечные план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бол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штукатур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о металлической се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3930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дведение надломленных стоек из угол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й простен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проемы;3 - стойки из неравнобокого уголка, выгнутые в сторону простенка; 4 - линии надлома (разрезы) с последующей заваркой щели; 5 - закладная деталь; 6 - оголенная арматура перемыче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сварка; 8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6130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и усиления кирпичных перемыче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3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- усиление перемычки подвеской; б - усиление перемычки угол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етка; 2- шты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уголок; 4 - пластина; 5 - бол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3146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6183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усиление метал"/>
          <p:cNvPicPr/>
          <p:nvPr/>
        </p:nvPicPr>
        <p:blipFill>
          <a:blip r:embed="rId1"/>
          <a:stretch/>
        </p:blipFill>
        <p:spPr>
          <a:xfrm>
            <a:off x="4716360" y="1197000"/>
            <a:ext cx="2805120" cy="446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усиление метал"/>
          <p:cNvPicPr/>
          <p:nvPr/>
        </p:nvPicPr>
        <p:blipFill>
          <a:blip r:embed="rId2"/>
          <a:stretch/>
        </p:blipFill>
        <p:spPr>
          <a:xfrm>
            <a:off x="1476360" y="2060640"/>
            <a:ext cx="2262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затяжек для восприятия распора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арочное перекрытие из кирпича; 2 - несущие металлические балки (двутавр, рельс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затяжка из арматурной стали с гайками на концах; 4 - упор для затяжки в виде уголка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рами жесткости; 5 - крепление к полке балки с помощью пластин и бол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ниши в перекрытии (после устройства крепления запол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225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наружной стороны здания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вяж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прокатный профиль из уголка 150x150 м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сварной ш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щины в стенах здания; 7 - штраба в стене для тяжа, заполненная цементно-песчаным раствор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- промежуточный карниз из цементно-песчаного раство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,б - варианты установки тя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119560" y="1600200"/>
            <a:ext cx="3322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напряженных поясов с внутренней стороны здан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стальные тяжи с гайк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металлические пласт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стяжные муф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отверстия в стенах, которые заделываются раствором по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аковки тяж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трещины в стенах з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поэтажных связей-распор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стены; 2 - перекры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вязи - распорки из прокатного металла (швеллер, угол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тяж с резьбой, приваренный к связям-распоркам; 5- шайб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- гайка для натя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- отверстия и ниши в стенах (после установки тяжей и связей-распорок заполн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песчаным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5138640" y="1600200"/>
            <a:ext cx="3286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эскиз стабилизирующего устрой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расчетная схема рессо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- расчетное се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ирпичная стена; 2 - стальной лист; 3 - упорный угол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ресс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 тяж; 6 - попереч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нструкция стабилизирующего устройства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4876920" y="2039760"/>
            <a:ext cx="380988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репление наклонившейся стены к стенам устойчивых здани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 деформированное здание; 2 - распор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устойчивое соору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4746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грузка с последующей заменой простенка (столб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усиливаемый простенок (столб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разгрузочные стой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железобетонные перемыч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леж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- подкла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 кли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79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астичное или полное заполнение проемов кладкой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ые простенки; 2 - оконные проемы; 3- кладка из кирпича марки М75-100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е марки М50-76; 4- шов, расклиниваемый металлическими пластинам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чеканиваемый цементно-песчаным раств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572000" y="2349360"/>
            <a:ext cx="43084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металлических накладок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деформированное здание; 2 - трещины в стенах здания; 3 - накладки из швеллеров; 4 - накладки из металлических пластин; 5 - стяжные бол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- штраба для установки пластин, заделываемая раствором, 7 - отверстия в стенах для болтов (после устан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тов зачеканить раство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876920" y="242712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иление оторванной поперечной стены стяжными болтам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4149720"/>
            <a:ext cx="3809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контрфор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- стальные накладки; 3 - стяжные бол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анкерная ба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211640" y="1628640"/>
            <a:ext cx="4413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5660640"/>
            <a:ext cx="79056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Разборка кладки 4"/>
          <p:cNvPicPr/>
          <p:nvPr/>
        </p:nvPicPr>
        <p:blipFill>
          <a:blip r:embed="rId1"/>
          <a:stretch/>
        </p:blipFill>
        <p:spPr>
          <a:xfrm>
            <a:off x="1979640" y="1700280"/>
            <a:ext cx="53290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величение площади опирания балок и плит на кирпичную стен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- опирание бало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- опирание пл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балка; 2 - стойка из швеллеров; 3 - балка усил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швеллер; 5 - болт; 6 - плита перекрытия; 7 - трещины в кла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5219640" y="2313000"/>
            <a:ext cx="31244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ых пояс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- железобетонные пояса; 2 - схема размещения арматуры в пояс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- металлический анк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- железобетонная плита пере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4970520" y="2092320"/>
            <a:ext cx="36208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Инъектирование трещин шириной до 10 мм цементно-песчаным раствором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5300640"/>
            <a:ext cx="76899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иливаемая стена; 2 - трещина в стене шириной не более 10 мм; 3 - отверстия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и инъекторов (через 800-1500 мм); 4 - инъекторы (стальные труб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ом 20-25 мм, установленные в отверстия на цементном растворе; 5 - нару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ки трещин, проконопаченные на клею; 6 - цементно-песчаныи раствор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мся це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195640" y="1557360"/>
            <a:ext cx="4392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скоб из арматурной стали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8920" y="162864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 трещина в стене, инъетированная цементно – песча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вором после установки скоб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скобы из арматурной ст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паз в кладк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нный фрез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- углубления по концам паза, выполненные сверл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за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ментно- песчаным раствором пазов и углуб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579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ановка двусторонних металлических накладок на болтах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635280" y="1700280"/>
            <a:ext cx="4632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кирпичных замков с якорем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усиливаемая сте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 м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кирпичный зам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ой в 1/2 кирпича, установленный с двух сторон на месте разрушенной кл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- якорь из прокатного металла (швеллер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тавр) с двух стор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анкерные связи (болт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- полости, заполненные цементно-песчаным раств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41562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делка широких трещин вставкой простых кирпичных замко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329724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ая ст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широкая трещина в стене (более 10м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- кирпичный замок толщиной в 1/2 кирпича, установленный с двух сторон на месте разрушенной клад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граница разборки разрушенной кл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1773360"/>
            <a:ext cx="37767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тройство железобетонной или армированной растворной обоймы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5157360"/>
            <a:ext cx="768996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усиливаемый столб (простенок); 2 - стержни диаметром 6-12 мм; 3 - хомуты диаметром 5-10 мм; 4-бетон класса В15 или раствор марки 75-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916360" y="1773360"/>
            <a:ext cx="3409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13:43Z</dcterms:created>
  <dc:creator>sp</dc:creator>
  <dc:description/>
  <dc:language>en-US</dc:language>
  <cp:lastModifiedBy>User</cp:lastModifiedBy>
  <dcterms:modified xsi:type="dcterms:W3CDTF">2021-12-01T13:35:51Z</dcterms:modified>
  <cp:revision>4</cp:revision>
  <dc:subject/>
  <dc:title>Усиление каменных конструкций</dc:title>
</cp:coreProperties>
</file>