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</p:sld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  <p:sldId id="266" r:id="rId66"/>
    <p:sldId id="267" r:id="rId67"/>
    <p:sldId id="268" r:id="rId68"/>
    <p:sldId id="269" r:id="rId69"/>
    <p:sldId id="270" r:id="rId70"/>
    <p:sldId id="271" r:id="rId71"/>
    <p:sldId id="272" r:id="rId72"/>
    <p:sldId id="273" r:id="rId73"/>
    <p:sldId id="274" r:id="rId74"/>
    <p:sldId id="275" r:id="rId75"/>
    <p:sldId id="276" r:id="rId76"/>
    <p:sldId id="277" r:id="rId77"/>
    <p:sldId id="278" r:id="rId78"/>
    <p:sldId id="279" r:id="rId79"/>
    <p:sldId id="280" r:id="rId80"/>
    <p:sldId id="281" r:id="rId81"/>
    <p:sldId id="282" r:id="rId82"/>
    <p:sldId id="283" r:id="rId83"/>
    <p:sldId id="284" r:id="rId84"/>
    <p:sldId id="285" r:id="rId85"/>
    <p:sldId id="286" r:id="rId8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slide" Target="slides/slide11.xml"/><Relationship Id="rId67" Type="http://schemas.openxmlformats.org/officeDocument/2006/relationships/slide" Target="slides/slide12.xml"/><Relationship Id="rId68" Type="http://schemas.openxmlformats.org/officeDocument/2006/relationships/slide" Target="slides/slide13.xml"/><Relationship Id="rId69" Type="http://schemas.openxmlformats.org/officeDocument/2006/relationships/slide" Target="slides/slide14.xml"/><Relationship Id="rId70" Type="http://schemas.openxmlformats.org/officeDocument/2006/relationships/slide" Target="slides/slide15.xml"/><Relationship Id="rId71" Type="http://schemas.openxmlformats.org/officeDocument/2006/relationships/slide" Target="slides/slide16.xml"/><Relationship Id="rId72" Type="http://schemas.openxmlformats.org/officeDocument/2006/relationships/slide" Target="slides/slide17.xml"/><Relationship Id="rId73" Type="http://schemas.openxmlformats.org/officeDocument/2006/relationships/slide" Target="slides/slide18.xml"/><Relationship Id="rId74" Type="http://schemas.openxmlformats.org/officeDocument/2006/relationships/slide" Target="slides/slide19.xml"/><Relationship Id="rId75" Type="http://schemas.openxmlformats.org/officeDocument/2006/relationships/slide" Target="slides/slide20.xml"/><Relationship Id="rId76" Type="http://schemas.openxmlformats.org/officeDocument/2006/relationships/slide" Target="slides/slide21.xml"/><Relationship Id="rId77" Type="http://schemas.openxmlformats.org/officeDocument/2006/relationships/slide" Target="slides/slide22.xml"/><Relationship Id="rId78" Type="http://schemas.openxmlformats.org/officeDocument/2006/relationships/slide" Target="slides/slide23.xml"/><Relationship Id="rId79" Type="http://schemas.openxmlformats.org/officeDocument/2006/relationships/slide" Target="slides/slide24.xml"/><Relationship Id="rId80" Type="http://schemas.openxmlformats.org/officeDocument/2006/relationships/slide" Target="slides/slide25.xml"/><Relationship Id="rId81" Type="http://schemas.openxmlformats.org/officeDocument/2006/relationships/slide" Target="slides/slide26.xml"/><Relationship Id="rId82" Type="http://schemas.openxmlformats.org/officeDocument/2006/relationships/slide" Target="slides/slide27.xml"/><Relationship Id="rId83" Type="http://schemas.openxmlformats.org/officeDocument/2006/relationships/slide" Target="slides/slide28.xml"/><Relationship Id="rId84" Type="http://schemas.openxmlformats.org/officeDocument/2006/relationships/slide" Target="slides/slide29.xml"/><Relationship Id="rId85" Type="http://schemas.openxmlformats.org/officeDocument/2006/relationships/slide" Target="slides/slide30.xml"/><Relationship Id="rId86" Type="http://schemas.openxmlformats.org/officeDocument/2006/relationships/slide" Target="slides/slide31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643-9685-4521-ABF0-3139C0BC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680-774E-43A2-9983-9B38B4CF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5D94A-D123-4C09-A844-FF1FA2B8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558F-03D6-4D42-B074-FBFA72A2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F57B-65A9-4929-9640-267ADBB8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E3615-D057-4FD9-9E78-8E321470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2564-89FE-43F6-958B-F1163C3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9C235-9461-43D8-8B62-CA8C916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FB687-66DE-46F8-B5A1-6A8960B6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9E674-C79F-46C9-AA8F-9E7484DA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271E-626F-4A9F-A04A-2C455E63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EE531-9365-4620-B9B4-74B41A41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6BE-5D3A-460C-AF33-7C67515C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ED8F1-732F-4B34-ADA5-1A691552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9864-2B0C-4C5F-8ED4-3A3E6B1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0500F-648B-4B88-B397-BBC01B1A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F6DFF-2405-4521-810A-258103CD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62866-046D-488A-B51B-C91F12A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5CFD-C8D1-451A-A675-EA75E50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94334-6DC6-4A32-BEC6-6F7DCD5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EE641-9F3B-4CC3-BF33-1B36BDC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B76FD-551A-404B-A2C2-16EFCFFC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05647-1C7D-44D9-AAB7-1C4E6F6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4B9-1E60-4147-A34E-8747727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A34EC-6240-4C9D-B55C-25022C8C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A7332-6632-4E4A-914F-71CB74B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E11A-088A-40B4-8DDD-13DF766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24B73-5F62-4865-91F8-33AF937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143ED-7CAC-4D8E-A227-DDE4942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85C71-7DB7-4BAE-A697-D91DBEE2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4C0F9-5F9D-4D45-9822-02F28F3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1081-CADB-47BA-8787-6F066B5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5F31E-66FB-4D53-97CA-B5237F8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596D9-A169-42D7-9E51-BFC7623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CDF-E258-46C9-8983-E525D6B7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95D19-9D08-4B78-9415-DBA9E59C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F2A2D-4BBB-422A-87BB-FF5D117E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637D-4BF4-410F-94FB-DEF7986C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B346E-5B6A-4FC8-B65D-C50A5392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629B-758B-47FB-AAD0-E8CF0F4A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4FDEC-F6E2-4511-A4F2-AFD747B1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82013-9194-4665-91B5-9DC1F825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1A18-79D6-404A-9B78-F6EA5B9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E2F57-7725-42BB-A393-6B5DFFE7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56FB1-CA1A-4DFB-AC77-77E53EE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56AB-4BEC-4C42-B6ED-47B17C92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D3295-28FE-4E49-B166-DFDC7355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07366-53C7-45B1-B612-CFA4392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16A24-B384-40FC-97EF-E238193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A72B-2493-4D11-B229-5D6D7A5D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7FB62-634B-4B33-BAD5-2E34BDB0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1A643-9DBB-492C-B416-06CA6266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C0571-E59D-41B5-A431-950FA67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E3473-D324-4E3D-90F5-79D5F0DC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2C003-1FB9-44C2-829D-A8E0F580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B6631-B3E4-4F53-BD1E-16675CBA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830-8512-4D4B-8ECD-3BFB8AD8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A4BF2-8A6E-460B-B23B-3FA706FA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85DD9-A68F-41CA-B41A-22F9C3C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70304-660A-4D26-BA10-90934B4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62DD4-4406-4E64-96AE-55C8456D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85334-B15A-47D7-BB4C-31F1A065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92E2A-1CAB-41DC-8C17-F7B8910A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7FB43-3573-46F0-AB9E-6428B73F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130A1-D27A-4D4A-8AC8-3D187173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5F17B-C5CC-4AAF-AFD8-2ADF37A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9E493-37C3-40D2-9F4A-9C7F5A0B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FFB8-04A0-4DEC-86F4-508CA98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B01BF-9598-4DD6-A18A-376BF20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CF192-B710-4CE8-B865-478B379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E86A4-3E57-4D6E-AC3A-F1604AB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AA3A3-99ED-4B29-9DBE-4802864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A54BD-2959-4CE6-ADB9-C76748E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4168D-8796-4184-BFCE-A4CEAF33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E0ECA-171F-402B-AE44-8DC1267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DB536-4BE8-4496-AA12-9C041F93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702FD-AE9F-4A73-8A3D-D36C59C2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CA171-8883-4BEF-8980-CA9A3D49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865-FFDA-4BA6-9E2F-CE4244A0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4CBE7-ED54-4493-BD1C-82705A6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C0B4E-3878-4B47-8D18-0AD2B62A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0A5E8-2264-4EA1-8E39-1B3608C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508B6-85A9-4355-BCBF-BB8F340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DBC8F-AF50-42EF-A5A8-EC04D95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7FEAD-D9B9-4E68-A1D9-453387C5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B5AE1-D458-4392-9F27-209FE293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1F01D-E9F2-4A85-8BF7-9C679E5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9D68E-925A-4734-85B6-D77B7515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DF11F-2286-4354-9654-FC34797F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D5F-8ADD-4E60-8E73-D59EBB9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56F3A-F8B1-40C6-8A19-F6B5DCB1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8D105-D077-49E3-8BB6-B4A9635A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B8F14-9012-4D49-83C3-5D4ED93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137B1-975D-43E6-A1CF-B474A19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A869C-40C5-448E-8487-70F9EDAB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E9889-065C-4F0D-80C2-04F73AF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FD27B-AFA1-4BDD-8EBB-6EAF0EE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CD0FA-F0B1-4EA2-8E48-9187390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8F868-BD3D-46E3-ADA3-117ED6B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DD95D-DEF1-4905-9C33-5F30B42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7E1-A957-4FE2-B944-87F9A64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4EB52-EB96-40D2-9ABF-70DDA49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F182B-F6D4-410F-B315-06FBEBCA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64C93-FAF0-480B-BCFD-FB93A6C7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564AB-6813-4D7C-95E9-B50F440E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DD4C2-848E-4FAE-8692-AC953E71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2F49D-D962-4E97-A260-98D633EF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ADA4F-25EF-426F-A9B9-F2D27C2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D513B-DC71-465E-88B5-3694FB2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882B5-70DC-49AC-A8EF-6BD3D73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D0679-7E49-4F49-B6C7-DD61327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042-6E0C-4814-A643-5E710CF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4626-FE1B-4EFF-A023-03DE6FA8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B55A5-B45E-4A10-9EAE-EBE5FAF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7959A-871D-4445-8D4A-FFB9E43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7CE80-9B30-4C45-9526-62CE81F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93416-29E8-4521-BFA6-06A8849F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31E4F-0151-4DA6-A415-E9CD2DCD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46246-4AD5-4264-9FEF-2D89290D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BCDFF-6AE5-4B35-9030-086BADD2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52122-6399-4B41-BCFE-5FC5A2D0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79B89-023F-4D7B-91CD-43B1C2F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9DC38-568E-467F-AF2A-80EC5BF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59C7-BAB6-45AF-9BE9-428DB00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72BA9-E6CA-4DFF-AEEF-AD19D7F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944C9-6E59-4C39-BA45-E5BA863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8D6EA-1ABF-4EBF-95A1-C62EA9C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A1787-6EE3-4C25-A97A-F6EE70D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E2E68-063A-417A-AC3A-AF7D9A8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997DF-5F1B-4813-9169-1C400874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D6F7E-1B93-4A27-A2AA-76AEC562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9278C-3511-4F39-B93D-42652F0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C18FB-3618-4C1C-8A86-0B4D66C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176E7-02EA-4C50-9363-066CE3AD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A40-A2D8-4F66-9E14-6747E1D1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DFFE5-3CA7-4642-A50A-AE79068A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67AE8-7DA8-4925-823A-BA106A46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ABEFC6-0EAB-4E2A-8931-3CC6202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6832D-26E3-43F7-8D01-C7DB90E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32639-B714-4587-BC4C-D2BBE40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C71FE-3756-49EA-8EE1-3A5D4DC9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6DE97-21F5-4DD2-A6E4-33075AC7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29B76-4052-49A7-9CC0-1D78DAEB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A47193-4C80-4AF9-9748-3D8ACA61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02964-D5FA-4801-91E9-2E46F480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874-816B-496A-B883-DF9932CF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363AB-E54E-43B1-B864-FE15B08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F68FF-01F1-4E7F-93F8-22772DB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51013-E6E7-4BBD-8F31-80BC39B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FA510-F433-4D6F-B76D-C8B6A1F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F004E-B824-4767-93EE-0E77C12E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A9701-18A9-46F9-BDAF-1A9C69F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CEFCE-8A9B-4B06-8A4E-00E9DD7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D0084-36E2-44B6-8AD5-4EDEDBA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61D1C-2513-4E3E-961B-5EBFBD2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6864F-6189-411F-A1B8-2BE49601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FF6-3097-4510-AD1E-5EC7C7BE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77930-9DEE-45AD-A874-63A6162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12E19-CDE6-414E-9B1D-4CCA4F0F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83BF4-EE7B-4ACA-9DD8-8F603A3A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91709-6B15-4110-B769-C177850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AECBC-5DC1-4F02-BB53-074FCF1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7EF16-FD67-4FD8-89AD-728747A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B66FE-B681-4804-B65F-E8057BA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B13FD-C6F8-417E-A949-B527A80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63DDF-6AB1-4B0C-B708-A3D8C6B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ED2E8-ED64-445C-81E1-63B24C1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1B0F-7DBD-4970-996B-BE7398D2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FFB63-25DA-4360-8935-786164D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88472-7686-438A-84C4-3A3DAB9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03592-E47F-4434-98F9-219E3FBB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F6BEF3-1B51-4399-BE47-817B7A06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1A8157-6CB2-4C3D-B4F2-745DE2B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F18E26-E62C-4F12-808F-BB140515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1D805-857C-4F97-AA5A-41DFDD67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689936-BA63-44B5-8A81-321829A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BC69A-F83A-45C7-991A-C3D0D6FC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EE1FC0-1EE0-472E-8574-AF72A72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F312-B460-42B8-9D4C-8E3DC12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87B83-B275-409C-A182-18513B3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200E31-0D0F-4AAD-9978-AAA141EC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AB044-7472-425E-B571-0302023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CBC611-E6E7-4899-B083-A74A758B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7583DF-4951-44F6-ABBE-28F7C7A4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467AB-F56E-4DF7-BB70-8F056E1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073546-7F5C-4C93-8B47-98785410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7542B-C14F-4E30-BC12-E725FC7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1AE4E-9436-4637-99B8-F28F60A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0ACDD4-E5BC-4968-AB33-9588D21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5DE0-894B-4BCE-B71E-384B9C3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BF87A-0CF7-4C83-919B-A1AF2BD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BA2174-F05B-4352-A6A3-0E82900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EC7048-971F-4F4C-8355-1F93ADB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D8656-49DA-4C0D-B27A-5599B43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782F1D-D796-48A8-BA8F-60EFCE96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BDBDDD-CC9F-495A-B1FD-80DB9F8D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83202-E29B-43EB-B45D-218520A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60C39C-D54F-4F88-9A79-F4C51468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AB5DC5-E096-4BF3-B93A-B7B28CB5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0BDC02-16AD-483E-AC4C-9FA7010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E273-8515-4178-9C95-871F5AA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E1F5C-BFD5-43A0-9E85-3C39414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275E8-C987-408D-B88B-B784291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2D0B6B-6702-4535-B71C-A73C8E1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EE2109-186E-44B3-8891-E5E19EC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DE58B-9BD7-429F-8BCE-CD2A877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A4AE7-9136-461B-9D2F-EB5E4DD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9F64DB-C836-45AA-8705-FF466063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39A5F1-2D1D-4BE9-B6F2-195E2AD5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1F8C0-9BB9-463B-BBA6-89F0328E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51F8E8-9952-490D-982A-2C32A794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46D7-DA10-471C-9DB4-946E556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3A59E-120D-4907-99BD-ED3A0372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84F1B5-2C61-45B6-A4C4-73A3D892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AAD6C4-C098-4BC2-A2B1-0F237E6A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29EAA-B697-419E-B7E8-8334646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428B71-8645-407A-BD4C-ACBE48C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20E81-A3FF-4581-989F-7136CFB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EC4ACF-279C-417C-9AC5-EC458EA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81ACAD-0B71-4534-8829-D625CF6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B26DDE-AFE0-4B3F-AE1C-FCE51A8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A82B44-5980-488B-A137-34659A49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563-4B91-4CB6-B9E1-EC68A0FE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EC66-C927-4F68-9229-5793AE9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7CC357-680C-4EF8-90EE-252E0480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ED333-D985-42DD-9548-CEDA0A4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9BF000-70C4-4687-820F-1AB8A8DE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A35B87-DD97-4D60-A8D2-8BDDF5E9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FAC49C-E9C2-4B64-8DBA-E418794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2C6E01-3F31-4D37-82D2-74AE4A8E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7599AF-CEBB-42ED-8B3B-C1591349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7D7CF9-B610-4E81-9175-398DD3D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7C15B6-7650-4D6D-ACF2-8C19BCE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904357-BADF-4478-917E-B0CD54B6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F444-3535-4F7B-940A-F785C7F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8B0A37-2E69-4945-8699-80BA5065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1E750B-4731-48F8-B5BC-ADA5892E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573A17-68D9-4487-8E82-A65C7D91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249361-7313-4E4C-9092-46456859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2158F-A41E-4928-8088-0CC49F90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DC1A89-570C-43CD-AF01-AB55D24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820F54-DB24-4051-B881-652398A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997820-DCD8-4E3B-84E0-7BF119E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E238B8-6D7F-4A33-8C16-8B2FEAFC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7B17D1-891C-415D-B366-ED0FA600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F816-4E22-435B-9A7D-9A89B38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9809DB-3A5E-4885-AFC0-4CA5D60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814873-92CA-4FC0-B24A-87365B4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3F0F2D-4673-4474-937B-14BCE6D0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A7DEF7-2F0C-4E58-9D1F-09D804D2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86A423-7EDB-455E-A6DB-1DD158CA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A72FCD-E24A-42DA-A750-9847CDE1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A347E5-1F36-4C94-B615-17207B4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064807-710A-46F9-A412-9A879FDE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5B6766-8541-422A-8E24-7CE44B4E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07625D-F2E5-488B-9024-08622A6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9121-8069-4C75-8F06-92D0EFC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B840A5-9C11-4783-808A-CDC01A60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636656-9041-4FDD-9301-13EAB0C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D1CCAE-591A-4643-BF03-C5B12DC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AFA319-9BED-43F0-AFCD-A50CF35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457FB7-24CB-473D-A78D-012345C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5FF7A-9506-4D6A-9ED1-900141B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EDF0CA-F5CB-4E4E-8F4E-77D647A6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B16EC8-8D84-4F8D-A9F3-36A5CB6E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410212-F772-4CB2-AF18-6BE7529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D4DD1C-DF1B-453D-A66C-0563F148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8A8D-AF4C-4D0A-BDAE-5ADCB9B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1B4253-0914-450E-B4D6-9AFE0478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FA18BE-95A3-4875-9AB9-16596ED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A29789-FF65-40D2-B69A-CC3331D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B9BB54-CD42-4AF4-8A1A-E06A479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9AB82F-52EB-4065-93F8-A83BBA9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F08949-7D7E-4A8A-8DCB-C32BBC5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CEA6EA-98C4-44C6-82CD-51B4BAD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2F389E-D11C-4A28-B20D-9C7BA8A2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6F3B06-2326-465F-A6E6-DE5F46D5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8F41C9-8E49-45EE-A544-DD352E36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BF4E-8628-4B6B-BCB4-7211B8F2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292F3F-BC82-4499-9567-79A4A19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CC870F-137A-4E86-BEFC-5B0CB7DB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489CA6-A694-4D24-A13F-28443887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7264F2-8E52-43CC-80DC-99759A3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7401A4-8046-4C8C-9A5F-FA46007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C0563-0496-4D39-A03B-1038E83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61B03D-5DB5-4DCE-A653-AEA14EA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1393BB-C698-4364-8736-9247D3A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617C0F-2EDB-460D-A1A6-B3C9A99D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C64B0D-809C-477F-9F5C-BEBA8D22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E351-A561-4316-AE1A-C17FC33D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1D493F-0B42-442D-BFDA-13448957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D70C61-F9E1-4B56-8A52-730913C6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691E98-0B73-46A4-9CCF-8C6BE81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A5859F-5003-4B5E-9EAC-8725F6E8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DCF276-EE41-42B6-BA4B-311EF84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8DF8BF-9DC7-4E18-8BC1-9C9F9FB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A4A075-5B93-4F89-BDB5-803A27A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B52AF8-A62E-4072-A6BC-544285A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4514C7-D2D3-4421-8E1D-F67DAE7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E707F9-653B-41B2-A4EB-95820A3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711E-6E7A-4B3D-A09C-3B9BC944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50FF63-3FB7-4927-B243-4655BA1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D0B360-41EC-4E87-9E89-51BBD96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9E0EBA-EDCF-48B9-817E-F2A1AD2B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D452BB-9B44-41F5-9A05-B6407E29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ACC38E-091D-4B21-8353-F70E5E2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D3172B-5A6D-42BF-9A58-9EAFBB31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1C2161-EEBA-42DD-8FFB-816DB17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1047CC-4867-41DE-9CE0-45509D28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DAAE01-E6FF-4CA9-A81F-CC5BA84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E64FDF-B9CC-437D-BA7D-0E4FA49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C751-A087-402D-94C4-9BC0021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009155-2016-4C88-BEBC-39FE2DC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DA6D0E-B794-4EC2-A38A-8155B6B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3A893B-94B5-4325-A4E0-659853EB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9EA8CF-F6C4-4BF9-B717-FC58F570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83CA3-8248-4EB9-B5C1-B33DC77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6F36A7-55A1-466B-AA54-4F1241E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782110-E372-432D-88DD-5BA9ADE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E0604A-C81A-44F8-BABB-D25134B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9E5A25-E555-4F47-9652-C7D5A8B4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A047EB-CAFF-44AE-8302-F23AAA29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E36C-D08C-47D9-9A68-2B291A8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7C6221-4844-4BFC-9A7E-541ADC69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0BF82E-20CE-4C71-A982-217A672D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AA1306-F7BD-4DB8-91BA-1C1CFDF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EEEBFE-BF83-4FE4-905B-86D6743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D846C9-9DA3-4EF3-B227-AEC926D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B9CD98-2A16-4B15-96DB-A296E104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68D62D-6FF4-4879-97E5-2D0761D1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EED409-7B6D-471D-A1E9-6156AF78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517967-41E4-488F-AC53-298EE8D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3F37C4-CA06-4E74-819F-13BE1B23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BFF-512C-4834-AE62-F802C71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F662-E37B-44BB-B37E-0502A7A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5141F-9EAE-4526-829F-8A53BCD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47B728-6499-4195-AF9B-10996960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6CF9C6-4774-4A3C-A0D7-12F86A8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E98C68-2709-43FF-B412-95AA735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7068C0-B6AA-4D42-8B7E-A7B79C5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8DD339-FA98-48C9-BB42-9E9B8BD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332770-8662-4452-ADB6-087DDAE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5A5A6B-5830-4386-BCD4-22C8FDD2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76DD3F-FF79-41A8-8CB6-B5E8941F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A6B7F5-5E48-49F7-9E04-A18FE853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8E8C-CBFC-4F8A-8AEE-415D076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39803E-638C-4C9C-A146-1E91566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7739CF-D057-49A3-BAD1-2A9D9D3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AC9471-1B53-483D-918C-1494C58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0568A8-E994-4BC2-A232-EEBEADB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AB7CA0-FC1C-4B8D-88B7-3BFDF38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03967F-52BF-45FF-B65B-DB07E462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9E5308-EDBE-4988-81E1-E2D775A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5C72F1-E9F9-48FF-9906-42AFB57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D4BDF9-AEE1-413E-9F01-8D262BB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B76BD-FB65-4E6C-AB19-F87AA8BB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F25B-7130-4F5C-BB73-2FB177F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44B735-370B-4033-B9F4-147DEBF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BB058C-C2F1-4FF3-B52F-302F55D2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399F8D-D855-431C-B72C-59FD198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756711-75B1-4BEA-A35B-6538144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9E5BD0-A0AC-494B-B1C1-92FAF07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031618-ADE3-414C-9B26-823D7EE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1FACD7-815B-48A8-A86E-ADCA59DA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CAEC7B-8A1D-44ED-92D8-6425281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3B9F61-0805-4FBD-A535-815AE99F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FBC878-6942-4B3E-9AE7-1BEED57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3BAD-7796-4D79-8E6F-6019387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13B853-D233-4C4B-A9B8-2EA416D2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136241-6CF1-4C6F-B83B-8DAAD399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64C879-108F-4BD6-87EF-D23E0B8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9F7B21-20F2-44AA-80D6-798753DB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402086-9D24-4E21-8F8F-E1C98160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A05DA7-1BA6-45EF-8549-EB83928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958140-3E4E-4864-A658-4CEC6AB3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9F3524-5A57-4754-8B85-3493FDA2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CE4A14-0DBF-465E-93D8-DA0C61C9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0F6FA0-F5D5-4779-B933-F486ABF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4003-A038-4D2B-8012-CA5F55B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EC6C02-659A-4E15-AD26-694A7FC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1C59B2-32E4-4809-A650-ACB70A9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381856-31B9-4730-A999-59FFB056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854B91-6F12-4EAA-BD91-9B470A37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CCD9DB-4ADE-4665-9B31-B57F026A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871D3F-9C4A-4F4C-8001-90870B0B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9F1EC1-72F3-457D-96ED-ACB9F6D4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4AF911-B53F-4294-9110-F3DF1AC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62A1C0-35CC-4916-8016-DA59615B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29A1BD-DBED-4510-AF97-F9B72B9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95AF-1DC7-433B-9BA6-9F98739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BD1FAE-B296-4811-A069-A6562CD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02B986-814D-4101-89F0-7218E07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525F6D-F5BC-4C11-B78F-F488791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245C10-9143-47DC-A857-488A11B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250494-03A6-4A25-BF73-5CAE5C5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4E16ED-D87F-41A9-AD69-25F8FC76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C4862C-3A44-42D8-A7F8-382F5667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D9441A-05FC-4827-8271-DC9259D4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5E22E7-873F-4E12-9EB6-818B437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1B6CEB-D092-45D7-9CEE-D50C168C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0275-17CB-4A29-95B6-2022AA6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BAF4A9-AFE2-4D0B-BCE5-77779792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403268-8EA1-4407-ACA8-6A7E77E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700F29-216E-422E-984E-E25403F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3C8154-BDF5-4468-85D0-22608E4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A2BBC9-C5E0-475A-9750-9EE3C06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B70C56-7366-4209-890C-FAF99B9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733D00-0470-4C6B-8E83-5601A8E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A2F076-E1DD-4994-A313-7D7047B7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DBDD30-4578-46B5-BD13-D631097A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DADA8F-471A-4DD1-8D79-2DA28639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937E-0537-408F-9199-7F421EB0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3C4A3C-2B02-4C78-A705-227B26F4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F2B595-E279-4511-AB3D-D132A07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DA7CDC-172F-476F-BC52-A89AC50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8AFA23-4CC0-48DF-803A-D5B01F30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3A9033-9257-4B24-AC49-4F6C8635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CADFCC-832B-442F-89A5-1594760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1C90D4-92B0-406E-BCE6-30C93E8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994C51-F65A-4D4A-85D6-CF0C0BA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490ECA-7001-4E34-9872-C546BCE0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D18753-3B97-4BA7-972D-4397AD48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02A83-1674-478C-B07A-1DCB49DB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6C9EB5-5DAF-4624-8A72-DE666DA6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9DF0D0-8E6A-46B2-94C8-F7A791E7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892D5B-D709-471A-ADAB-D433F69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D9548E-387A-4ED8-AF18-7D8861B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F75884-5464-49ED-ACC7-5610730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6ECAEE-E382-41E4-9C24-13C475CB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C52900-52DE-4263-BA79-9817AEF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D1516C-CE1A-4441-B6D3-FE0897B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07E27A-34DC-43F2-82A4-C31DD43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0D6797-58AB-4E1F-9062-0205CB8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7DD8-180D-48FC-BD39-CFFB5AC2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23DC64-2822-4878-979F-9AB729C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1639EF-E283-4459-87F1-1C9A661B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848E95-1D23-4EA2-B63C-8F52AE45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E29F12-9FC0-45CD-95BF-103C21E5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6D755A-D653-4C46-A4EE-6733454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344695-FE92-4794-8EB5-EE8B09D3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93C430-50E3-46C9-8846-CFD89DC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4B38CF-B048-48F1-B54C-3ED59C7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143A68-0FC2-4E92-B59F-A321E40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5DC30D-2388-4A1B-ADEE-5114ADFF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877-94F2-4336-87D6-6CCBDCF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CB7E-3761-491D-A563-7A3A22F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3320C1-1873-4247-8A70-62A98C7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059AB8-085C-4087-BF87-9BB16BD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500473-FBD5-4E0F-912F-A8CD54C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AD28C2-0D2E-45DF-9882-E3457BEB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835C753-94CB-49DA-8235-E3A0620C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163728-A754-4B27-8975-A4340CA9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500185-A5BF-49B0-A7F5-548B804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A502EC-63BB-47D0-BB63-83443C2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A33112-AF3C-4EB7-ABB2-1D709529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03745B-1295-440D-B35B-36DCA726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DEB1-D836-43A4-9857-38A0C9A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E98229-331D-4E54-B971-DC92B79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692351-BE24-48BF-A7BE-5190309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28CE75-493C-49A5-BC33-719FB51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478FC5-64DA-4947-8690-435605D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A4BCB4-018E-4AD6-9239-6043E3A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A64233-6E06-4D3B-A6A0-D2CF0990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0E6837-06BE-4A1C-9997-FC79CBF9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408C1C-F86A-4B53-9874-79A5C3A6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306306-5131-4AB7-830F-C3563AC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A569BB-B67F-45EB-A053-28936741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43C1-5DD2-493D-B111-E056B6E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281F83-F152-4629-A8AD-733CD927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9C5231-33C0-4CCA-8DBB-5386D39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C2F83A-B1A6-452D-A4FB-EAA0F5E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847C55-B6E9-4A1A-8084-802A0A2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694A7B-E37E-4963-A6DA-968FE6C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7BF1CD-8563-487F-A47E-102E7B9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2107E4-EF57-4AE1-8820-AE1A90B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95F05FE-40EE-4339-8FFB-E55001D7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F4B588-5CAF-47D0-A424-A7362F09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008CB4-1867-4E74-8AB4-FF98BE72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7219-FCA7-4BCB-A4A5-53BDF08F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122887-691E-43CD-B96B-DD479049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373A6B-6425-485C-888B-815E2C78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650C1E-2339-4385-AD7D-0B1FA213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48BFE7-A556-4C0D-8C9B-182E462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34D216-3439-4861-A3BC-972ECB3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11B4D5-84BD-47F0-ADC6-75591D5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4B04A8-3A71-4B81-A229-ED37FE9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ACB0CE-3BFF-4A76-A811-1BF3320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29CE41-8AE5-4879-844A-C2224EE8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007632-FF48-4FAB-89A1-DF4E7523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E7F4-2E7B-48BA-A849-353114A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9B6D52-10AB-4589-8055-4B0D0818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6046EB-E29E-4702-AD8D-FF0819B3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6C30A1-25E8-45F9-AE79-D743435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400D7F-E8D5-479F-801B-80531D2E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AE39A8-5F73-4644-9028-14F8187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868AC6-4378-411C-B148-A25FE88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9B4727-3FDB-4037-9D53-D60EA08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C7AEFE-2488-4BD0-BD00-BD55DEC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683432-2FDC-4D4D-BA29-535EAD7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E91110-2FEE-4600-93D3-793ED7F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58B92-EE38-499C-8F1A-EC944BC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90EA4D-CA49-4736-929D-4290F08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54152F-FDDD-45FD-93E7-F561798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9E330F-7C40-4749-8B43-1222F92E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65EFDF-EB09-4F81-8C84-1ECEF9B0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E66F98-E4AC-43BD-86BF-F23222C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DDDF66-C2EC-4799-8984-6C7305EC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6F1500-32B9-426E-BC4C-C33FC13E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836BC8-BB7C-4B7F-90EC-9F01030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104B70-6511-472B-A702-8C5AE8E4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DDF2B6-F6AC-415B-82D0-B277584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6F3E-F8AF-403F-9AE4-9544A0B9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E32A88-BA78-4D01-A1D6-D49D68CA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FFD155-9AA2-486E-A49E-238CD2A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B8B568-2D07-477B-9144-48573BB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5B4060-AECE-45D6-A0DA-E2D6667F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7DF74F-A59C-4BD4-98E0-FDF78B0E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0C67CA-C4CB-4F8C-B614-53F2AC33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189402-D369-44C3-AB38-72DB75F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D95E52-50E0-40BA-8F72-6814C47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7754BB-5039-48AF-9354-B0D9573E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ABA3DC-00FF-4CB6-B89C-3D63DFF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99B6-25EF-4427-AEA8-E1FDCB1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91A79C-0955-4C79-90B9-23B6AB5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E8C884-724C-4287-87D8-9EA3B50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0792AA-38CA-4FC3-AE29-54AD4C1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1771CC-4728-4254-A604-AAC8798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FE61DB-D2F6-4645-A58C-26828D1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EF3463-27E7-4B32-8E43-179F2B54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4F94DA-D3EA-4F0F-8627-253D4145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465BDE-9ABF-4656-B9B5-70192A73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39E5BF-7DF1-425A-98FC-619E61A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C93282-0ECF-457F-9CD5-B70F567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69CC-7077-4E3F-A957-1C4C4AD8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739BEF-6F09-4B69-8B2D-6FF8848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AC4233-6DD7-4768-BA38-1843FEC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EC800C-4DE0-478E-8DAF-F16B8C13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2E0C01E-9027-45F4-8020-633AA03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04A792-C95C-4C98-BCC0-F57DCE50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89419C-6B86-437C-AEE1-680E553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3A14DA-C349-498F-84A9-5BE55D1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6866DF-6D6F-40FB-AEEF-60B6FF4D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2F5673-82B7-4D13-A616-895E588E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2CDBB8-0214-49E2-91B9-8E521874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ADA5-47BD-4768-B55A-F692EBAF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E2CE00-DACC-481A-8998-7FA3184B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E17312-5309-4299-B887-CD08D075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024F93-4050-4422-BAC1-E04DCC4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CCD499-D85C-4884-926D-2C79E81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D015C5-3539-4D12-A0D4-5D3F9E7A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661BEA8-EDDA-4764-AFA0-21FC053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1E4D22-E533-4AC6-BE8A-596C7F6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201F28-3FD6-4742-9454-11471CD9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35EB1C-C5D0-449B-90E8-C1E6B1E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3EBD14-FAE7-475F-B93B-1CCEFB05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DE5-4F44-45F8-8B15-954A09C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72BF-C65F-482C-A59B-8102E3FD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BEEC66-2FC6-49E0-B115-3B2F0298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07ACAF-E2EB-4B7B-A890-75C94423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5CCABB-E8F8-46A9-9BDD-6840D05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C07A2C-11C4-47FA-BB29-4E6516F5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19A8FF-9E6A-405E-A91B-A4DABF6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A81B38-7408-4FE5-A594-35CE0A7D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CF562F-2B41-4DE9-95A2-33F331B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164FE3-C959-4A43-9FA6-234C235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7C43A3-C31A-432A-A79D-7A3C561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31CD4B-D3DC-49E3-895A-430A2A7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52CC-D4B5-4555-B3A9-6F635012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CCA8B8-7D72-40B3-AEAB-39CBDA56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4910692-AB24-4313-9E21-6560F95E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94A1B62-E508-44E5-87C3-6FA407B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515DD96-FE28-41EC-B239-42EFBBEE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B7982E-0BC9-4A6E-9B8C-89C295B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2089E1-D56E-4908-B93F-16979D6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9451B7-ABA5-48C9-BE7D-8790D18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87A05E-A89B-4695-8EFA-3A129222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B96AD3-8312-4DE6-AB67-09590368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5B83C9-A4AA-4AF0-8F2F-8F4B9C8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5A8D-30CE-4227-ABAF-A60772BC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F40B66-058C-442B-BE0A-B1D227F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FE9995-7C41-43EC-B395-B93DB3A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0365C2-1B0E-44DE-9811-F9A2C89B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82AA22E-0EF7-4DDD-A7B4-170DFE16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5606AB-E223-47D4-BD18-81574F5D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52F5BA-1919-4F83-B080-67430940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4A8019-701C-419B-ACAA-BCCE8437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D661FD-EA6B-4CF0-A85F-1B69578D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68C52E-931D-402F-A7EF-99BF776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636DE97-4B56-47BA-82D7-7E3996B2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9410-1B15-4988-BAEC-3295AAD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1CA0AC7-6C7C-4C61-833B-D78F87E4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4BFF1A3-106D-41B3-84D4-8C86DAF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388AB4-D3B9-4929-B87F-CB33813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04D682-EA83-4981-AF3D-8229CEE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F02CE5-BDDE-4FA3-AB38-C2E476A2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C9B7F9-C1FD-4B5C-87B5-A331390B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A1102E4-6BC6-489C-BA8D-5A616BA4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9ACB99-7F4A-4D7C-82AA-2E83C056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D387FC-4DC1-4489-9392-68B9E19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99F2A6-39D1-4AD8-968D-A73A401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A482C-B155-494F-BE52-4CBB35B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099C64-EDAF-4655-B2A7-427C544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1A5A12-A102-4044-917E-B68D3F8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1BED6F4-56F1-4764-AD95-702E8C6B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F5547B-3E17-415C-86DE-27DCA11D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F7E267-3881-4A37-A27E-6EC5430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9F544E1-0D77-4CC6-B6F2-D5E7514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E1CD52-686E-4033-80DC-78F6C062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6006BA-2078-46A7-82C8-08EE57E2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9ECCD1-7012-4A8A-A1EA-0ECDAA5C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F502-81A5-4CCD-8516-850FF24C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7DC21-B478-4964-ADDC-D760D858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6058-2671-439D-A16E-8F96733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985F-BF19-47F9-BAC0-3688C5C5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D6F0-C2DD-4A9D-8A9C-2F794D4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F94-FB27-472C-A586-456E1F3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04BA7-EFFE-4C2F-B387-6EB5403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9134-6615-4B69-A5B3-97443396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5863-12AA-472F-A190-C7348742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6B5C-49BD-4988-9316-4292C880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395C-EF87-4B4D-AC7F-8EA1AD24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DEDA-FFFC-4BC8-9F01-ED109EF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50F8-3AD4-40CC-BC3D-AE9F0BA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644B-4872-4CB4-928C-125B4A2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A9A9-974B-49E7-AB74-53EE6DD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3209-ED39-49D9-ABC6-7D373F2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E26-9CDA-4D00-AA2E-A7DFBB7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1182-B5E9-4B17-81AC-4796C73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D4A1-E314-438A-9E1F-EA5D779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AD5B-E70D-403E-86CA-F6A1FFC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A2D3-9233-43CF-8778-53A8D02F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257E0-0755-4CFB-8AE8-38910AD4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169F-E7E0-4BFC-AA2E-C431A09B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2229F-3952-426B-9962-B37EF17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126E-B275-4F95-B162-E4C2A55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C8AE-40CE-4F99-9CC5-7508EDAB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281C-8B02-4401-8C99-6A6E70B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C20-1E3F-4C79-A3CE-66905C2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D526-2CD4-4029-965E-314B6AFF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9B63-AD7C-48C7-82BD-8181E29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54CB-4079-4CDF-B19F-EDB921C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434F8-4171-4380-AB2E-D28B72C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B4E18-7D44-4A56-873C-FA0E3115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285A-5A48-4490-A49E-5E34F6A1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FF458-9106-4442-9028-3FFC659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EB99-FF0A-4E49-B5F7-9E18C9FD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14238-C57E-4B30-B87A-97293B2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AB6A-63E3-443F-88F4-DAADD5A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1" name="Freeform 2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080"/>
              <a:ext cx="9137520" cy="2491200"/>
              <a:chOff x="1440" y="622080"/>
              <a:chExt cx="9137520" cy="249120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0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184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86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2385C-C461-4FA0-9087-7C67897A875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484F-B970-4344-A852-C0A76E06D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5407B4-C5CD-4EBE-B4C5-F007FB9D8B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EEF85F-D588-4B97-9EC7-7E70A10DD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958B02-1BCB-4C8F-AF21-AB062BFCF9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D3F4DF-D70F-4F8E-93D2-30802F9E2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78A78-0401-4995-9E6B-FCEFF4100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400FEE-B684-4D16-94D8-5EE6F0D56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07D230-4EDC-48AF-BBA1-AC2CD6E7D1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1CA5DE-F165-488A-842C-33FC4632C8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0AB4B1-9E4A-474C-B1B8-07AA67595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79" name="Freeform 2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080"/>
              <a:ext cx="9137880" cy="2491200"/>
              <a:chOff x="0" y="622080"/>
              <a:chExt cx="9137880" cy="249120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30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184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86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58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D0CA2C-8A54-4084-8875-27E9C320C0E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4CDFD3-438D-4A5D-9131-E8F043307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402B2B-3134-42AF-A4AA-75C57785B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274B59-E1D8-4CAF-BE3D-35BBB25FB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2D908C-4326-4357-99DD-C114F4044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F7BF0D-917D-4020-94DF-4EAD8BC86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48964A-F091-4801-8AE5-0254C925B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A384E9-C2BA-489B-9249-FBF9B03EF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3FF4CC-9F92-4DB6-B62D-1BD6C18719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C634E2-F10A-4327-9E88-3CA621FC2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2FBB4B-D2DB-486E-A432-B9FBB8CDC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1071720" y="304920"/>
            <a:ext cx="7613280" cy="1104480"/>
            <a:chOff x="1071720" y="304920"/>
            <a:chExt cx="7613280" cy="1104480"/>
          </a:xfrm>
        </p:grpSpPr>
        <p:sp>
          <p:nvSpPr>
            <p:cNvPr id="157" name="Oval 2"/>
            <p:cNvSpPr/>
            <p:nvPr/>
          </p:nvSpPr>
          <p:spPr>
            <a:xfrm flipH="1">
              <a:off x="4868280" y="304920"/>
              <a:ext cx="11048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3"/>
            <p:cNvSpPr/>
            <p:nvPr/>
          </p:nvSpPr>
          <p:spPr>
            <a:xfrm flipH="1">
              <a:off x="7581240" y="304920"/>
              <a:ext cx="110340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"/>
            <p:cNvSpPr/>
            <p:nvPr/>
          </p:nvSpPr>
          <p:spPr>
            <a:xfrm flipH="1">
              <a:off x="1071720" y="30600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flipH="1">
              <a:off x="632232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flipH="1">
              <a:off x="235836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B22380-437B-4B28-80D1-868F56417B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777FDC-9E43-4981-B3D9-2E724E2EB7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050DF2-8CD3-4020-91AF-8F42B2F345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01852F-963F-485B-B1B6-6052045F52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474B13-837F-4E9D-B648-7B6E5FD9F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575E38-4949-4D51-B7A5-7903F7384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1FFC7-107B-443F-A034-E76CF79616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0FA1DF-3AF3-4169-A932-3D9C6E6046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F5D023-0BA9-4499-B55B-DC4876D6CF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B709B-516F-4FC7-9591-F989E40997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A4211C-B3EA-433F-ADAC-855807823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204" name="Oval 2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3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4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5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FCA881-2535-4028-8023-55DC649F11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F3CF42-6CB3-4F10-B5B8-D301CD3E4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0416B5-A21B-4AF6-8177-A9321C47F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C3EC9D-9873-49EF-BDF7-DD5D9CCE4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34D7AB-FE33-4895-9DA7-2037B9A02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A3E8CB-56B1-41D2-A987-B98553048F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76C468-98BE-44C4-8761-2F49B779F1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4CC64-F8FD-4FE2-9EAD-3598D2BA1B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CADC97-552D-4F0A-98EE-FF245B190C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3F89A3-09D9-4354-880C-C8524D8A8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44B089-E6E1-4028-A61E-BF14E8F97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"/>
          <p:cNvGrpSpPr/>
          <p:nvPr/>
        </p:nvGrpSpPr>
        <p:grpSpPr>
          <a:xfrm>
            <a:off x="6225840" y="-55080"/>
            <a:ext cx="3010320" cy="3366720"/>
            <a:chOff x="6225840" y="-55080"/>
            <a:chExt cx="3010320" cy="3366720"/>
          </a:xfrm>
        </p:grpSpPr>
        <p:grpSp>
          <p:nvGrpSpPr>
            <p:cNvPr id="25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5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"/>
              <p:cNvSpPr/>
              <p:nvPr/>
            </p:nvSpPr>
            <p:spPr>
              <a:xfrm>
                <a:off x="7927200" y="2828160"/>
                <a:ext cx="24048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25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7"/>
              <p:cNvSpPr/>
              <p:nvPr/>
            </p:nvSpPr>
            <p:spPr>
              <a:xfrm>
                <a:off x="8159040" y="177264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25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10"/>
              <p:cNvSpPr/>
              <p:nvPr/>
            </p:nvSpPr>
            <p:spPr>
              <a:xfrm>
                <a:off x="6689160" y="32760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1"/>
            <p:cNvGrpSpPr/>
            <p:nvPr/>
          </p:nvGrpSpPr>
          <p:grpSpPr>
            <a:xfrm>
              <a:off x="6225840" y="-55080"/>
              <a:ext cx="3010320" cy="3366720"/>
              <a:chOff x="6225840" y="-55080"/>
              <a:chExt cx="3010320" cy="3366720"/>
            </a:xfrm>
          </p:grpSpPr>
          <p:grpSp>
            <p:nvGrpSpPr>
              <p:cNvPr id="26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26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"/>
                <p:cNvSpPr/>
                <p:nvPr/>
              </p:nvSpPr>
              <p:spPr>
                <a:xfrm>
                  <a:off x="7562160" y="80568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5"/>
              <p:cNvGrpSpPr/>
              <p:nvPr/>
            </p:nvGrpSpPr>
            <p:grpSpPr>
              <a:xfrm>
                <a:off x="6225840" y="-55080"/>
                <a:ext cx="2961360" cy="2340000"/>
                <a:chOff x="6225840" y="-55080"/>
                <a:chExt cx="2961360" cy="2340000"/>
              </a:xfrm>
            </p:grpSpPr>
            <p:grpSp>
              <p:nvGrpSpPr>
                <p:cNvPr id="265" name="Group 16"/>
                <p:cNvGrpSpPr/>
                <p:nvPr/>
              </p:nvGrpSpPr>
              <p:grpSpPr>
                <a:xfrm>
                  <a:off x="7574400" y="873720"/>
                  <a:ext cx="1420920" cy="1190160"/>
                  <a:chOff x="7574400" y="873720"/>
                  <a:chExt cx="1420920" cy="1190160"/>
                </a:xfrm>
              </p:grpSpPr>
              <p:sp>
                <p:nvSpPr>
                  <p:cNvPr id="266" name="Freeform 17"/>
                  <p:cNvSpPr/>
                  <p:nvPr/>
                </p:nvSpPr>
                <p:spPr>
                  <a:xfrm rot="2700000">
                    <a:off x="7543800" y="1133280"/>
                    <a:ext cx="84456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8"/>
                  <p:cNvSpPr/>
                  <p:nvPr/>
                </p:nvSpPr>
                <p:spPr>
                  <a:xfrm rot="2700000">
                    <a:off x="8461440" y="1549440"/>
                    <a:ext cx="4536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9"/>
                <p:cNvGrpSpPr/>
                <p:nvPr/>
              </p:nvGrpSpPr>
              <p:grpSpPr>
                <a:xfrm>
                  <a:off x="7851240" y="529560"/>
                  <a:ext cx="1335960" cy="1398240"/>
                  <a:chOff x="7851240" y="529560"/>
                  <a:chExt cx="1335960" cy="1398240"/>
                </a:xfrm>
              </p:grpSpPr>
              <p:sp>
                <p:nvSpPr>
                  <p:cNvPr id="269" name="Freeform 20"/>
                  <p:cNvSpPr/>
                  <p:nvPr/>
                </p:nvSpPr>
                <p:spPr>
                  <a:xfrm rot="2100000">
                    <a:off x="7845120" y="77184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21"/>
                  <p:cNvSpPr/>
                  <p:nvPr/>
                </p:nvSpPr>
                <p:spPr>
                  <a:xfrm rot="2100000">
                    <a:off x="8608680" y="1392840"/>
                    <a:ext cx="5000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2"/>
                <p:cNvGrpSpPr/>
                <p:nvPr/>
              </p:nvGrpSpPr>
              <p:grpSpPr>
                <a:xfrm>
                  <a:off x="7834680" y="549720"/>
                  <a:ext cx="1347840" cy="1099800"/>
                  <a:chOff x="7834680" y="549720"/>
                  <a:chExt cx="1347840" cy="1099800"/>
                </a:xfrm>
              </p:grpSpPr>
              <p:sp>
                <p:nvSpPr>
                  <p:cNvPr id="272" name="Freeform 23"/>
                  <p:cNvSpPr/>
                  <p:nvPr/>
                </p:nvSpPr>
                <p:spPr>
                  <a:xfrm rot="1560000">
                    <a:off x="7840440" y="735120"/>
                    <a:ext cx="9014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4"/>
                  <p:cNvSpPr/>
                  <p:nvPr/>
                </p:nvSpPr>
                <p:spPr>
                  <a:xfrm rot="1560000">
                    <a:off x="8641800" y="1191960"/>
                    <a:ext cx="48384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25"/>
                <p:cNvGrpSpPr/>
                <p:nvPr/>
              </p:nvGrpSpPr>
              <p:grpSpPr>
                <a:xfrm>
                  <a:off x="7822080" y="564840"/>
                  <a:ext cx="1363680" cy="862920"/>
                  <a:chOff x="7822080" y="564840"/>
                  <a:chExt cx="1363680" cy="862920"/>
                </a:xfrm>
              </p:grpSpPr>
              <p:sp>
                <p:nvSpPr>
                  <p:cNvPr id="275" name="Freeform 26"/>
                  <p:cNvSpPr/>
                  <p:nvPr/>
                </p:nvSpPr>
                <p:spPr>
                  <a:xfrm rot="1080000">
                    <a:off x="7837560" y="695520"/>
                    <a:ext cx="8841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27"/>
                  <p:cNvSpPr/>
                  <p:nvPr/>
                </p:nvSpPr>
                <p:spPr>
                  <a:xfrm rot="1080000">
                    <a:off x="8664120" y="983520"/>
                    <a:ext cx="47448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28"/>
                <p:cNvGrpSpPr/>
                <p:nvPr/>
              </p:nvGrpSpPr>
              <p:grpSpPr>
                <a:xfrm>
                  <a:off x="7843680" y="602640"/>
                  <a:ext cx="1250640" cy="499320"/>
                  <a:chOff x="7843680" y="602640"/>
                  <a:chExt cx="1250640" cy="499320"/>
                </a:xfrm>
              </p:grpSpPr>
              <p:sp>
                <p:nvSpPr>
                  <p:cNvPr id="278" name="Freeform 29"/>
                  <p:cNvSpPr/>
                  <p:nvPr/>
                </p:nvSpPr>
                <p:spPr>
                  <a:xfrm rot="480000">
                    <a:off x="7853400" y="657720"/>
                    <a:ext cx="80532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0"/>
                  <p:cNvSpPr/>
                  <p:nvPr/>
                </p:nvSpPr>
                <p:spPr>
                  <a:xfrm rot="480000">
                    <a:off x="8642160" y="76644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7870680" y="626760"/>
                  <a:ext cx="1109160" cy="196200"/>
                  <a:chOff x="7870680" y="626760"/>
                  <a:chExt cx="1109160" cy="196200"/>
                </a:xfrm>
              </p:grpSpPr>
              <p:sp>
                <p:nvSpPr>
                  <p:cNvPr id="281" name="Freeform 32"/>
                  <p:cNvSpPr/>
                  <p:nvPr/>
                </p:nvSpPr>
                <p:spPr>
                  <a:xfrm rot="21480000">
                    <a:off x="7872480" y="644760"/>
                    <a:ext cx="7214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3"/>
                  <p:cNvSpPr/>
                  <p:nvPr/>
                </p:nvSpPr>
                <p:spPr>
                  <a:xfrm rot="21480000">
                    <a:off x="8588880" y="63360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34"/>
                <p:cNvGrpSpPr/>
                <p:nvPr/>
              </p:nvGrpSpPr>
              <p:grpSpPr>
                <a:xfrm>
                  <a:off x="7835400" y="381240"/>
                  <a:ext cx="1018080" cy="438480"/>
                  <a:chOff x="7835400" y="381240"/>
                  <a:chExt cx="1018080" cy="438480"/>
                </a:xfrm>
              </p:grpSpPr>
              <p:sp>
                <p:nvSpPr>
                  <p:cNvPr id="284" name="Freeform 35"/>
                  <p:cNvSpPr/>
                  <p:nvPr/>
                </p:nvSpPr>
                <p:spPr>
                  <a:xfrm rot="20760000">
                    <a:off x="7845480" y="581040"/>
                    <a:ext cx="6454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6"/>
                  <p:cNvSpPr/>
                  <p:nvPr/>
                </p:nvSpPr>
                <p:spPr>
                  <a:xfrm rot="20760000">
                    <a:off x="8481240" y="419040"/>
                    <a:ext cx="3459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37"/>
                <p:cNvGrpSpPr/>
                <p:nvPr/>
              </p:nvGrpSpPr>
              <p:grpSpPr>
                <a:xfrm>
                  <a:off x="6438960" y="937800"/>
                  <a:ext cx="1421640" cy="1189080"/>
                  <a:chOff x="6438960" y="937800"/>
                  <a:chExt cx="1421640" cy="1189080"/>
                </a:xfrm>
              </p:grpSpPr>
              <p:sp>
                <p:nvSpPr>
                  <p:cNvPr id="287" name="Freeform 38"/>
                  <p:cNvSpPr/>
                  <p:nvPr/>
                </p:nvSpPr>
                <p:spPr>
                  <a:xfrm flipH="1" rot="18900000">
                    <a:off x="7046280" y="1197720"/>
                    <a:ext cx="84456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39"/>
                  <p:cNvSpPr/>
                  <p:nvPr/>
                </p:nvSpPr>
                <p:spPr>
                  <a:xfrm flipH="1" rot="18900000">
                    <a:off x="6518160" y="1614600"/>
                    <a:ext cx="453240" cy="41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40"/>
                <p:cNvGrpSpPr/>
                <p:nvPr/>
              </p:nvGrpSpPr>
              <p:grpSpPr>
                <a:xfrm>
                  <a:off x="6225840" y="618120"/>
                  <a:ext cx="1337760" cy="1398240"/>
                  <a:chOff x="6225840" y="618120"/>
                  <a:chExt cx="1337760" cy="1398240"/>
                </a:xfrm>
              </p:grpSpPr>
              <p:sp>
                <p:nvSpPr>
                  <p:cNvPr id="290" name="Freeform 41"/>
                  <p:cNvSpPr/>
                  <p:nvPr/>
                </p:nvSpPr>
                <p:spPr>
                  <a:xfrm flipH="1" rot="19500000">
                    <a:off x="6636600" y="86040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42"/>
                  <p:cNvSpPr/>
                  <p:nvPr/>
                </p:nvSpPr>
                <p:spPr>
                  <a:xfrm flipH="1" rot="19500000">
                    <a:off x="6303600" y="1482480"/>
                    <a:ext cx="50004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43"/>
                <p:cNvGrpSpPr/>
                <p:nvPr/>
              </p:nvGrpSpPr>
              <p:grpSpPr>
                <a:xfrm>
                  <a:off x="6229800" y="641880"/>
                  <a:ext cx="1350000" cy="1099800"/>
                  <a:chOff x="6229800" y="641880"/>
                  <a:chExt cx="1350000" cy="1099800"/>
                </a:xfrm>
              </p:grpSpPr>
              <p:sp>
                <p:nvSpPr>
                  <p:cNvPr id="293" name="Freeform 44"/>
                  <p:cNvSpPr/>
                  <p:nvPr/>
                </p:nvSpPr>
                <p:spPr>
                  <a:xfrm flipH="1" rot="20040000">
                    <a:off x="6672240" y="827280"/>
                    <a:ext cx="901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5"/>
                  <p:cNvSpPr/>
                  <p:nvPr/>
                </p:nvSpPr>
                <p:spPr>
                  <a:xfrm flipH="1" rot="20040000">
                    <a:off x="6286680" y="1283040"/>
                    <a:ext cx="48384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46"/>
                <p:cNvGrpSpPr/>
                <p:nvPr/>
              </p:nvGrpSpPr>
              <p:grpSpPr>
                <a:xfrm>
                  <a:off x="6226560" y="657360"/>
                  <a:ext cx="1364040" cy="861120"/>
                  <a:chOff x="6226560" y="657360"/>
                  <a:chExt cx="1364040" cy="861120"/>
                </a:xfrm>
              </p:grpSpPr>
              <p:sp>
                <p:nvSpPr>
                  <p:cNvPr id="296" name="Freeform 47"/>
                  <p:cNvSpPr/>
                  <p:nvPr/>
                </p:nvSpPr>
                <p:spPr>
                  <a:xfrm flipH="1" rot="20520000">
                    <a:off x="6693120" y="787680"/>
                    <a:ext cx="8816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48"/>
                  <p:cNvSpPr/>
                  <p:nvPr/>
                </p:nvSpPr>
                <p:spPr>
                  <a:xfrm flipH="1" rot="20520000">
                    <a:off x="6273000" y="1075320"/>
                    <a:ext cx="4730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49"/>
                <p:cNvGrpSpPr/>
                <p:nvPr/>
              </p:nvGrpSpPr>
              <p:grpSpPr>
                <a:xfrm>
                  <a:off x="6319080" y="694440"/>
                  <a:ext cx="1249920" cy="497880"/>
                  <a:chOff x="6319080" y="694440"/>
                  <a:chExt cx="1249920" cy="497880"/>
                </a:xfrm>
              </p:grpSpPr>
              <p:sp>
                <p:nvSpPr>
                  <p:cNvPr id="299" name="Freeform 50"/>
                  <p:cNvSpPr/>
                  <p:nvPr/>
                </p:nvSpPr>
                <p:spPr>
                  <a:xfrm flipH="1" rot="21120000">
                    <a:off x="6753600" y="749160"/>
                    <a:ext cx="8056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51"/>
                  <p:cNvSpPr/>
                  <p:nvPr/>
                </p:nvSpPr>
                <p:spPr>
                  <a:xfrm flipH="1" rot="21120000">
                    <a:off x="6337800" y="85680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52"/>
                <p:cNvGrpSpPr/>
                <p:nvPr/>
              </p:nvGrpSpPr>
              <p:grpSpPr>
                <a:xfrm>
                  <a:off x="6432480" y="715680"/>
                  <a:ext cx="1109520" cy="196200"/>
                  <a:chOff x="6432480" y="715680"/>
                  <a:chExt cx="1109520" cy="196200"/>
                </a:xfrm>
              </p:grpSpPr>
              <p:sp>
                <p:nvSpPr>
                  <p:cNvPr id="302" name="Freeform 53"/>
                  <p:cNvSpPr/>
                  <p:nvPr/>
                </p:nvSpPr>
                <p:spPr>
                  <a:xfrm flipH="1" rot="120000">
                    <a:off x="6818760" y="733680"/>
                    <a:ext cx="72144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4"/>
                  <p:cNvSpPr/>
                  <p:nvPr/>
                </p:nvSpPr>
                <p:spPr>
                  <a:xfrm flipH="1" rot="120000">
                    <a:off x="6435360" y="72216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55"/>
                <p:cNvGrpSpPr/>
                <p:nvPr/>
              </p:nvGrpSpPr>
              <p:grpSpPr>
                <a:xfrm>
                  <a:off x="6559560" y="472320"/>
                  <a:ext cx="1017720" cy="438480"/>
                  <a:chOff x="6559560" y="472320"/>
                  <a:chExt cx="1017720" cy="438480"/>
                </a:xfrm>
              </p:grpSpPr>
              <p:sp>
                <p:nvSpPr>
                  <p:cNvPr id="305" name="Freeform 56"/>
                  <p:cNvSpPr/>
                  <p:nvPr/>
                </p:nvSpPr>
                <p:spPr>
                  <a:xfrm flipH="1" rot="840000">
                    <a:off x="6922440" y="672480"/>
                    <a:ext cx="644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57"/>
                  <p:cNvSpPr/>
                  <p:nvPr/>
                </p:nvSpPr>
                <p:spPr>
                  <a:xfrm flipH="1" rot="840000">
                    <a:off x="6584760" y="510120"/>
                    <a:ext cx="3452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58"/>
                <p:cNvGrpSpPr/>
                <p:nvPr/>
              </p:nvGrpSpPr>
              <p:grpSpPr>
                <a:xfrm>
                  <a:off x="6600240" y="338040"/>
                  <a:ext cx="1013760" cy="612000"/>
                  <a:chOff x="6600240" y="338040"/>
                  <a:chExt cx="1013760" cy="612000"/>
                </a:xfrm>
              </p:grpSpPr>
              <p:sp>
                <p:nvSpPr>
                  <p:cNvPr id="308" name="Freeform 59"/>
                  <p:cNvSpPr/>
                  <p:nvPr/>
                </p:nvSpPr>
                <p:spPr>
                  <a:xfrm flipH="1" rot="1260000">
                    <a:off x="6963840" y="666000"/>
                    <a:ext cx="6400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0"/>
                  <p:cNvSpPr/>
                  <p:nvPr/>
                </p:nvSpPr>
                <p:spPr>
                  <a:xfrm flipH="1" rot="1260000">
                    <a:off x="6638040" y="390240"/>
                    <a:ext cx="34452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61"/>
                <p:cNvGrpSpPr/>
                <p:nvPr/>
              </p:nvGrpSpPr>
              <p:grpSpPr>
                <a:xfrm>
                  <a:off x="6701400" y="152280"/>
                  <a:ext cx="947880" cy="855360"/>
                  <a:chOff x="6701400" y="152280"/>
                  <a:chExt cx="947880" cy="855360"/>
                </a:xfrm>
              </p:grpSpPr>
              <p:sp>
                <p:nvSpPr>
                  <p:cNvPr id="311" name="Freeform 62"/>
                  <p:cNvSpPr/>
                  <p:nvPr/>
                </p:nvSpPr>
                <p:spPr>
                  <a:xfrm flipH="1" rot="2040000">
                    <a:off x="7024680" y="667080"/>
                    <a:ext cx="6274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63"/>
                  <p:cNvSpPr/>
                  <p:nvPr/>
                </p:nvSpPr>
                <p:spPr>
                  <a:xfrm flipH="1" rot="2040000">
                    <a:off x="6751800" y="222120"/>
                    <a:ext cx="33660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64"/>
                <p:cNvGrpSpPr/>
                <p:nvPr/>
              </p:nvGrpSpPr>
              <p:grpSpPr>
                <a:xfrm>
                  <a:off x="6813720" y="-16200"/>
                  <a:ext cx="853200" cy="1022400"/>
                  <a:chOff x="6813720" y="-16200"/>
                  <a:chExt cx="853200" cy="1022400"/>
                </a:xfrm>
              </p:grpSpPr>
              <p:sp>
                <p:nvSpPr>
                  <p:cNvPr id="314" name="Freeform 65"/>
                  <p:cNvSpPr/>
                  <p:nvPr/>
                </p:nvSpPr>
                <p:spPr>
                  <a:xfrm flipH="1" rot="2700000">
                    <a:off x="7082640" y="635040"/>
                    <a:ext cx="608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66"/>
                  <p:cNvSpPr/>
                  <p:nvPr/>
                </p:nvSpPr>
                <p:spPr>
                  <a:xfrm flipH="1" rot="2700000">
                    <a:off x="6867360" y="57240"/>
                    <a:ext cx="32688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67"/>
                <p:cNvGrpSpPr/>
                <p:nvPr/>
              </p:nvGrpSpPr>
              <p:grpSpPr>
                <a:xfrm>
                  <a:off x="7050600" y="-30240"/>
                  <a:ext cx="805680" cy="829440"/>
                  <a:chOff x="7050600" y="-30240"/>
                  <a:chExt cx="805680" cy="829440"/>
                </a:xfrm>
              </p:grpSpPr>
              <p:sp>
                <p:nvSpPr>
                  <p:cNvPr id="317" name="Freeform 68"/>
                  <p:cNvSpPr/>
                  <p:nvPr/>
                </p:nvSpPr>
                <p:spPr>
                  <a:xfrm flipH="1" rot="3480000">
                    <a:off x="7348680" y="430200"/>
                    <a:ext cx="57096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69"/>
                  <p:cNvSpPr/>
                  <p:nvPr/>
                </p:nvSpPr>
                <p:spPr>
                  <a:xfrm flipH="1" rot="3480000">
                    <a:off x="7089120" y="37800"/>
                    <a:ext cx="30600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70"/>
                <p:cNvGrpSpPr/>
                <p:nvPr/>
              </p:nvGrpSpPr>
              <p:grpSpPr>
                <a:xfrm>
                  <a:off x="7242480" y="-55080"/>
                  <a:ext cx="605160" cy="850320"/>
                  <a:chOff x="7242480" y="-55080"/>
                  <a:chExt cx="605160" cy="850320"/>
                </a:xfrm>
              </p:grpSpPr>
              <p:sp>
                <p:nvSpPr>
                  <p:cNvPr id="320" name="Freeform 71"/>
                  <p:cNvSpPr/>
                  <p:nvPr/>
                </p:nvSpPr>
                <p:spPr>
                  <a:xfrm flipH="1" rot="4140000">
                    <a:off x="7395840" y="428400"/>
                    <a:ext cx="55764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2"/>
                  <p:cNvSpPr/>
                  <p:nvPr/>
                </p:nvSpPr>
                <p:spPr>
                  <a:xfrm flipH="1" rot="4140000">
                    <a:off x="7261560" y="5040"/>
                    <a:ext cx="29916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73"/>
                <p:cNvGrpSpPr/>
                <p:nvPr/>
              </p:nvGrpSpPr>
              <p:grpSpPr>
                <a:xfrm>
                  <a:off x="7783920" y="216720"/>
                  <a:ext cx="1009800" cy="630360"/>
                  <a:chOff x="7783920" y="216720"/>
                  <a:chExt cx="1009800" cy="630360"/>
                </a:xfrm>
              </p:grpSpPr>
              <p:sp>
                <p:nvSpPr>
                  <p:cNvPr id="323" name="Freeform 74"/>
                  <p:cNvSpPr/>
                  <p:nvPr/>
                </p:nvSpPr>
                <p:spPr>
                  <a:xfrm rot="20280000">
                    <a:off x="7792920" y="558720"/>
                    <a:ext cx="6433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75"/>
                  <p:cNvSpPr/>
                  <p:nvPr/>
                </p:nvSpPr>
                <p:spPr>
                  <a:xfrm rot="20280000">
                    <a:off x="8408880" y="271440"/>
                    <a:ext cx="3459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76"/>
                <p:cNvGrpSpPr/>
                <p:nvPr/>
              </p:nvGrpSpPr>
              <p:grpSpPr>
                <a:xfrm>
                  <a:off x="7737840" y="67680"/>
                  <a:ext cx="962640" cy="826200"/>
                  <a:chOff x="7737840" y="67680"/>
                  <a:chExt cx="962640" cy="826200"/>
                </a:xfrm>
              </p:grpSpPr>
              <p:sp>
                <p:nvSpPr>
                  <p:cNvPr id="326" name="Freeform 77"/>
                  <p:cNvSpPr/>
                  <p:nvPr/>
                </p:nvSpPr>
                <p:spPr>
                  <a:xfrm rot="19680000">
                    <a:off x="7737120" y="559080"/>
                    <a:ext cx="6343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78"/>
                  <p:cNvSpPr/>
                  <p:nvPr/>
                </p:nvSpPr>
                <p:spPr>
                  <a:xfrm rot="19680000">
                    <a:off x="8310960" y="136080"/>
                    <a:ext cx="34020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79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0"/>
                <p:cNvSpPr/>
                <p:nvPr/>
              </p:nvSpPr>
              <p:spPr>
                <a:xfrm flipH="1" rot="4560000">
                  <a:off x="743256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81"/>
                <p:cNvGrpSpPr/>
                <p:nvPr/>
              </p:nvGrpSpPr>
              <p:grpSpPr>
                <a:xfrm>
                  <a:off x="7552440" y="-45000"/>
                  <a:ext cx="661680" cy="826200"/>
                  <a:chOff x="7552440" y="-45000"/>
                  <a:chExt cx="661680" cy="826200"/>
                </a:xfrm>
              </p:grpSpPr>
              <p:sp>
                <p:nvSpPr>
                  <p:cNvPr id="331" name="Freeform 82"/>
                  <p:cNvSpPr/>
                  <p:nvPr/>
                </p:nvSpPr>
                <p:spPr>
                  <a:xfrm rot="17760000">
                    <a:off x="7461000" y="431640"/>
                    <a:ext cx="5511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83"/>
                  <p:cNvSpPr/>
                  <p:nvPr/>
                </p:nvSpPr>
                <p:spPr>
                  <a:xfrm rot="17760000">
                    <a:off x="7901280" y="24840"/>
                    <a:ext cx="2955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84"/>
                <p:cNvGrpSpPr/>
                <p:nvPr/>
              </p:nvGrpSpPr>
              <p:grpSpPr>
                <a:xfrm>
                  <a:off x="7488360" y="-30960"/>
                  <a:ext cx="1022040" cy="804960"/>
                  <a:chOff x="7488360" y="-30960"/>
                  <a:chExt cx="1022040" cy="804960"/>
                </a:xfrm>
              </p:grpSpPr>
              <p:sp>
                <p:nvSpPr>
                  <p:cNvPr id="334" name="Freeform 85"/>
                  <p:cNvSpPr/>
                  <p:nvPr/>
                </p:nvSpPr>
                <p:spPr>
                  <a:xfrm rot="18840000">
                    <a:off x="7473240" y="386280"/>
                    <a:ext cx="587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86"/>
                  <p:cNvSpPr/>
                  <p:nvPr/>
                </p:nvSpPr>
                <p:spPr>
                  <a:xfrm rot="18840000">
                    <a:off x="8126280" y="32400"/>
                    <a:ext cx="31464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87"/>
                <p:cNvGrpSpPr/>
                <p:nvPr/>
              </p:nvGrpSpPr>
              <p:grpSpPr>
                <a:xfrm>
                  <a:off x="7675200" y="-7200"/>
                  <a:ext cx="227160" cy="752400"/>
                  <a:chOff x="7675200" y="-7200"/>
                  <a:chExt cx="227160" cy="752400"/>
                </a:xfrm>
              </p:grpSpPr>
              <p:sp>
                <p:nvSpPr>
                  <p:cNvPr id="337" name="Freeform 88"/>
                  <p:cNvSpPr/>
                  <p:nvPr/>
                </p:nvSpPr>
                <p:spPr>
                  <a:xfrm rot="16680000">
                    <a:off x="7494120" y="464760"/>
                    <a:ext cx="493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89"/>
                  <p:cNvSpPr/>
                  <p:nvPr/>
                </p:nvSpPr>
                <p:spPr>
                  <a:xfrm rot="16680000">
                    <a:off x="7702920" y="80640"/>
                    <a:ext cx="263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0"/>
                <p:cNvGrpSpPr/>
                <p:nvPr/>
              </p:nvGrpSpPr>
              <p:grpSpPr>
                <a:xfrm>
                  <a:off x="6610680" y="937800"/>
                  <a:ext cx="1243080" cy="1316880"/>
                  <a:chOff x="6610680" y="937800"/>
                  <a:chExt cx="1243080" cy="1316880"/>
                </a:xfrm>
              </p:grpSpPr>
              <p:sp>
                <p:nvSpPr>
                  <p:cNvPr id="340" name="Freeform 91"/>
                  <p:cNvSpPr/>
                  <p:nvPr/>
                </p:nvSpPr>
                <p:spPr>
                  <a:xfrm flipH="1" rot="18360000">
                    <a:off x="7049520" y="1239120"/>
                    <a:ext cx="87876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92"/>
                  <p:cNvSpPr/>
                  <p:nvPr/>
                </p:nvSpPr>
                <p:spPr>
                  <a:xfrm flipH="1" rot="18360000">
                    <a:off x="6678720" y="1738080"/>
                    <a:ext cx="472320" cy="41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93"/>
                <p:cNvGrpSpPr/>
                <p:nvPr/>
              </p:nvGrpSpPr>
              <p:grpSpPr>
                <a:xfrm>
                  <a:off x="6943680" y="963720"/>
                  <a:ext cx="831240" cy="1320120"/>
                  <a:chOff x="6943680" y="963720"/>
                  <a:chExt cx="831240" cy="1320120"/>
                </a:xfrm>
              </p:grpSpPr>
              <p:sp>
                <p:nvSpPr>
                  <p:cNvPr id="343" name="Freeform 94"/>
                  <p:cNvSpPr/>
                  <p:nvPr/>
                </p:nvSpPr>
                <p:spPr>
                  <a:xfrm flipH="1" rot="17520000">
                    <a:off x="7083000" y="1272960"/>
                    <a:ext cx="8366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5"/>
                  <p:cNvSpPr/>
                  <p:nvPr/>
                </p:nvSpPr>
                <p:spPr>
                  <a:xfrm flipH="1" rot="17520000">
                    <a:off x="6984720" y="1804680"/>
                    <a:ext cx="45000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96"/>
                <p:cNvGrpSpPr/>
                <p:nvPr/>
              </p:nvGrpSpPr>
              <p:grpSpPr>
                <a:xfrm>
                  <a:off x="7273440" y="990000"/>
                  <a:ext cx="476280" cy="1256040"/>
                  <a:chOff x="7273440" y="990000"/>
                  <a:chExt cx="476280" cy="1256040"/>
                </a:xfrm>
              </p:grpSpPr>
              <p:sp>
                <p:nvSpPr>
                  <p:cNvPr id="346" name="Freeform 97"/>
                  <p:cNvSpPr/>
                  <p:nvPr/>
                </p:nvSpPr>
                <p:spPr>
                  <a:xfrm flipH="1" rot="16860000">
                    <a:off x="7170120" y="1299240"/>
                    <a:ext cx="8017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98"/>
                  <p:cNvSpPr/>
                  <p:nvPr/>
                </p:nvSpPr>
                <p:spPr>
                  <a:xfrm flipH="1" rot="16860000">
                    <a:off x="7259400" y="1840680"/>
                    <a:ext cx="42912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99"/>
                <p:cNvGrpSpPr/>
                <p:nvPr/>
              </p:nvGrpSpPr>
              <p:grpSpPr>
                <a:xfrm>
                  <a:off x="7558560" y="921960"/>
                  <a:ext cx="1288080" cy="1293840"/>
                  <a:chOff x="7558560" y="921960"/>
                  <a:chExt cx="1288080" cy="1293840"/>
                </a:xfrm>
              </p:grpSpPr>
              <p:sp>
                <p:nvSpPr>
                  <p:cNvPr id="349" name="Freeform 100"/>
                  <p:cNvSpPr/>
                  <p:nvPr/>
                </p:nvSpPr>
                <p:spPr>
                  <a:xfrm rot="3120000">
                    <a:off x="7494480" y="1214640"/>
                    <a:ext cx="8719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01"/>
                  <p:cNvSpPr/>
                  <p:nvPr/>
                </p:nvSpPr>
                <p:spPr>
                  <a:xfrm rot="3120000">
                    <a:off x="8305200" y="1695960"/>
                    <a:ext cx="46800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02"/>
                <p:cNvGrpSpPr/>
                <p:nvPr/>
              </p:nvGrpSpPr>
              <p:grpSpPr>
                <a:xfrm>
                  <a:off x="7600320" y="948240"/>
                  <a:ext cx="1002960" cy="1333800"/>
                  <a:chOff x="7600320" y="948240"/>
                  <a:chExt cx="1002960" cy="1333800"/>
                </a:xfrm>
              </p:grpSpPr>
              <p:sp>
                <p:nvSpPr>
                  <p:cNvPr id="352" name="Freeform 103"/>
                  <p:cNvSpPr/>
                  <p:nvPr/>
                </p:nvSpPr>
                <p:spPr>
                  <a:xfrm rot="3720000">
                    <a:off x="7482600" y="1260360"/>
                    <a:ext cx="857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04"/>
                  <p:cNvSpPr/>
                  <p:nvPr/>
                </p:nvSpPr>
                <p:spPr>
                  <a:xfrm rot="3720000">
                    <a:off x="8093160" y="1792440"/>
                    <a:ext cx="459720" cy="38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05"/>
                <p:cNvGrpSpPr/>
                <p:nvPr/>
              </p:nvGrpSpPr>
              <p:grpSpPr>
                <a:xfrm>
                  <a:off x="7626240" y="995400"/>
                  <a:ext cx="701640" cy="1289520"/>
                  <a:chOff x="7626240" y="995400"/>
                  <a:chExt cx="701640" cy="1289520"/>
                </a:xfrm>
              </p:grpSpPr>
              <p:sp>
                <p:nvSpPr>
                  <p:cNvPr id="355" name="Freeform 106"/>
                  <p:cNvSpPr/>
                  <p:nvPr/>
                </p:nvSpPr>
                <p:spPr>
                  <a:xfrm rot="4260000">
                    <a:off x="7440480" y="1320840"/>
                    <a:ext cx="833040" cy="20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07"/>
                  <p:cNvSpPr/>
                  <p:nvPr/>
                </p:nvSpPr>
                <p:spPr>
                  <a:xfrm rot="4260000">
                    <a:off x="7882920" y="1864800"/>
                    <a:ext cx="44604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08"/>
                <p:cNvGrpSpPr/>
                <p:nvPr/>
              </p:nvGrpSpPr>
              <p:grpSpPr>
                <a:xfrm>
                  <a:off x="7681320" y="1051200"/>
                  <a:ext cx="368280" cy="1180080"/>
                  <a:chOff x="7681320" y="1051200"/>
                  <a:chExt cx="368280" cy="1180080"/>
                </a:xfrm>
              </p:grpSpPr>
              <p:sp>
                <p:nvSpPr>
                  <p:cNvPr id="358" name="Freeform 109"/>
                  <p:cNvSpPr/>
                  <p:nvPr/>
                </p:nvSpPr>
                <p:spPr>
                  <a:xfrm rot="4920000">
                    <a:off x="7437600" y="1355760"/>
                    <a:ext cx="76752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10"/>
                  <p:cNvSpPr/>
                  <p:nvPr/>
                </p:nvSpPr>
                <p:spPr>
                  <a:xfrm rot="4920000">
                    <a:off x="7677720" y="1869480"/>
                    <a:ext cx="4114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Group 111"/>
                <p:cNvGrpSpPr/>
                <p:nvPr/>
              </p:nvGrpSpPr>
              <p:grpSpPr>
                <a:xfrm>
                  <a:off x="7480080" y="1074240"/>
                  <a:ext cx="333360" cy="1143720"/>
                  <a:chOff x="7480080" y="1074240"/>
                  <a:chExt cx="333360" cy="1143720"/>
                </a:xfrm>
              </p:grpSpPr>
              <p:sp>
                <p:nvSpPr>
                  <p:cNvPr id="361" name="Freeform 112"/>
                  <p:cNvSpPr/>
                  <p:nvPr/>
                </p:nvSpPr>
                <p:spPr>
                  <a:xfrm rot="5760000">
                    <a:off x="7342200" y="1389600"/>
                    <a:ext cx="743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113"/>
                  <p:cNvSpPr/>
                  <p:nvPr/>
                </p:nvSpPr>
                <p:spPr>
                  <a:xfrm rot="5760000">
                    <a:off x="7395840" y="1915560"/>
                    <a:ext cx="3981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3" name="Freeform 114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115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89000 w 2179440"/>
                  <a:gd name="textAreaRight" fmla="*/ 2179800 w 2179440"/>
                  <a:gd name="textAreaTop" fmla="*/ 42840 h 2405160"/>
                  <a:gd name="textAreaBottom" fmla="*/ 122400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16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120 w 1552680"/>
                  <a:gd name="textAreaRight" fmla="*/ 1459080 w 1552680"/>
                  <a:gd name="textAreaTop" fmla="*/ 104940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  <a:lnTo>
                      <a:pt x="10800" y="10800"/>
                    </a:lnTo>
                    <a:lnTo>
                      <a:pt x="20251" y="16025"/>
                    </a:lnTo>
                    <a:close/>
                  </a:path>
                  <a:path fill="none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17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600 w 955800"/>
                  <a:gd name="textAreaRight" fmla="*/ 955800 w 9558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118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30200 w 1465200"/>
                  <a:gd name="textAreaRight" fmla="*/ 1465560 w 1465200"/>
                  <a:gd name="textAreaTop" fmla="*/ 0 h 2395800"/>
                  <a:gd name="textAreaBottom" fmla="*/ 121932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6363" y="953"/>
                    </a:lnTo>
                    <a:close/>
                  </a:path>
                  <a:path fill="none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119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4280 w 1533600"/>
                  <a:gd name="textAreaRight" fmla="*/ 1533960 w 15336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AutoShape 120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520 w 243000"/>
                  <a:gd name="textAreaRight" fmla="*/ 243360 w 2430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AutoShape 121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12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22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720 w 911160"/>
                  <a:gd name="textAreaRight" fmla="*/ 911520 w 91116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23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24"/>
              <p:cNvSpPr/>
              <p:nvPr/>
            </p:nvSpPr>
            <p:spPr>
              <a:xfrm flipV="1" rot="19680000">
                <a:off x="761184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125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360 w 1538280"/>
                  <a:gd name="textAreaRight" fmla="*/ 1538280 w 153828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3185" y="3141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126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2640 w 1281240"/>
                  <a:gd name="textAreaTop" fmla="*/ 0 h 2363760"/>
                  <a:gd name="textAreaBottom" fmla="*/ 118116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  <a:lnTo>
                      <a:pt x="10800" y="10800"/>
                    </a:lnTo>
                    <a:lnTo>
                      <a:pt x="1684" y="5007"/>
                    </a:lnTo>
                    <a:close/>
                  </a:path>
                  <a:path fill="none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127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800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28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29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30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31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32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133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34"/>
              <p:cNvSpPr/>
              <p:nvPr/>
            </p:nvSpPr>
            <p:spPr>
              <a:xfrm rot="20220000">
                <a:off x="7986600" y="7840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135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37FDC3-9658-4E44-864A-6071975FD6FD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42DD2A-DCD3-4E56-BDCA-7A86B2696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F83011-D4D1-4C76-9391-AD0C9A23D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97243B-5148-4353-901C-8FD7F34710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B9F8FA-D5E5-47B6-A950-ADA34C06E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9C9AB2-AD77-4209-94D4-E90F54000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1895760" y="163800"/>
            <a:ext cx="7232040" cy="8093880"/>
            <a:chOff x="1895760" y="163800"/>
            <a:chExt cx="7232040" cy="8093880"/>
          </a:xfrm>
        </p:grpSpPr>
        <p:grpSp>
          <p:nvGrpSpPr>
            <p:cNvPr id="427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428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4"/>
              <p:cNvSpPr/>
              <p:nvPr/>
            </p:nvSpPr>
            <p:spPr>
              <a:xfrm>
                <a:off x="3822120" y="1262880"/>
                <a:ext cx="22824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"/>
            <p:cNvGrpSpPr/>
            <p:nvPr/>
          </p:nvGrpSpPr>
          <p:grpSpPr>
            <a:xfrm>
              <a:off x="1895760" y="163800"/>
              <a:ext cx="7232040" cy="7867440"/>
              <a:chOff x="1895760" y="163800"/>
              <a:chExt cx="7232040" cy="7867440"/>
            </a:xfrm>
          </p:grpSpPr>
          <p:grpSp>
            <p:nvGrpSpPr>
              <p:cNvPr id="431" name="Group 6"/>
              <p:cNvGrpSpPr/>
              <p:nvPr/>
            </p:nvGrpSpPr>
            <p:grpSpPr>
              <a:xfrm>
                <a:off x="1895760" y="163800"/>
                <a:ext cx="7118280" cy="5626800"/>
                <a:chOff x="1895760" y="163800"/>
                <a:chExt cx="7118280" cy="5626800"/>
              </a:xfrm>
            </p:grpSpPr>
            <p:grpSp>
              <p:nvGrpSpPr>
                <p:cNvPr id="43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43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9"/>
                  <p:cNvSpPr/>
                  <p:nvPr/>
                </p:nvSpPr>
                <p:spPr>
                  <a:xfrm>
                    <a:off x="5109480" y="2235960"/>
                    <a:ext cx="71388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"/>
                <p:cNvGrpSpPr/>
                <p:nvPr/>
              </p:nvGrpSpPr>
              <p:grpSpPr>
                <a:xfrm>
                  <a:off x="1895760" y="163800"/>
                  <a:ext cx="7118280" cy="5626800"/>
                  <a:chOff x="1895760" y="163800"/>
                  <a:chExt cx="7118280" cy="5626800"/>
                </a:xfrm>
              </p:grpSpPr>
              <p:grpSp>
                <p:nvGrpSpPr>
                  <p:cNvPr id="436" name="Group 11"/>
                  <p:cNvGrpSpPr/>
                  <p:nvPr/>
                </p:nvGrpSpPr>
                <p:grpSpPr>
                  <a:xfrm>
                    <a:off x="5137200" y="2395440"/>
                    <a:ext cx="3421080" cy="2859120"/>
                    <a:chOff x="5137200" y="2395440"/>
                    <a:chExt cx="3421080" cy="2859120"/>
                  </a:xfrm>
                </p:grpSpPr>
                <p:sp>
                  <p:nvSpPr>
                    <p:cNvPr id="437" name="Freeform 12"/>
                    <p:cNvSpPr/>
                    <p:nvPr/>
                  </p:nvSpPr>
                  <p:spPr>
                    <a:xfrm rot="2700000">
                      <a:off x="5063040" y="3020760"/>
                      <a:ext cx="2030760" cy="6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3"/>
                    <p:cNvSpPr/>
                    <p:nvPr/>
                  </p:nvSpPr>
                  <p:spPr>
                    <a:xfrm rot="2700000">
                      <a:off x="7277040" y="4019760"/>
                      <a:ext cx="1088640" cy="9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4"/>
                  <p:cNvGrpSpPr/>
                  <p:nvPr/>
                </p:nvGrpSpPr>
                <p:grpSpPr>
                  <a:xfrm>
                    <a:off x="5801760" y="1564560"/>
                    <a:ext cx="3212280" cy="3359880"/>
                    <a:chOff x="5801760" y="1564560"/>
                    <a:chExt cx="3212280" cy="3359880"/>
                  </a:xfrm>
                </p:grpSpPr>
                <p:sp>
                  <p:nvSpPr>
                    <p:cNvPr id="440" name="Freeform 15"/>
                    <p:cNvSpPr/>
                    <p:nvPr/>
                  </p:nvSpPr>
                  <p:spPr>
                    <a:xfrm rot="2100000">
                      <a:off x="5787720" y="2146680"/>
                      <a:ext cx="2237760" cy="65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6"/>
                    <p:cNvSpPr/>
                    <p:nvPr/>
                  </p:nvSpPr>
                  <p:spPr>
                    <a:xfrm rot="2100000">
                      <a:off x="7625160" y="3639600"/>
                      <a:ext cx="1200600" cy="103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7"/>
                  <p:cNvGrpSpPr/>
                  <p:nvPr/>
                </p:nvGrpSpPr>
                <p:grpSpPr>
                  <a:xfrm>
                    <a:off x="5762160" y="1618200"/>
                    <a:ext cx="3245040" cy="2645640"/>
                    <a:chOff x="5762160" y="1618200"/>
                    <a:chExt cx="3245040" cy="2645640"/>
                  </a:xfrm>
                </p:grpSpPr>
                <p:sp>
                  <p:nvSpPr>
                    <p:cNvPr id="443" name="Freeform 18"/>
                    <p:cNvSpPr/>
                    <p:nvPr/>
                  </p:nvSpPr>
                  <p:spPr>
                    <a:xfrm rot="1560000">
                      <a:off x="5776920" y="2064240"/>
                      <a:ext cx="2167560" cy="56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9"/>
                    <p:cNvSpPr/>
                    <p:nvPr/>
                  </p:nvSpPr>
                  <p:spPr>
                    <a:xfrm rot="1560000">
                      <a:off x="7706160" y="3162240"/>
                      <a:ext cx="1164240" cy="89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20"/>
                  <p:cNvGrpSpPr/>
                  <p:nvPr/>
                </p:nvGrpSpPr>
                <p:grpSpPr>
                  <a:xfrm>
                    <a:off x="5731560" y="1655280"/>
                    <a:ext cx="3281760" cy="2073600"/>
                    <a:chOff x="5731560" y="1655280"/>
                    <a:chExt cx="3281760" cy="2073600"/>
                  </a:xfrm>
                </p:grpSpPr>
                <p:sp>
                  <p:nvSpPr>
                    <p:cNvPr id="446" name="Freeform 21"/>
                    <p:cNvSpPr/>
                    <p:nvPr/>
                  </p:nvSpPr>
                  <p:spPr>
                    <a:xfrm rot="1080000">
                      <a:off x="5769000" y="1969200"/>
                      <a:ext cx="212364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7759080" y="2666160"/>
                      <a:ext cx="1141560" cy="90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23"/>
                  <p:cNvGrpSpPr/>
                  <p:nvPr/>
                </p:nvGrpSpPr>
                <p:grpSpPr>
                  <a:xfrm>
                    <a:off x="5781960" y="1746360"/>
                    <a:ext cx="3008160" cy="1200960"/>
                    <a:chOff x="5781960" y="1746360"/>
                    <a:chExt cx="3008160" cy="1200960"/>
                  </a:xfrm>
                </p:grpSpPr>
                <p:sp>
                  <p:nvSpPr>
                    <p:cNvPr id="449" name="Freeform 24"/>
                    <p:cNvSpPr/>
                    <p:nvPr/>
                  </p:nvSpPr>
                  <p:spPr>
                    <a:xfrm rot="480000">
                      <a:off x="5805360" y="1878840"/>
                      <a:ext cx="19386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25"/>
                    <p:cNvSpPr/>
                    <p:nvPr/>
                  </p:nvSpPr>
                  <p:spPr>
                    <a:xfrm rot="480000">
                      <a:off x="7701480" y="2133720"/>
                      <a:ext cx="1041840" cy="74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26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452" name="Freeform 27"/>
                    <p:cNvSpPr/>
                    <p:nvPr/>
                  </p:nvSpPr>
                  <p:spPr>
                    <a:xfrm rot="21480000">
                      <a:off x="5851440" y="1841400"/>
                      <a:ext cx="17334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28"/>
                    <p:cNvSpPr/>
                    <p:nvPr/>
                  </p:nvSpPr>
                  <p:spPr>
                    <a:xfrm rot="21480000">
                      <a:off x="7576560" y="1815480"/>
                      <a:ext cx="931680" cy="44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29"/>
                  <p:cNvGrpSpPr/>
                  <p:nvPr/>
                </p:nvGrpSpPr>
                <p:grpSpPr>
                  <a:xfrm>
                    <a:off x="5763240" y="1211400"/>
                    <a:ext cx="2449440" cy="1057680"/>
                    <a:chOff x="5763240" y="1211400"/>
                    <a:chExt cx="2449440" cy="1057680"/>
                  </a:xfrm>
                </p:grpSpPr>
                <p:sp>
                  <p:nvSpPr>
                    <p:cNvPr id="455" name="Freeform 30"/>
                    <p:cNvSpPr/>
                    <p:nvPr/>
                  </p:nvSpPr>
                  <p:spPr>
                    <a:xfrm rot="20760000">
                      <a:off x="5787720" y="1692720"/>
                      <a:ext cx="1551240" cy="39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31"/>
                    <p:cNvSpPr/>
                    <p:nvPr/>
                  </p:nvSpPr>
                  <p:spPr>
                    <a:xfrm rot="20760000">
                      <a:off x="7317360" y="1302480"/>
                      <a:ext cx="83232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32"/>
                  <p:cNvGrpSpPr/>
                  <p:nvPr/>
                </p:nvGrpSpPr>
                <p:grpSpPr>
                  <a:xfrm>
                    <a:off x="2407320" y="2545200"/>
                    <a:ext cx="3418560" cy="2859840"/>
                    <a:chOff x="2407320" y="2545200"/>
                    <a:chExt cx="3418560" cy="2859840"/>
                  </a:xfrm>
                </p:grpSpPr>
                <p:sp>
                  <p:nvSpPr>
                    <p:cNvPr id="458" name="Freeform 33"/>
                    <p:cNvSpPr/>
                    <p:nvPr/>
                  </p:nvSpPr>
                  <p:spPr>
                    <a:xfrm flipH="1" rot="18900000">
                      <a:off x="3870000" y="3169440"/>
                      <a:ext cx="2028960" cy="63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34"/>
                    <p:cNvSpPr/>
                    <p:nvPr/>
                  </p:nvSpPr>
                  <p:spPr>
                    <a:xfrm flipH="1" rot="18900000">
                      <a:off x="2600280" y="4167000"/>
                      <a:ext cx="1089360" cy="9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35"/>
                  <p:cNvGrpSpPr/>
                  <p:nvPr/>
                </p:nvGrpSpPr>
                <p:grpSpPr>
                  <a:xfrm>
                    <a:off x="1895760" y="1783800"/>
                    <a:ext cx="3214800" cy="3361320"/>
                    <a:chOff x="1895760" y="1783800"/>
                    <a:chExt cx="3214800" cy="3361320"/>
                  </a:xfrm>
                </p:grpSpPr>
                <p:sp>
                  <p:nvSpPr>
                    <p:cNvPr id="461" name="Freeform 36"/>
                    <p:cNvSpPr/>
                    <p:nvPr/>
                  </p:nvSpPr>
                  <p:spPr>
                    <a:xfrm flipH="1" rot="19500000">
                      <a:off x="2886120" y="2365920"/>
                      <a:ext cx="2237760" cy="65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37"/>
                    <p:cNvSpPr/>
                    <p:nvPr/>
                  </p:nvSpPr>
                  <p:spPr>
                    <a:xfrm flipH="1" rot="19500000">
                      <a:off x="2084040" y="3857760"/>
                      <a:ext cx="1202040" cy="10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38"/>
                  <p:cNvGrpSpPr/>
                  <p:nvPr/>
                </p:nvGrpSpPr>
                <p:grpSpPr>
                  <a:xfrm>
                    <a:off x="1904760" y="1835280"/>
                    <a:ext cx="3245040" cy="2646000"/>
                    <a:chOff x="1904760" y="1835280"/>
                    <a:chExt cx="3245040" cy="2646000"/>
                  </a:xfrm>
                </p:grpSpPr>
                <p:sp>
                  <p:nvSpPr>
                    <p:cNvPr id="464" name="Freeform 39"/>
                    <p:cNvSpPr/>
                    <p:nvPr/>
                  </p:nvSpPr>
                  <p:spPr>
                    <a:xfrm flipH="1" rot="20040000">
                      <a:off x="2965680" y="2281680"/>
                      <a:ext cx="2169000" cy="56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0"/>
                    <p:cNvSpPr/>
                    <p:nvPr/>
                  </p:nvSpPr>
                  <p:spPr>
                    <a:xfrm flipH="1" rot="20040000">
                      <a:off x="2040480" y="3380760"/>
                      <a:ext cx="1164240" cy="88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41"/>
                  <p:cNvGrpSpPr/>
                  <p:nvPr/>
                </p:nvGrpSpPr>
                <p:grpSpPr>
                  <a:xfrm>
                    <a:off x="1898640" y="1874160"/>
                    <a:ext cx="3281760" cy="2074320"/>
                    <a:chOff x="1898640" y="1874160"/>
                    <a:chExt cx="3281760" cy="2074320"/>
                  </a:xfrm>
                </p:grpSpPr>
                <p:sp>
                  <p:nvSpPr>
                    <p:cNvPr id="467" name="Freeform 42"/>
                    <p:cNvSpPr/>
                    <p:nvPr/>
                  </p:nvSpPr>
                  <p:spPr>
                    <a:xfrm flipH="1" rot="20520000">
                      <a:off x="3016800" y="2188080"/>
                      <a:ext cx="212544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2010960" y="2884320"/>
                      <a:ext cx="1141920" cy="9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4"/>
                  <p:cNvGrpSpPr/>
                  <p:nvPr/>
                </p:nvGrpSpPr>
                <p:grpSpPr>
                  <a:xfrm>
                    <a:off x="2118600" y="1965600"/>
                    <a:ext cx="3008520" cy="1200600"/>
                    <a:chOff x="2118600" y="1965600"/>
                    <a:chExt cx="3008520" cy="1200600"/>
                  </a:xfrm>
                </p:grpSpPr>
                <p:sp>
                  <p:nvSpPr>
                    <p:cNvPr id="470" name="Freeform 45"/>
                    <p:cNvSpPr/>
                    <p:nvPr/>
                  </p:nvSpPr>
                  <p:spPr>
                    <a:xfrm flipH="1" rot="21120000">
                      <a:off x="3166200" y="2098080"/>
                      <a:ext cx="1937160" cy="47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46"/>
                    <p:cNvSpPr/>
                    <p:nvPr/>
                  </p:nvSpPr>
                  <p:spPr>
                    <a:xfrm flipH="1" rot="21120000">
                      <a:off x="2165040" y="2352240"/>
                      <a:ext cx="1039680" cy="74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47"/>
                  <p:cNvGrpSpPr/>
                  <p:nvPr/>
                </p:nvGrpSpPr>
                <p:grpSpPr>
                  <a:xfrm>
                    <a:off x="2395800" y="2017080"/>
                    <a:ext cx="2669040" cy="475920"/>
                    <a:chOff x="2395800" y="2017080"/>
                    <a:chExt cx="2669040" cy="475920"/>
                  </a:xfrm>
                </p:grpSpPr>
                <p:sp>
                  <p:nvSpPr>
                    <p:cNvPr id="473" name="Freeform 48"/>
                    <p:cNvSpPr/>
                    <p:nvPr/>
                  </p:nvSpPr>
                  <p:spPr>
                    <a:xfrm flipH="1" rot="120000">
                      <a:off x="3323880" y="2057400"/>
                      <a:ext cx="173664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49"/>
                    <p:cNvSpPr/>
                    <p:nvPr/>
                  </p:nvSpPr>
                  <p:spPr>
                    <a:xfrm flipH="1" rot="120000">
                      <a:off x="2403000" y="2032920"/>
                      <a:ext cx="933480" cy="44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50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476" name="Freeform 51"/>
                    <p:cNvSpPr/>
                    <p:nvPr/>
                  </p:nvSpPr>
                  <p:spPr>
                    <a:xfrm flipH="1" rot="840000">
                      <a:off x="3572640" y="1911960"/>
                      <a:ext cx="154944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2"/>
                    <p:cNvSpPr/>
                    <p:nvPr/>
                  </p:nvSpPr>
                  <p:spPr>
                    <a:xfrm flipH="1" rot="840000">
                      <a:off x="2760480" y="1521720"/>
                      <a:ext cx="831600" cy="61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53"/>
                  <p:cNvGrpSpPr/>
                  <p:nvPr/>
                </p:nvGrpSpPr>
                <p:grpSpPr>
                  <a:xfrm>
                    <a:off x="2796840" y="1109520"/>
                    <a:ext cx="2438280" cy="1471680"/>
                    <a:chOff x="2796840" y="1109520"/>
                    <a:chExt cx="2438280" cy="1471680"/>
                  </a:xfrm>
                </p:grpSpPr>
                <p:sp>
                  <p:nvSpPr>
                    <p:cNvPr id="479" name="Freeform 54"/>
                    <p:cNvSpPr/>
                    <p:nvPr/>
                  </p:nvSpPr>
                  <p:spPr>
                    <a:xfrm flipH="1" rot="1260000">
                      <a:off x="3663360" y="1898280"/>
                      <a:ext cx="15472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5"/>
                    <p:cNvSpPr/>
                    <p:nvPr/>
                  </p:nvSpPr>
                  <p:spPr>
                    <a:xfrm flipH="1" rot="1260000">
                      <a:off x="2886840" y="1236240"/>
                      <a:ext cx="83016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56"/>
                  <p:cNvGrpSpPr/>
                  <p:nvPr/>
                </p:nvGrpSpPr>
                <p:grpSpPr>
                  <a:xfrm>
                    <a:off x="3038400" y="663480"/>
                    <a:ext cx="2282760" cy="2059200"/>
                    <a:chOff x="3038400" y="663480"/>
                    <a:chExt cx="2282760" cy="2059200"/>
                  </a:xfrm>
                </p:grpSpPr>
                <p:sp>
                  <p:nvSpPr>
                    <p:cNvPr id="482" name="Freeform 57"/>
                    <p:cNvSpPr/>
                    <p:nvPr/>
                  </p:nvSpPr>
                  <p:spPr>
                    <a:xfrm flipH="1" rot="2040000">
                      <a:off x="3815280" y="1900800"/>
                      <a:ext cx="1512720" cy="43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58"/>
                    <p:cNvSpPr/>
                    <p:nvPr/>
                  </p:nvSpPr>
                  <p:spPr>
                    <a:xfrm flipH="1" rot="2040000">
                      <a:off x="3160440" y="831600"/>
                      <a:ext cx="8114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59"/>
                  <p:cNvGrpSpPr/>
                  <p:nvPr/>
                </p:nvGrpSpPr>
                <p:grpSpPr>
                  <a:xfrm>
                    <a:off x="3307680" y="259200"/>
                    <a:ext cx="2056320" cy="2459880"/>
                    <a:chOff x="3307680" y="259200"/>
                    <a:chExt cx="2056320" cy="2459880"/>
                  </a:xfrm>
                </p:grpSpPr>
                <p:sp>
                  <p:nvSpPr>
                    <p:cNvPr id="485" name="Freeform 60"/>
                    <p:cNvSpPr/>
                    <p:nvPr/>
                  </p:nvSpPr>
                  <p:spPr>
                    <a:xfrm flipH="1" rot="2700000">
                      <a:off x="3956040" y="1824480"/>
                      <a:ext cx="1466640" cy="44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61"/>
                    <p:cNvSpPr/>
                    <p:nvPr/>
                  </p:nvSpPr>
                  <p:spPr>
                    <a:xfrm flipH="1" rot="2700000">
                      <a:off x="3436200" y="436320"/>
                      <a:ext cx="787680" cy="69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62"/>
                  <p:cNvGrpSpPr/>
                  <p:nvPr/>
                </p:nvGrpSpPr>
                <p:grpSpPr>
                  <a:xfrm>
                    <a:off x="3880080" y="222480"/>
                    <a:ext cx="1938600" cy="1998000"/>
                    <a:chOff x="3880080" y="222480"/>
                    <a:chExt cx="1938600" cy="1998000"/>
                  </a:xfrm>
                </p:grpSpPr>
                <p:sp>
                  <p:nvSpPr>
                    <p:cNvPr id="488" name="Freeform 63"/>
                    <p:cNvSpPr/>
                    <p:nvPr/>
                  </p:nvSpPr>
                  <p:spPr>
                    <a:xfrm flipH="1" rot="3480000">
                      <a:off x="4599720" y="1332360"/>
                      <a:ext cx="13701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64"/>
                    <p:cNvSpPr/>
                    <p:nvPr/>
                  </p:nvSpPr>
                  <p:spPr>
                    <a:xfrm flipH="1" rot="3480000">
                      <a:off x="3974400" y="385920"/>
                      <a:ext cx="736200" cy="63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65"/>
                  <p:cNvGrpSpPr/>
                  <p:nvPr/>
                </p:nvGrpSpPr>
                <p:grpSpPr>
                  <a:xfrm>
                    <a:off x="4338000" y="163800"/>
                    <a:ext cx="1458360" cy="2049120"/>
                    <a:chOff x="4338000" y="163800"/>
                    <a:chExt cx="1458360" cy="2049120"/>
                  </a:xfrm>
                </p:grpSpPr>
                <p:sp>
                  <p:nvSpPr>
                    <p:cNvPr id="491" name="Freeform 66"/>
                    <p:cNvSpPr/>
                    <p:nvPr/>
                  </p:nvSpPr>
                  <p:spPr>
                    <a:xfrm flipH="1" rot="4140000">
                      <a:off x="4704480" y="1326600"/>
                      <a:ext cx="134568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67"/>
                    <p:cNvSpPr/>
                    <p:nvPr/>
                  </p:nvSpPr>
                  <p:spPr>
                    <a:xfrm flipH="1" rot="4140000">
                      <a:off x="4383720" y="309960"/>
                      <a:ext cx="723240" cy="59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68"/>
                  <p:cNvGrpSpPr/>
                  <p:nvPr/>
                </p:nvGrpSpPr>
                <p:grpSpPr>
                  <a:xfrm>
                    <a:off x="5638680" y="820440"/>
                    <a:ext cx="2431080" cy="1514520"/>
                    <a:chOff x="5638680" y="820440"/>
                    <a:chExt cx="2431080" cy="1514520"/>
                  </a:xfrm>
                </p:grpSpPr>
                <p:sp>
                  <p:nvSpPr>
                    <p:cNvPr id="494" name="Freeform 69"/>
                    <p:cNvSpPr/>
                    <p:nvPr/>
                  </p:nvSpPr>
                  <p:spPr>
                    <a:xfrm rot="20280000">
                      <a:off x="5660640" y="1640880"/>
                      <a:ext cx="15476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70"/>
                    <p:cNvSpPr/>
                    <p:nvPr/>
                  </p:nvSpPr>
                  <p:spPr>
                    <a:xfrm rot="20280000">
                      <a:off x="7145280" y="951840"/>
                      <a:ext cx="83124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Group 71"/>
                  <p:cNvGrpSpPr/>
                  <p:nvPr/>
                </p:nvGrpSpPr>
                <p:grpSpPr>
                  <a:xfrm>
                    <a:off x="5529960" y="462240"/>
                    <a:ext cx="2315160" cy="1982520"/>
                    <a:chOff x="5529960" y="462240"/>
                    <a:chExt cx="2315160" cy="1982520"/>
                  </a:xfrm>
                </p:grpSpPr>
                <p:sp>
                  <p:nvSpPr>
                    <p:cNvPr id="497" name="Freeform 72"/>
                    <p:cNvSpPr/>
                    <p:nvPr/>
                  </p:nvSpPr>
                  <p:spPr>
                    <a:xfrm rot="19680000">
                      <a:off x="5529240" y="1640160"/>
                      <a:ext cx="1521360" cy="43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Freeform 73"/>
                    <p:cNvSpPr/>
                    <p:nvPr/>
                  </p:nvSpPr>
                  <p:spPr>
                    <a:xfrm rot="19680000">
                      <a:off x="6908760" y="626760"/>
                      <a:ext cx="81720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9" name="Freeform 74"/>
                  <p:cNvSpPr/>
                  <p:nvPr/>
                </p:nvSpPr>
                <p:spPr>
                  <a:xfrm flipH="1" rot="4560000">
                    <a:off x="4764960" y="1466280"/>
                    <a:ext cx="12664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75"/>
                  <p:cNvSpPr/>
                  <p:nvPr/>
                </p:nvSpPr>
                <p:spPr>
                  <a:xfrm flipH="1" rot="4560000">
                    <a:off x="4795560" y="53928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1" name="Group 76"/>
                  <p:cNvGrpSpPr/>
                  <p:nvPr/>
                </p:nvGrpSpPr>
                <p:grpSpPr>
                  <a:xfrm>
                    <a:off x="5082840" y="187200"/>
                    <a:ext cx="1596960" cy="1989360"/>
                    <a:chOff x="5082840" y="187200"/>
                    <a:chExt cx="1596960" cy="1989360"/>
                  </a:xfrm>
                </p:grpSpPr>
                <p:sp>
                  <p:nvSpPr>
                    <p:cNvPr id="502" name="Freeform 77"/>
                    <p:cNvSpPr/>
                    <p:nvPr/>
                  </p:nvSpPr>
                  <p:spPr>
                    <a:xfrm rot="17760000">
                      <a:off x="4864680" y="1332720"/>
                      <a:ext cx="1326600" cy="34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78"/>
                    <p:cNvSpPr/>
                    <p:nvPr/>
                  </p:nvSpPr>
                  <p:spPr>
                    <a:xfrm rot="17760000">
                      <a:off x="5925600" y="354600"/>
                      <a:ext cx="710640" cy="54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79"/>
                  <p:cNvGrpSpPr/>
                  <p:nvPr/>
                </p:nvGrpSpPr>
                <p:grpSpPr>
                  <a:xfrm>
                    <a:off x="4925520" y="222120"/>
                    <a:ext cx="2463840" cy="1936440"/>
                    <a:chOff x="4925520" y="222120"/>
                    <a:chExt cx="2463840" cy="1936440"/>
                  </a:xfrm>
                </p:grpSpPr>
                <p:sp>
                  <p:nvSpPr>
                    <p:cNvPr id="505" name="Freeform 80"/>
                    <p:cNvSpPr/>
                    <p:nvPr/>
                  </p:nvSpPr>
                  <p:spPr>
                    <a:xfrm rot="18840000">
                      <a:off x="4889880" y="1223280"/>
                      <a:ext cx="1415880" cy="50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81"/>
                    <p:cNvSpPr/>
                    <p:nvPr/>
                  </p:nvSpPr>
                  <p:spPr>
                    <a:xfrm rot="18840000">
                      <a:off x="6463440" y="375120"/>
                      <a:ext cx="759240" cy="78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82"/>
                  <p:cNvGrpSpPr/>
                  <p:nvPr/>
                </p:nvGrpSpPr>
                <p:grpSpPr>
                  <a:xfrm>
                    <a:off x="5376600" y="278280"/>
                    <a:ext cx="549360" cy="1810440"/>
                    <a:chOff x="5376600" y="278280"/>
                    <a:chExt cx="549360" cy="1810440"/>
                  </a:xfrm>
                </p:grpSpPr>
                <p:sp>
                  <p:nvSpPr>
                    <p:cNvPr id="508" name="Freeform 83"/>
                    <p:cNvSpPr/>
                    <p:nvPr/>
                  </p:nvSpPr>
                  <p:spPr>
                    <a:xfrm rot="16680000">
                      <a:off x="4943160" y="1418760"/>
                      <a:ext cx="117972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84"/>
                    <p:cNvSpPr/>
                    <p:nvPr/>
                  </p:nvSpPr>
                  <p:spPr>
                    <a:xfrm rot="16680000">
                      <a:off x="5448600" y="490680"/>
                      <a:ext cx="6336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85"/>
                  <p:cNvGrpSpPr/>
                  <p:nvPr/>
                </p:nvGrpSpPr>
                <p:grpSpPr>
                  <a:xfrm>
                    <a:off x="2823480" y="2546280"/>
                    <a:ext cx="2992680" cy="3167640"/>
                    <a:chOff x="2823480" y="2546280"/>
                    <a:chExt cx="2992680" cy="3167640"/>
                  </a:xfrm>
                </p:grpSpPr>
                <p:sp>
                  <p:nvSpPr>
                    <p:cNvPr id="511" name="Freeform 86"/>
                    <p:cNvSpPr/>
                    <p:nvPr/>
                  </p:nvSpPr>
                  <p:spPr>
                    <a:xfrm flipH="1" rot="18360000">
                      <a:off x="3884040" y="3270600"/>
                      <a:ext cx="211248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87"/>
                    <p:cNvSpPr/>
                    <p:nvPr/>
                  </p:nvSpPr>
                  <p:spPr>
                    <a:xfrm flipH="1" rot="18360000">
                      <a:off x="2991600" y="4467600"/>
                      <a:ext cx="1132560" cy="9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88"/>
                  <p:cNvGrpSpPr/>
                  <p:nvPr/>
                </p:nvGrpSpPr>
                <p:grpSpPr>
                  <a:xfrm>
                    <a:off x="3622680" y="2609280"/>
                    <a:ext cx="2004480" cy="3175200"/>
                    <a:chOff x="3622680" y="2609280"/>
                    <a:chExt cx="2004480" cy="3175200"/>
                  </a:xfrm>
                </p:grpSpPr>
                <p:sp>
                  <p:nvSpPr>
                    <p:cNvPr id="514" name="Freeform 89"/>
                    <p:cNvSpPr/>
                    <p:nvPr/>
                  </p:nvSpPr>
                  <p:spPr>
                    <a:xfrm flipH="1" rot="17520000">
                      <a:off x="3962880" y="3354120"/>
                      <a:ext cx="201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90"/>
                    <p:cNvSpPr/>
                    <p:nvPr/>
                  </p:nvSpPr>
                  <p:spPr>
                    <a:xfrm flipH="1" rot="17520000">
                      <a:off x="3723480" y="4632120"/>
                      <a:ext cx="1081080" cy="9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91"/>
                  <p:cNvGrpSpPr/>
                  <p:nvPr/>
                </p:nvGrpSpPr>
                <p:grpSpPr>
                  <a:xfrm>
                    <a:off x="4416840" y="2672640"/>
                    <a:ext cx="1142640" cy="3020400"/>
                    <a:chOff x="4416840" y="2672640"/>
                    <a:chExt cx="1142640" cy="3020400"/>
                  </a:xfrm>
                </p:grpSpPr>
                <p:sp>
                  <p:nvSpPr>
                    <p:cNvPr id="517" name="Freeform 92"/>
                    <p:cNvSpPr/>
                    <p:nvPr/>
                  </p:nvSpPr>
                  <p:spPr>
                    <a:xfrm flipH="1" rot="16860000">
                      <a:off x="4166640" y="3412800"/>
                      <a:ext cx="1923480" cy="50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93"/>
                    <p:cNvSpPr/>
                    <p:nvPr/>
                  </p:nvSpPr>
                  <p:spPr>
                    <a:xfrm flipH="1" rot="16860000">
                      <a:off x="4387680" y="4714920"/>
                      <a:ext cx="1031760" cy="79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94"/>
                  <p:cNvGrpSpPr/>
                  <p:nvPr/>
                </p:nvGrpSpPr>
                <p:grpSpPr>
                  <a:xfrm>
                    <a:off x="5099400" y="2510640"/>
                    <a:ext cx="3097800" cy="3109320"/>
                    <a:chOff x="5099400" y="2510640"/>
                    <a:chExt cx="3097800" cy="3109320"/>
                  </a:xfrm>
                </p:grpSpPr>
                <p:sp>
                  <p:nvSpPr>
                    <p:cNvPr id="520" name="Freeform 95"/>
                    <p:cNvSpPr/>
                    <p:nvPr/>
                  </p:nvSpPr>
                  <p:spPr>
                    <a:xfrm rot="3120000">
                      <a:off x="4944600" y="3215520"/>
                      <a:ext cx="209736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96"/>
                    <p:cNvSpPr/>
                    <p:nvPr/>
                  </p:nvSpPr>
                  <p:spPr>
                    <a:xfrm rot="3120000">
                      <a:off x="6897240" y="4374360"/>
                      <a:ext cx="1124640" cy="9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97"/>
                  <p:cNvGrpSpPr/>
                  <p:nvPr/>
                </p:nvGrpSpPr>
                <p:grpSpPr>
                  <a:xfrm>
                    <a:off x="5199480" y="2574000"/>
                    <a:ext cx="2409840" cy="3202920"/>
                    <a:chOff x="5199480" y="2574000"/>
                    <a:chExt cx="2409840" cy="3202920"/>
                  </a:xfrm>
                </p:grpSpPr>
                <p:sp>
                  <p:nvSpPr>
                    <p:cNvPr id="523" name="Freeform 98"/>
                    <p:cNvSpPr/>
                    <p:nvPr/>
                  </p:nvSpPr>
                  <p:spPr>
                    <a:xfrm rot="3720000">
                      <a:off x="4915440" y="3325320"/>
                      <a:ext cx="205992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99"/>
                    <p:cNvSpPr/>
                    <p:nvPr/>
                  </p:nvSpPr>
                  <p:spPr>
                    <a:xfrm rot="3720000">
                      <a:off x="6385680" y="4603320"/>
                      <a:ext cx="1104480" cy="9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00"/>
                  <p:cNvGrpSpPr/>
                  <p:nvPr/>
                </p:nvGrpSpPr>
                <p:grpSpPr>
                  <a:xfrm>
                    <a:off x="5263920" y="2685960"/>
                    <a:ext cx="1688400" cy="3104640"/>
                    <a:chOff x="5263920" y="2685960"/>
                    <a:chExt cx="1688400" cy="3104640"/>
                  </a:xfrm>
                </p:grpSpPr>
                <p:sp>
                  <p:nvSpPr>
                    <p:cNvPr id="526" name="Freeform 101"/>
                    <p:cNvSpPr/>
                    <p:nvPr/>
                  </p:nvSpPr>
                  <p:spPr>
                    <a:xfrm rot="4260000">
                      <a:off x="4818960" y="3467880"/>
                      <a:ext cx="2001960" cy="48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102"/>
                    <p:cNvSpPr/>
                    <p:nvPr/>
                  </p:nvSpPr>
                  <p:spPr>
                    <a:xfrm rot="4260000">
                      <a:off x="5878440" y="4775040"/>
                      <a:ext cx="1074240" cy="76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03"/>
                  <p:cNvGrpSpPr/>
                  <p:nvPr/>
                </p:nvGrpSpPr>
                <p:grpSpPr>
                  <a:xfrm>
                    <a:off x="5395320" y="2818800"/>
                    <a:ext cx="885960" cy="2837520"/>
                    <a:chOff x="5395320" y="2818800"/>
                    <a:chExt cx="885960" cy="2837520"/>
                  </a:xfrm>
                </p:grpSpPr>
                <p:sp>
                  <p:nvSpPr>
                    <p:cNvPr id="529" name="Freeform 104"/>
                    <p:cNvSpPr/>
                    <p:nvPr/>
                  </p:nvSpPr>
                  <p:spPr>
                    <a:xfrm rot="4920000">
                      <a:off x="4813200" y="3547080"/>
                      <a:ext cx="183996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05"/>
                    <p:cNvSpPr/>
                    <p:nvPr/>
                  </p:nvSpPr>
                  <p:spPr>
                    <a:xfrm rot="4920000">
                      <a:off x="5388840" y="4787640"/>
                      <a:ext cx="988200" cy="66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106"/>
                  <p:cNvGrpSpPr/>
                  <p:nvPr/>
                </p:nvGrpSpPr>
                <p:grpSpPr>
                  <a:xfrm>
                    <a:off x="4912200" y="2876400"/>
                    <a:ext cx="802080" cy="2746800"/>
                    <a:chOff x="4912200" y="2876400"/>
                    <a:chExt cx="802080" cy="2746800"/>
                  </a:xfrm>
                </p:grpSpPr>
                <p:sp>
                  <p:nvSpPr>
                    <p:cNvPr id="532" name="Freeform 107"/>
                    <p:cNvSpPr/>
                    <p:nvPr/>
                  </p:nvSpPr>
                  <p:spPr>
                    <a:xfrm rot="5760000">
                      <a:off x="4582440" y="3633120"/>
                      <a:ext cx="178560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108"/>
                    <p:cNvSpPr/>
                    <p:nvPr/>
                  </p:nvSpPr>
                  <p:spPr>
                    <a:xfrm rot="5760000">
                      <a:off x="4711320" y="4893120"/>
                      <a:ext cx="95832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4" name="Group 109"/>
              <p:cNvGrpSpPr/>
              <p:nvPr/>
            </p:nvGrpSpPr>
            <p:grpSpPr>
              <a:xfrm>
                <a:off x="2174400" y="682560"/>
                <a:ext cx="6953400" cy="7348680"/>
                <a:chOff x="2174400" y="682560"/>
                <a:chExt cx="6953400" cy="7348680"/>
              </a:xfrm>
            </p:grpSpPr>
            <p:grpSp>
              <p:nvGrpSpPr>
                <p:cNvPr id="535" name="Group 110"/>
                <p:cNvGrpSpPr/>
                <p:nvPr/>
              </p:nvGrpSpPr>
              <p:grpSpPr>
                <a:xfrm>
                  <a:off x="2174400" y="682560"/>
                  <a:ext cx="6953400" cy="7348680"/>
                  <a:chOff x="2174400" y="682560"/>
                  <a:chExt cx="6953400" cy="7348680"/>
                </a:xfrm>
              </p:grpSpPr>
              <p:sp>
                <p:nvSpPr>
                  <p:cNvPr id="536" name="AutoShape 111"/>
                  <p:cNvSpPr/>
                  <p:nvPr/>
                </p:nvSpPr>
                <p:spPr>
                  <a:xfrm flipV="1">
                    <a:off x="5400000" y="858600"/>
                    <a:ext cx="3727800" cy="5045040"/>
                  </a:xfrm>
                  <a:custGeom>
                    <a:avLst/>
                    <a:gdLst>
                      <a:gd name="textAreaLeft" fmla="*/ 340920 w 3727800"/>
                      <a:gd name="textAreaRight" fmla="*/ 3504240 w 3727800"/>
                      <a:gd name="textAreaTop" fmla="*/ 2522520 h 5045040"/>
                      <a:gd name="textAreaBottom" fmla="*/ 504540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  <a:lnTo>
                          <a:pt x="10800" y="10800"/>
                        </a:lnTo>
                        <a:lnTo>
                          <a:pt x="20251" y="16025"/>
                        </a:lnTo>
                        <a:close/>
                      </a:path>
                      <a:path fill="none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12"/>
                  <p:cNvSpPr/>
                  <p:nvPr/>
                </p:nvSpPr>
                <p:spPr>
                  <a:xfrm flipH="1">
                    <a:off x="2561040" y="2270160"/>
                    <a:ext cx="3516840" cy="5761080"/>
                  </a:xfrm>
                  <a:custGeom>
                    <a:avLst/>
                    <a:gdLst>
                      <a:gd name="textAreaLeft" fmla="*/ 1031400 w 3516840"/>
                      <a:gd name="textAreaRight" fmla="*/ 3517200 w 351684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6363" y="953"/>
                        </a:lnTo>
                        <a:close/>
                      </a:path>
                      <a:path fill="none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13"/>
                  <p:cNvSpPr/>
                  <p:nvPr/>
                </p:nvSpPr>
                <p:spPr>
                  <a:xfrm>
                    <a:off x="5385600" y="1752480"/>
                    <a:ext cx="2191680" cy="5761080"/>
                  </a:xfrm>
                  <a:custGeom>
                    <a:avLst/>
                    <a:gdLst>
                      <a:gd name="textAreaLeft" fmla="*/ 433080 w 2191680"/>
                      <a:gd name="textAreaRight" fmla="*/ 2192040 w 2191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114"/>
                  <p:cNvSpPr/>
                  <p:nvPr/>
                </p:nvSpPr>
                <p:spPr>
                  <a:xfrm flipH="1">
                    <a:off x="2174040" y="1298520"/>
                    <a:ext cx="3694680" cy="5761080"/>
                  </a:xfrm>
                  <a:custGeom>
                    <a:avLst/>
                    <a:gdLst>
                      <a:gd name="textAreaLeft" fmla="*/ 563400 w 3694680"/>
                      <a:gd name="textAreaRight" fmla="*/ 3695040 w 3694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3185" y="3141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utoShape 115"/>
                  <p:cNvSpPr/>
                  <p:nvPr/>
                </p:nvSpPr>
                <p:spPr>
                  <a:xfrm flipH="1">
                    <a:off x="2510280" y="682560"/>
                    <a:ext cx="3080520" cy="5681880"/>
                  </a:xfrm>
                  <a:custGeom>
                    <a:avLst/>
                    <a:gdLst>
                      <a:gd name="textAreaLeft" fmla="*/ 251640 w 3080520"/>
                      <a:gd name="textAreaRight" fmla="*/ 2532600 w 3080520"/>
                      <a:gd name="textAreaTop" fmla="*/ 0 h 5681880"/>
                      <a:gd name="textAreaBottom" fmla="*/ 284004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  <a:lnTo>
                          <a:pt x="10800" y="10800"/>
                        </a:lnTo>
                        <a:lnTo>
                          <a:pt x="1684" y="5007"/>
                        </a:lnTo>
                        <a:close/>
                      </a:path>
                      <a:path fill="none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utoShape 116"/>
                  <p:cNvSpPr/>
                  <p:nvPr/>
                </p:nvSpPr>
                <p:spPr>
                  <a:xfrm>
                    <a:off x="5231520" y="1874880"/>
                    <a:ext cx="1307880" cy="5681520"/>
                  </a:xfrm>
                  <a:custGeom>
                    <a:avLst/>
                    <a:gdLst>
                      <a:gd name="textAreaLeft" fmla="*/ 258480 w 1307880"/>
                      <a:gd name="textAreaRight" fmla="*/ 1201680 w 1307880"/>
                      <a:gd name="textAreaTop" fmla="*/ 0 h 5681520"/>
                      <a:gd name="textAreaBottom" fmla="*/ 284004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17"/>
                  <p:cNvSpPr/>
                  <p:nvPr/>
                </p:nvSpPr>
                <p:spPr>
                  <a:xfrm flipH="1">
                    <a:off x="4303080" y="836640"/>
                    <a:ext cx="51552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Freeform 118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119"/>
            <p:cNvGrpSpPr/>
            <p:nvPr/>
          </p:nvGrpSpPr>
          <p:grpSpPr>
            <a:xfrm>
              <a:off x="2343240" y="712800"/>
              <a:ext cx="6408360" cy="7544880"/>
              <a:chOff x="2343240" y="712800"/>
              <a:chExt cx="6408360" cy="7544880"/>
            </a:xfrm>
          </p:grpSpPr>
          <p:sp>
            <p:nvSpPr>
              <p:cNvPr id="545" name="Freeform 120"/>
              <p:cNvSpPr/>
              <p:nvPr/>
            </p:nvSpPr>
            <p:spPr>
              <a:xfrm flipH="1">
                <a:off x="4467960" y="323460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utoShape 121"/>
              <p:cNvSpPr/>
              <p:nvPr/>
            </p:nvSpPr>
            <p:spPr>
              <a:xfrm flipH="1">
                <a:off x="3384360" y="2475720"/>
                <a:ext cx="5230800" cy="5781960"/>
              </a:xfrm>
              <a:custGeom>
                <a:avLst/>
                <a:gdLst>
                  <a:gd name="textAreaLeft" fmla="*/ 2615760 w 5230800"/>
                  <a:gd name="textAreaRight" fmla="*/ 5231160 w 5230800"/>
                  <a:gd name="textAreaTop" fmla="*/ 102960 h 5781960"/>
                  <a:gd name="textAreaBottom" fmla="*/ 2944080 h 5781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utoShape 122"/>
              <p:cNvSpPr/>
              <p:nvPr/>
            </p:nvSpPr>
            <p:spPr>
              <a:xfrm flipH="1">
                <a:off x="3644640" y="2122200"/>
                <a:ext cx="2301120" cy="5761080"/>
              </a:xfrm>
              <a:custGeom>
                <a:avLst/>
                <a:gdLst>
                  <a:gd name="textAreaLeft" fmla="*/ 767880 w 2301120"/>
                  <a:gd name="textAreaRight" fmla="*/ 2301480 w 23011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AutoShape 123"/>
              <p:cNvSpPr/>
              <p:nvPr/>
            </p:nvSpPr>
            <p:spPr>
              <a:xfrm flipH="1">
                <a:off x="2343240" y="1736280"/>
                <a:ext cx="3683520" cy="5759640"/>
              </a:xfrm>
              <a:custGeom>
                <a:avLst/>
                <a:gdLst>
                  <a:gd name="textAreaLeft" fmla="*/ 754200 w 3683520"/>
                  <a:gd name="textAreaRight" fmla="*/ 3684240 w 3683520"/>
                  <a:gd name="textAreaTop" fmla="*/ 0 h 5759640"/>
                  <a:gd name="textAreaBottom" fmla="*/ 293292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AutoShape 124"/>
              <p:cNvSpPr/>
              <p:nvPr/>
            </p:nvSpPr>
            <p:spPr>
              <a:xfrm>
                <a:off x="5469840" y="2150640"/>
                <a:ext cx="585360" cy="5761080"/>
              </a:xfrm>
              <a:custGeom>
                <a:avLst/>
                <a:gdLst>
                  <a:gd name="textAreaLeft" fmla="*/ 115560 w 585360"/>
                  <a:gd name="textAreaRight" fmla="*/ 585720 w 58536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AutoShape 125"/>
              <p:cNvSpPr/>
              <p:nvPr/>
            </p:nvSpPr>
            <p:spPr>
              <a:xfrm>
                <a:off x="5404680" y="2136240"/>
                <a:ext cx="1542600" cy="5761440"/>
              </a:xfrm>
              <a:custGeom>
                <a:avLst/>
                <a:gdLst>
                  <a:gd name="textAreaLeft" fmla="*/ 304560 w 1542600"/>
                  <a:gd name="textAreaRight" fmla="*/ 1542960 w 1542600"/>
                  <a:gd name="textAreaTop" fmla="*/ 0 h 5761440"/>
                  <a:gd name="textAreaBottom" fmla="*/ 2932920 h 5761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26"/>
              <p:cNvSpPr/>
              <p:nvPr/>
            </p:nvSpPr>
            <p:spPr>
              <a:xfrm>
                <a:off x="6153480" y="354564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 flipV="1" rot="19680000">
                <a:off x="5223600" y="2946240"/>
                <a:ext cx="54432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H="1">
                <a:off x="2684880" y="3384000"/>
                <a:ext cx="133812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3316680" y="1398240"/>
                <a:ext cx="85860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>
                <a:off x="7510680" y="3107520"/>
                <a:ext cx="124092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6864840" y="2109600"/>
                <a:ext cx="187092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934680" y="712800"/>
                <a:ext cx="8172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 flipH="1" rot="1380000">
                <a:off x="4182120" y="2155320"/>
                <a:ext cx="54396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8FD7EB-B0E6-4478-BD47-6EBE7801E2AF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1C28-58A3-4172-87A8-10296B1B5D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E4D-B505-456E-8F4C-A082A50551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80D-B8C8-469E-8FFE-A3FB9743E4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050920" y="1236240"/>
            <a:ext cx="4894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d6d8c0"/>
                </a:solidFill>
                <a:latin typeface="Arial"/>
              </a:rPr>
              <a:t>Лекция на тему:</a:t>
            </a:r>
            <a:r>
              <a:rPr b="1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ubTitle"/>
          </p:nvPr>
        </p:nvSpPr>
        <p:spPr>
          <a:xfrm>
            <a:off x="250560" y="2420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игиенические основы планировки населенных мес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елитеб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жилищного фонд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ых зданий и сооружени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альных и промышленны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утригородские со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изводствен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промышленных предприятий и связанных с ними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бщения внешнего транспо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ей внегородского и пригородного со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178920" y="250560"/>
            <a:ext cx="8713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Производственная территория вклю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омышленная зона (промышленные предприятия, подъездные железнодорожные пути, улицы и дороги, обеспечивающие внутренние и внешние транспортные свя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учная и научно-производственная (учрежд. науки, высшие и сред. учебные заве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cc"/>
                </a:solidFill>
                <a:latin typeface="Arial"/>
              </a:rPr>
              <a:t>Основная структурная единица</a:t>
            </a:r>
            <a:r>
              <a:rPr b="1" lang="ru-RU" sz="3400" spc="-1" strike="noStrike">
                <a:solidFill>
                  <a:srgbClr val="ff33cc"/>
                </a:solidFill>
                <a:latin typeface="Arial"/>
              </a:rPr>
              <a:t> жилой застройки: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8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лой 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микрорайон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кро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кварталов) - площадь от 10 -60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ус обслуживания не менее &gt;500 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Границами микрорайона яв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гистральные или жилые ул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ез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шеходные пу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гиенические требования к застройке микрорайона предусматри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457200" y="1341360"/>
            <a:ext cx="8362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микроклимата, инсоляции и защиты от перегрева, аэрации или снижения подвижности воздуха на территории и в помещениях жилых и общественных з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у от транспортного шума, внутримикрорайонного загрязнения атмосферного воздуха выхлопными газами тран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ю полноценного обслуживания жителей учреждениями культурно-бытового назначения и коммунальными объек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устройство и озеленение терри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ализованное водоснабжение, канализацию и удаление бытовых от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57579b"/>
                </a:solidFill>
                <a:latin typeface="Times New Roman"/>
              </a:rPr>
              <a:t>Системы застройки кварталов</a:t>
            </a:r>
            <a:r>
              <a:rPr b="0" lang="ru-RU" sz="4000" spc="-1" strike="noStrike">
                <a:solidFill>
                  <a:srgbClr val="478a9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очна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дания параллельны друг дру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риметр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воры - колодц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(часть по периметру, часть зданий свободно, там где нужна защита от сильных вет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бод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труктура микрорайо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лотность застройки не &gt; 20 - 2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395280" y="128160"/>
            <a:ext cx="8291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 ПРОЕКТИРОВ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ОЙ ЗАСТРОЙ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ЕДУЕТ ПРЕДУСМАТРИВАТЬ РАЗМЕЩЕ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НЫХ ПЛОЩ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1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 дет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школьного и мл. 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ыха взрослого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3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ятия физкуль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4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з. ц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5.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янки автомоби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Times New Roman"/>
              </a:rPr>
              <a:t>Планировка улиц </a:t>
            </a:r>
            <a:br>
              <a:rPr sz="3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Шахмат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улицы расположены перпендикулярно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диа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направление улиц от центра к периферии и пересекаются меньшими кольцевыми ул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Требования к размещению производственной зоны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1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етом возможног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благоприятного влияния на условия жизн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2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нитарных разрывов между производственной и селитебной зо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с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3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устройство территории, обеспечение сбора, обеззараживания и удаление всех сточных вод, твердых от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зводственная зона должна располага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подветренной стороны по отношению к жилой застройке с учетом розы вет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льеф территории производственной зоны должен позволять организовать сток жидких от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Задание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1. Написать лекцию в тетрад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2. Разобрать лекцию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итарно-защитные зоны разрыва для промышленных предприятий с учетом клас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07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10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00м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1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5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Ландшафтно-рекреационная территория включа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178920" y="1933560"/>
            <a:ext cx="8713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леса, лесопарки, водоемы, парки, скв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пределения потребности селитебной зо-ны следует принимать укрупненные показа-те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 расчете на 1000 челове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городах средней этажности выделяется 1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ля застройки без земельных участков 2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астками при многоэтажной застройке 7 - 8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Times New Roman"/>
              </a:rPr>
              <a:t>Планировка сельских населенных мес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 основе планировки должн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жать те же принципы, что и в гор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Крупные сельские пункты строятся в настоящее врем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о типу микрорайо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  основу планировки сельских населенных пунктов положено: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ление террито-рии на жилую и производственн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ственный центр се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ельсовет, почта, клуб, магазин, стол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чебно-профилактическое учреж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ельская больница на окраине с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Ясли, сады, школ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ходятся ближе к жилой зеленой зоне села (в начале или конце села).                      Плотность застройки не должна превышать 5 - 6 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аю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акт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в виде жилых кварталов 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ней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истему застр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99"/>
                </a:solidFill>
                <a:latin typeface="Arial"/>
              </a:rPr>
              <a:t>Требования к размещению произво-дственной зо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 учетом возможного неблагоприятного влияния на условия жизни насе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санитарных разрывов между производственной и селитебной зоной посел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лагоустройство территории, обеспечение сбора, обезвреживания и удаления всех сточных вод, тверд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Размеры санитарно-защитной зоны с/х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рмы крупного рогатого скота и др. -3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ражи, ремонтные мастерские -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ады для хранения минеральных удобрений и ядохимикатов (до 20 т) -2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ельской населенной местност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лится территория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жил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зводст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щественный центр села (с/с, почта, клуб, магазин, столовая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мероприятия по оздоровлению окружающей среды в городе и с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очные-рациональное размещение промышленных и бытовых помещений по отношению к жилой зоне, с соблюдением разрывов санитарно-защитной з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ие и санитарно-технические мероприятия направлены на улавливание, очистку, переработку загрязняющих веществ, внедрение прогрессивных технологий, создание безотходных или малоотходного произ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ые основываются на санитарном законодатель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е это предусматривает 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комфортной жилой сре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Rectangle 2"/>
          <p:cNvSpPr/>
          <p:nvPr/>
        </p:nvSpPr>
        <p:spPr>
          <a:xfrm>
            <a:off x="60948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Гигиенические проблемы урб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Rectangle 3"/>
          <p:cNvSpPr/>
          <p:nvPr/>
        </p:nvSpPr>
        <p:spPr>
          <a:xfrm>
            <a:off x="622440" y="1844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рбанизация происходит от латинского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«урбанус» - город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исходит быстрый рост город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енности жителей, происходит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ок в города сельского насе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9"/>
          <p:cNvSpPr/>
          <p:nvPr/>
        </p:nvSpPr>
        <p:spPr>
          <a:xfrm>
            <a:off x="730080" y="40464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  <a:ea typeface="Arial Unicode MS"/>
              </a:rPr>
              <a:t>Воздушная среда на урбанизированных территория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Rectangle 10"/>
          <p:cNvSpPr/>
          <p:nvPr/>
        </p:nvSpPr>
        <p:spPr>
          <a:xfrm>
            <a:off x="68580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крупных городах создается новая эколог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реда с высокой концентрацией антропоген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ак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Изменяется естественная среда обитания, рит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изни, психоэмоциональный фон труда и б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Снижается интенсивность солнечной радиации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Выше среднегодовая температура воздуха на 1-2 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Чаще возникают туманы (не 10% выш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Неблагоприятное воздействие на здоровье на здоровье городских жите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ой поток информации, стрессовых воздей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я невротических состояний неврозов - так называемых «болезней цивилиз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оответствие социальных изменений с изменениями биологичес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альное благоустр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культуры и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получить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квалификационной мед. помо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роста промышленности и правильность расстановки кад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ланировка населенных мест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хватывает сложный комплекс пробл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являющихс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теорией и практикой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градостроитель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8569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 ни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оительно-инжене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рхитектурно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удож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нитарно-гигиенические пробл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Неблагоприятные условия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 (воздух, вода, поч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условий жизни насе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зменение город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вышение физической и психической нагру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состояния здоровья (повышение заболеваемости болезнями органов дыхания и инфекционной, рост хронической и сердечно-сосудистой заболеваем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ff66"/>
                </a:solidFill>
                <a:latin typeface="Arial Black"/>
              </a:rPr>
              <a:t>Благодарю, за внимание!</a:t>
            </a:r>
            <a:endParaRPr b="0" lang="en-US" sz="48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26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79280" y="85320"/>
            <a:ext cx="850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рриторию для строительст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овых или расширения существующих населенных пунктов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бираю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 учетом возможно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ционального размещения мест приложени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труда, проживания и отды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у территорий предшествуют изучение и анализ естественных услов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родно-климат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идролог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точников водоснаб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словия удаления сточных 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нитарного состояния окружающе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рганизации санитарных защитных з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личие резервных территор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зелен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ТРЕБОВАНИЯ К ТЕРРИТОРИИ ЗА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ьеф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покойный с уклоном      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рганиченно-пригодны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год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грунтов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лагоприятные территории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&lt; 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благоприятные территории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-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обо неблагоприятные территории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 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ичие источников водоснаб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 и организация удаления сточн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озможность организации санитарно-защит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озможность озел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7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личие резервных территор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гиенические санитарные и требования       при планировке населенных м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ор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нкциональное з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 вопросов охраны окружающей сре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орудование централизованного водоснабжения и кан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ние се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доровитель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чебно-профилактически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но-бытовых и спортивных объе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6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аточное озел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НИП 2.07.89 г.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ительные нормы и прави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Градостроительство, планировка и застройка городских и сельских поселе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рритория города подразделен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итеб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мунально-складскую – для размещения складов, гаражей и трамвайных и автобусны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его транспорта – для размещения транспортных сооружений, вокзалов, станций, портов, прист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 txBox="1"/>
          <p:nvPr/>
        </p:nvSpPr>
        <p:spPr>
          <a:xfrm>
            <a:off x="457200" y="404640"/>
            <a:ext cx="822816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о-рекреционную. (зона отдыха населения, пригородная зон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ке пригородной зоны организацию мест массового отдыха и мест лечебно-оздоровительного назначения следует предусматривать на удобных, здоровых и живописных территориях, а также учитывать потребности города в разных видах хозяйственного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пригородной зоны следует размещать: лесопарки, пригородные парки, санат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омники и другие виды зеленых нас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1" name="Picture 1" descr=""/>
          <p:cNvPicPr/>
          <p:nvPr/>
        </p:nvPicPr>
        <p:blipFill>
          <a:blip r:embed="rId1"/>
          <a:stretch/>
        </p:blipFill>
        <p:spPr>
          <a:xfrm>
            <a:off x="1967040" y="399960"/>
            <a:ext cx="5209920" cy="60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7:32Z</dcterms:created>
  <dc:creator>первый</dc:creator>
  <dc:description/>
  <dc:language>en-US</dc:language>
  <cp:lastModifiedBy>User</cp:lastModifiedBy>
  <cp:lastPrinted>2011-12-02T05:08:52Z</cp:lastPrinted>
  <dcterms:modified xsi:type="dcterms:W3CDTF">2021-12-05T11:09:38Z</dcterms:modified>
  <cp:revision>45</cp:revision>
  <dc:subject/>
  <dc:title>Лекция на тему:  </dc:title>
</cp:coreProperties>
</file>