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</p:sldMasterIdLst>
  <p:sldIdLst>
    <p:sldId id="256" r:id="rId56"/>
    <p:sldId id="257" r:id="rId57"/>
    <p:sldId id="258" r:id="rId58"/>
    <p:sldId id="259" r:id="rId59"/>
    <p:sldId id="260" r:id="rId60"/>
    <p:sldId id="261" r:id="rId61"/>
    <p:sldId id="262" r:id="rId62"/>
    <p:sldId id="263" r:id="rId63"/>
    <p:sldId id="264" r:id="rId64"/>
    <p:sldId id="265" r:id="rId65"/>
    <p:sldId id="266" r:id="rId66"/>
    <p:sldId id="267" r:id="rId67"/>
    <p:sldId id="268" r:id="rId68"/>
    <p:sldId id="269" r:id="rId69"/>
    <p:sldId id="270" r:id="rId70"/>
    <p:sldId id="271" r:id="rId71"/>
    <p:sldId id="272" r:id="rId72"/>
    <p:sldId id="273" r:id="rId73"/>
    <p:sldId id="274" r:id="rId74"/>
    <p:sldId id="275" r:id="rId75"/>
    <p:sldId id="276" r:id="rId76"/>
    <p:sldId id="277" r:id="rId77"/>
    <p:sldId id="278" r:id="rId78"/>
    <p:sldId id="279" r:id="rId79"/>
    <p:sldId id="280" r:id="rId80"/>
    <p:sldId id="281" r:id="rId81"/>
    <p:sldId id="282" r:id="rId82"/>
    <p:sldId id="283" r:id="rId83"/>
    <p:sldId id="284" r:id="rId84"/>
    <p:sldId id="285" r:id="rId85"/>
    <p:sldId id="286" r:id="rId8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" Target="slides/slide1.xml"/><Relationship Id="rId57" Type="http://schemas.openxmlformats.org/officeDocument/2006/relationships/slide" Target="slides/slide2.xml"/><Relationship Id="rId58" Type="http://schemas.openxmlformats.org/officeDocument/2006/relationships/slide" Target="slides/slide3.xml"/><Relationship Id="rId59" Type="http://schemas.openxmlformats.org/officeDocument/2006/relationships/slide" Target="slides/slide4.xml"/><Relationship Id="rId60" Type="http://schemas.openxmlformats.org/officeDocument/2006/relationships/slide" Target="slides/slide5.xml"/><Relationship Id="rId61" Type="http://schemas.openxmlformats.org/officeDocument/2006/relationships/slide" Target="slides/slide6.xml"/><Relationship Id="rId62" Type="http://schemas.openxmlformats.org/officeDocument/2006/relationships/slide" Target="slides/slide7.xml"/><Relationship Id="rId63" Type="http://schemas.openxmlformats.org/officeDocument/2006/relationships/slide" Target="slides/slide8.xml"/><Relationship Id="rId64" Type="http://schemas.openxmlformats.org/officeDocument/2006/relationships/slide" Target="slides/slide9.xml"/><Relationship Id="rId65" Type="http://schemas.openxmlformats.org/officeDocument/2006/relationships/slide" Target="slides/slide10.xml"/><Relationship Id="rId66" Type="http://schemas.openxmlformats.org/officeDocument/2006/relationships/slide" Target="slides/slide11.xml"/><Relationship Id="rId67" Type="http://schemas.openxmlformats.org/officeDocument/2006/relationships/slide" Target="slides/slide12.xml"/><Relationship Id="rId68" Type="http://schemas.openxmlformats.org/officeDocument/2006/relationships/slide" Target="slides/slide13.xml"/><Relationship Id="rId69" Type="http://schemas.openxmlformats.org/officeDocument/2006/relationships/slide" Target="slides/slide14.xml"/><Relationship Id="rId70" Type="http://schemas.openxmlformats.org/officeDocument/2006/relationships/slide" Target="slides/slide15.xml"/><Relationship Id="rId71" Type="http://schemas.openxmlformats.org/officeDocument/2006/relationships/slide" Target="slides/slide16.xml"/><Relationship Id="rId72" Type="http://schemas.openxmlformats.org/officeDocument/2006/relationships/slide" Target="slides/slide17.xml"/><Relationship Id="rId73" Type="http://schemas.openxmlformats.org/officeDocument/2006/relationships/slide" Target="slides/slide18.xml"/><Relationship Id="rId74" Type="http://schemas.openxmlformats.org/officeDocument/2006/relationships/slide" Target="slides/slide19.xml"/><Relationship Id="rId75" Type="http://schemas.openxmlformats.org/officeDocument/2006/relationships/slide" Target="slides/slide20.xml"/><Relationship Id="rId76" Type="http://schemas.openxmlformats.org/officeDocument/2006/relationships/slide" Target="slides/slide21.xml"/><Relationship Id="rId77" Type="http://schemas.openxmlformats.org/officeDocument/2006/relationships/slide" Target="slides/slide22.xml"/><Relationship Id="rId78" Type="http://schemas.openxmlformats.org/officeDocument/2006/relationships/slide" Target="slides/slide23.xml"/><Relationship Id="rId79" Type="http://schemas.openxmlformats.org/officeDocument/2006/relationships/slide" Target="slides/slide24.xml"/><Relationship Id="rId80" Type="http://schemas.openxmlformats.org/officeDocument/2006/relationships/slide" Target="slides/slide25.xml"/><Relationship Id="rId81" Type="http://schemas.openxmlformats.org/officeDocument/2006/relationships/slide" Target="slides/slide26.xml"/><Relationship Id="rId82" Type="http://schemas.openxmlformats.org/officeDocument/2006/relationships/slide" Target="slides/slide27.xml"/><Relationship Id="rId83" Type="http://schemas.openxmlformats.org/officeDocument/2006/relationships/slide" Target="slides/slide28.xml"/><Relationship Id="rId84" Type="http://schemas.openxmlformats.org/officeDocument/2006/relationships/slide" Target="slides/slide29.xml"/><Relationship Id="rId85" Type="http://schemas.openxmlformats.org/officeDocument/2006/relationships/slide" Target="slides/slide30.xml"/><Relationship Id="rId86" Type="http://schemas.openxmlformats.org/officeDocument/2006/relationships/slide" Target="slides/slide31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AC6-4488-45BB-9DE4-D8604979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D41-7FC0-42FA-9475-04AB334D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B4673-59CC-4D7C-BA78-1D1D5C70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32DFD-67A3-4459-B461-902B638A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2847B-A50E-416B-942D-9A07AB1C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A6ED6-994C-417C-A7BC-21F0ADF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4903E-8179-4580-A581-4DE2F908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506D5-7DAF-459C-B389-8C267A93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B115E-D3E9-49F1-9F74-0FE258DD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28854-3E0E-421E-9DBF-AC8E5F36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2A884-506C-4076-A985-F7BBC9B8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E2707-8423-45AB-8A3C-6C8AA710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8E2-96E6-4F53-81B0-D816673D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40CE1-C574-4791-96E9-4FDA2B49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53382-FFF1-466C-9282-4B1EFA0A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26532-E64E-4BDD-A825-C9CA17EF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76CC0-8C2A-470B-86F1-0942E3F5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4A6BA-95C3-4940-8C54-A009136F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B989D-D845-4C4D-9AF7-449D5C1C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65B58-797A-454C-B913-D7DE96C6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4DDAD-FCA4-49C6-8F98-D4B93539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9556A-4873-41DB-9E2F-DF37DB68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B9DFC-EE6F-4043-B3C0-EAF37D29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B61-1CE0-4A7F-9C84-2B400BC5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E936B-6AB7-48F8-B62E-62D6D1D0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0B964-0BC7-4BBE-BDB5-2102ED0C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26AEE-811C-4B92-A901-A3AEF914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C4346-B5B9-47D4-BFCC-381099F1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A0726-5A41-4D1E-B830-AD421146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46765-8810-431A-8722-3FD5D2E1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E6167-A799-4654-907D-0414DED0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C6DE5-4FC0-40CD-AAB5-D39F60D5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6818B-90C7-4FB6-B673-F54DE80B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C89FF-2C68-4C57-A519-A6338071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2B9F-09ED-4D29-B7B6-B4F9DB5C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DA24A-5E7E-45F6-9B25-E725EA0E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662A0-E8E1-49C3-B1B4-B65AF8BD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F538B-18F3-4C83-A252-4B55FCCC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F9C61-F5D2-43DC-A059-AB8E71CB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F6F62-1D5D-4915-966B-C78433A1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38815-F6DB-4B46-AC21-1276655D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3BB1D-91DB-43A5-8384-EDC49016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1D2AF-9E16-4132-AC82-A988359B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4DE60-9E22-43D1-BCA0-1B966BB7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58B70-3FFA-494E-9CAB-C79A6F81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808A-B318-4B49-A3F3-AB09B976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0EF11-4E08-4830-A183-BFD6BDD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6932C-20AA-4293-A85A-A53AD594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58198-8D74-4BFA-B50A-86F9AEF9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B8C39-03C1-4AF4-91DE-77481F74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BD557-91B9-475F-B25F-367CA116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79768-A18D-4712-8B15-AC28C575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4C29C-9E5A-4D3A-B5F5-ED2EE518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57A18-E382-439A-B80A-97ED0210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1225B-C08C-489F-A55A-136F2413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FBA4C-EC2F-4C25-B53A-9977A82B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30FB-7103-4D01-B5A6-DAE4AF3F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5FAF7-427A-4715-9CE9-D659E128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25982-7FBA-4E9F-A1A4-1EC00EC2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8D84C-47EE-401A-A0B8-CD20B203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FCA2D-8F5E-4F25-8E59-0346A89D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63BC4-0DEA-4843-B111-687DCEF9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2D08B-5DAA-4A5F-8853-D2B8FB2C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89B70-7CD0-4E60-A67A-97918123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B4A24-D4F4-4E9A-A6F6-6BB22313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EC152-501D-4843-B318-8B740161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2C762-6CF1-4F9B-849E-6D4D6C49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2962-D5CC-4F3B-9FB8-253295A8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0CE7C-0FBF-4A1F-87AB-22867168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2B515-4EAA-4B9F-A73A-302E94A9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F0AA6-AAFC-4D33-A121-84A65D86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9D88BF-A9E0-4B5C-B44E-D065C987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8AEA1-0EAB-4FD9-9D57-B0D5355A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B41F4-D08A-4C27-A1D1-DCC3E45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27A63-E084-4B35-AE22-B5CFEFDA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33EBC-6FAC-4D59-AD8E-ACF1B1F9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270FE-3D3C-49EE-9E89-2CC5C04D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A881E-8A3F-4E43-B647-3285867E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9A5D-3301-4899-A6EC-D97AE204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5B183-3EE5-4F2C-97AB-D6669FC5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24AD3-8686-4D19-B2D2-AAED3C5B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1A299-CC98-4906-9892-45B151E3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64293-1189-4311-8A03-633CC239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A761D-7DFF-4A75-9D7D-F28029BE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12BD6-4829-4C5D-9ECD-ACB785A3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ABC2F-0E83-42AA-8802-8473F5E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68356-0DEC-414A-8DE0-190CD966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4C429-30F9-4163-B33C-1B52A161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2A126-1213-4BE2-BE4B-29FD807A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34F2-2C1D-4558-92E5-01BCA2A0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71DD4-87E7-4029-AA73-DD914063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5E46C-E6BE-4263-8914-B33107E3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2F13A-D1F3-44C9-AE60-1A8AB67B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F323E-8722-457E-B7B8-AFC67306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A234A-978D-44B7-83BE-083A2FB8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FF7FD-CB9C-462D-9576-D1F87746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D1E9D-9AE4-4768-A886-F00FACB6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0BF1A-8A2F-4DFE-A0DC-A3D50E20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48295-8AF3-40AE-B929-39DE6A6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AAF54-7451-4107-8DCC-33F4C19A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9CD6-0A55-47FD-AB4E-9B84C18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F2B0C-6744-40BA-87D8-27B73504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AA87A-2516-46FB-BE56-09BFCE3D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527C1-BD6B-490A-8B6D-C804BC8E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190331-04A8-4766-BC55-BBE22BC0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48C173-6751-480B-9377-B7E0FAA5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6E0B7-8A44-4F04-86DA-9258C495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EFB82-34E2-4A59-910D-F470363E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94948-DBF9-43D3-81F6-471BBE77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A4FEB-AD67-4128-8ECB-47CCC01A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C994F-3406-46DE-861D-2B340118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900-DAB3-44B2-BAF0-EDE9E159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A439-40C5-4A30-997A-7B9B6403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783F11-A1F1-4D64-87C2-D856882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F030C4-D891-4A6A-817C-C150E7D3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28D24-B529-46CD-A50F-373B434C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8135B-DD67-4CA9-8FBC-D85A99BB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7EEC1F-6E23-4975-B054-3AAFA9E7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67B3B-3ABD-48F8-9C11-B57C6185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3B23C-995F-4606-A996-E2D3D5D3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C1265-3C12-4E04-8B2F-66498E3F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C9437B-0208-45D4-9225-A5CB987B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F5EDAF-6E28-475A-87C2-00172226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32D2-0235-4283-9838-4A84CE9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AB32E-63C0-4D2F-9AEA-1E6FDEB8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59787-40D3-415B-855A-99D689AD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68E01-458B-4BE2-880B-4C31779D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77C335-AD8D-47DF-9A4E-BCB99374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AE64F5-E000-4CC7-8138-ABF80DB8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B4DFB-C202-4099-A7F7-35680733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52A76-146E-4DA4-97BB-AC228CD7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14CCCE-9A37-494D-9D7A-443F3004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6173ED-9D6C-4B8F-9F6A-BC5FA114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A66552-13F4-43F9-A32E-F3AA079B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4D91-C5DC-4264-8B31-3AA75A40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FCD16-AD71-4EC2-A966-E4AA1367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B7F58D-09B5-4305-A47F-62A22CAE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28551-0952-4553-B7F0-CC66316E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E229FC-9F0B-4A70-871C-D1A1C117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43BF54-5E2B-41E6-BBE5-2747500A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A2AF40-64FB-40B9-9C3F-E9344E5B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7864E-B800-4F38-ADB6-42E27E32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1F0853-9859-47D4-B8A8-68B8EFF5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4B0DC5-BE66-43C1-98D9-051AD404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150F08-FC7E-46B5-97E9-8A7C155B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71E6-5773-44EE-BA13-513BDB33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13C04-CACE-495F-B2BA-CDD4A230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974945-D1FF-4DC0-B70D-70246EF2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86335-E1D7-4A54-BB09-BE3F79AA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6A8EB4-9FF2-47AE-AAA5-E3237E25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D6129B-46FD-4812-B4D1-91436AD2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BC91A-A6E7-473C-9396-173B85BB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AE4CA1-4587-4F56-89BD-EAEA8690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ADAF25-FED3-4FEC-A53E-0DA4EDAA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A6BA12-0A62-4CBC-B42B-70756B59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259267-66A5-4017-9681-F9D7BF91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2148-4A04-4970-95B6-412ADDE4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21BDC3-84E9-4ED0-AD83-8AB88E58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66DBEE-6EB4-4BDE-A210-2B84A324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F56B15-AE3E-4D07-8CDB-8139B85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3CFFF3-ED14-4619-8462-BAA357A6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0803B8-E5A5-4131-A5C7-9A69D2B5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9A8265-CEE3-423B-9D42-B6A2A7E3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9C5806-0B22-41EB-AADC-CE134D4D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67B75-8A9C-43BF-80C5-8943DADD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0A3AB1-CB4E-48EC-A8EF-B0B89EAE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B1BC1-FE63-4D3A-B13D-48723B75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1342-0A10-4341-A9F5-5B9CBCA9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99210D-2155-4EA2-B3E1-FF711170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4F5CF-544D-4365-B92D-F4F2F4F5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8D95A2-FA7B-4547-ADEA-F2580C39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74CC02-9FF4-4901-8C7B-CD275881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5BE9F2-CE63-440C-8FDF-8871D16C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35D1D5-66F7-494A-83B2-0B617781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6EC2E4-8A77-49DB-BA3B-7A8AF4C8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0AC98B-7388-4860-97F7-6348D10A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4C0CE5-D633-492F-8F56-71365185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5DD4D5-518F-4C2E-8D21-1B2D46BD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D238-C3C1-484D-8FDA-62F93481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7E1FE7-8C48-4CB5-9FFD-85FC6D30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023D44-B34B-4E0B-AB32-6121D16D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431326-76D2-43B7-A1A5-B6E129F9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4AA8CF-BBBC-42FD-B2AF-EFD47A1D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BDC368-B21D-416B-A629-94BA8E71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5BCA08-EF81-4EC4-93C0-F69B0C61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2E61FA-1407-477E-945A-79CF31E4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60E6D8-EAB9-4768-9858-608C8838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D9470E-C618-4582-81F8-8B8E906E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BE6AFA-A09A-4A1F-A261-166B6851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DA51-8FB4-429A-BA8D-F19D7F6E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BC8761-2210-49D1-B155-2F4C2803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03C2EB-E3A8-4666-897A-CE754DD9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3C1B9E-D138-48E1-83A2-287752A9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584708-386C-4C60-9ACA-00778F7D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729F92-BF9C-4049-A177-DBA7BB97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24F0BC-1C7A-40E0-A3F4-E6F872A9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D5D82A-D2F0-4EAE-B4F4-820D0747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4688D7-74DD-4600-990C-35CCFC24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430B8C-5F62-4934-9438-39E3C382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818F69-8E9F-45A4-9BF5-495C47C8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B271-0C51-4105-BA19-24A364C0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588CCB-5CFD-4810-BED3-75B32DFA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71DEDE-93A2-4761-B199-9639FCAB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AF227E-9CFC-42A9-9B06-60699A98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AB577B-DBBA-4090-97BD-C61101C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DF7C87-3B58-4C42-9BC7-76E16286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08D1BD-E80B-405F-8D79-77F2C62D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A4359D-2B36-4018-B0A9-C9C67D4E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86FC9D-B894-4513-84CA-B7221B68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67A152-6469-413A-89FB-EF4B8DD4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01A822-E6E1-489D-81B0-C338C702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B3DE-D77B-4551-88CE-239E34BB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12B548-1C4E-40E9-83AF-78CE4680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E54038-A63F-4683-8AA8-AE3C3A12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17B935-6E16-46DC-9532-246FBE00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1EBA0A-5B4E-483A-8757-19DF3727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68DE8F-F9CC-4C6E-90B2-819404F2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27C974-6653-4399-90D9-C5758705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A33985-D863-48D5-A99B-51F1BC85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23518D-71EC-4CEE-BA81-DC2F4080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888B4D-0EE5-40FB-9C39-F432A2DC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5B41A8-91EB-48FF-B119-5C271414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8C9-D769-4BA8-8B53-498A1C26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0171-BFA7-4996-9CF0-6431D5F3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194041-8D97-4E01-98B1-9DA779BF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26AB35-F1C7-4D80-99D6-9BF43486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E5B47B-2E6F-444D-9932-2A4F678B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7567CC-244B-4997-87A6-B462A9E6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7446D0-A2F9-45F7-93D5-E9DFE669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606404-D7AE-4C95-BCE7-4A85649F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BC42A4-B597-42F1-944A-D062169A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EC1D56-E590-45CE-B4D2-98FAC180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00E46C-3FA5-449F-8D0C-5F84D31C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0A8DE4-2CCA-46F9-8267-90B1BEE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C2C7-9771-4623-A897-DAB8AC63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A7B62A-2F98-4F78-920D-0B7E51C1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5AD652-D858-4A4E-B3D4-5632BA02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77E487-52E5-46F7-B1C5-80E0A3A8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7F24E5-F282-4BC2-A6A0-9A5263A1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0F53B6-94B6-4EE3-B077-336CDA7E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8B68D3-D781-4C76-BBCA-79F688C3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7C75ED-42BE-471F-8209-44B94D4B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3EE4BB-A1A8-4493-AFAA-3072E39A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3AADF2-8D43-4754-921D-5122966F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F0199A-7313-4603-B590-9E9B221A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FE25-C09D-4A62-8E4D-1831D54D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227174-A25A-463F-A652-6EAFAE8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5E4480-4EB4-46DC-B48E-FF907BD2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D772B0-632B-449A-B6A5-A8BC73FF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5DB1C7-F9E0-47CD-BB9E-014C88CB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89CF20-42CA-4523-80E2-BD23738E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665FFC-F9A2-4A40-8C70-83165642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A57DC1-161F-493B-A77D-0CAB1B87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F35092-1BAC-4052-B9D5-15800E2C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534979-3C04-4051-9020-1C38CA89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D35079-155C-4986-A2B5-C96DF8F4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E67F0-5EFA-4341-B33E-3BF1E44A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36E6A6-51EC-4618-87F2-4B845D7E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00FF7A-D428-49BD-B67E-4094A655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1BBFE3-0AD7-4926-9CBA-6ADE59B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9AE38B-BF14-4523-A395-05C63B1E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8B90B7-00F2-4C93-83E3-BC6187DD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D6413B-27A8-4201-9137-49A45828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00A7E3-39B9-4858-8BB5-AF64552A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53915F-30B4-40C3-BAA0-4FA10080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40C8ED-AD60-4B9D-B381-D208B943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932A7F-E7A1-4581-BF4D-52022CD0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5B07-5EA9-4541-B363-AF119395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D45C8A-7AAB-48BE-A3CB-543CB0DA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72596F-5AF1-4F4F-AADB-00AA4EFA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C031FA-A043-4E4B-9E00-EBF93277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77FAFF-52EC-4BB3-8B30-7BAC4FBA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2ECF55-1237-4B66-978A-52062293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CA180D-6AB9-4527-95A6-2E6D8EB0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747D31-0AFD-45B6-ACAB-CFE6BBDC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4304B9-EDC6-4BAC-A200-2D3B0731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1F06DD-0BEC-43D1-91C9-CE2E529B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C3820A-F95F-4E33-9DA7-834FB95F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8EAF-47D4-4D18-9F02-4D3DB178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5D5A0F-90C6-4C36-A8C8-0921DCFB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DF0FAD-3B44-48B1-AF8C-750D8D46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25BFA8-63AD-4483-A469-75DF4EF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48B95A-3636-4899-AD3E-28BAF6CF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B1021F-7025-4DC9-BD5F-0E16670D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A45930-62E5-476A-8B18-2B2E0DCF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8A1729-530B-4F5C-B218-511C8BB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F14450-67E9-467D-B637-4E093006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34DE9A-5B5F-4105-8F0A-F6C7926F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4B57EA-E0ED-4530-B8D7-B5FD8194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733A-EA95-4CBA-843A-4816940D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6B6267-446B-41E7-A6D4-F4DBA5A5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CF604F6-40A0-4529-8708-B608E2F0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D81B78-2693-46C4-85C3-EFC905A9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C1017A-A5A7-48C9-A256-C4048348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E6BD8C-A6DA-4676-9321-7BC91C1A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ACDBC7-B0C3-42A6-8D07-E852B336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748A54-9E8C-47A4-901B-8F4EE1CF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ACCD03-2A00-435A-9BE6-4F23B033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A11D2E-5FAC-45A9-ABCB-0C245012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C1305C-D69D-43D8-9D89-2EC9ACA1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974C-0012-4C40-8BB8-71E1FDAB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EC699A-BEC1-4CC0-AB74-2AB04F5D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CD3E0D-7208-40A6-9C15-A73E213C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89F803-D24C-4810-A323-F0DECD6C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114D0D-C8D8-44AB-BF03-FFA87741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E912D2-DD2E-4057-AAD0-CBC4AA0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A98B8F-2F26-4CAA-AB90-10C9CD3B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C75924-FE7D-4146-8D5F-F6E2EB9F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7171F1-9F8A-4137-9730-5DE1E8B4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8D9236-DFCF-4D3E-9DD8-D82AB2DB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EB99C3-C5BA-4043-887C-62CA01FA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5E6B3-E96D-474E-91BD-C253F7BA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E938A3-5A1E-407A-B597-393F1B50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DF4F6C-F69D-4142-8A27-6878824B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34E862-3A37-4432-9A94-3025AAE7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50A2A8-660A-4DDE-BDC3-52282314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A46F42-2B4D-48E3-8270-C19F3DAD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FB0141-0BBD-45B0-8C61-06DC34C1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D80BE7-D399-400A-8336-DD7EC0B5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5CBF89-A7DF-4099-9325-94DA2AEB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E27BB5-0902-45FE-85C8-E339C133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AA3FB2-EF2D-4EB2-9B47-AA111961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29DCC-0C49-4854-A901-84FE5FFB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844AAC-8A6C-4F1B-B665-34AFB817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34FC80-F1E0-4E02-BEF1-9051F27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E51F51-9672-4E6F-A7A8-E2415B08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D47DFC-2D4F-4F7B-AC8A-BA6C54D8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A3A8DA-F2EA-468D-9711-12861FDA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9A14C6-AC7D-4C28-94C1-01AFE2BB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C9226A-9F13-493A-9D13-81ED6FDE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4E68AB-8FF3-4E24-8C9D-D28C52A9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18E825-6C69-4607-B6D8-7DE7462B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16AA52-B92A-4ECA-900A-3FDCF3F7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E94-5D36-4573-A894-1E89C1D8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4B1AF-E129-4DC7-BC40-9E10E7A1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2F394A-01E7-4B03-AF42-E5D3F188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DB8740-FF93-4FAB-A16A-CF83F057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E78C95-6004-40FD-BA18-34D76603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698430-896D-477D-8CDC-1BED43DB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B5492A-9B80-48FD-88C7-71B62A26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F57CB6-B732-4351-9D25-8613CC24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D9DA28-F6F3-4BD7-8635-77E9B144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34A828-3DDA-4DAE-8C53-373DCFCC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4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3150AF-B6C2-44C3-93D6-8B931AF7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E9C1BD-CC9B-43B1-9A52-C4A98A42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7C94A-8D71-4C65-A79D-D0678774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191735-C2E6-4C64-8D0C-908904DC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3E67FB-BA19-4569-87C3-4F940F52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38A536-10F4-4E31-982F-73753E62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77C5E2-E4EC-46C5-A3C6-172CD061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63DFC4-4A0D-4D85-A78C-788E0CC9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55F998-7D58-470E-8408-647BADFF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5A75A3-AA6C-4B29-86E8-FB006C6F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459B03-55AF-46C4-9266-ABE7310F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E70FEB-9DCA-4201-958D-3FC697D9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54C1BCE-89AF-4C8C-897C-ED9F17B9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BCEE2-DE84-4F39-AF48-4C698AE9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C50415-2F97-41C7-8F21-53A5E872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17CADD-5400-4608-89A0-E1A5A18D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145E27-012D-4682-AF60-C5BDBB92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52D2EE-A9DF-46C9-8DDA-82B407D3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64B532-0BCB-42C4-B341-5A024215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DD9D48-75D4-4FAD-8177-CFF7872B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BAFD4D-2DE1-41C3-B1A0-AB59035E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F851A5-387E-4D9C-A26D-82EF5A3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4445E6-2B75-4994-9675-85AC6FAF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5270E0-E8FF-4DAE-B901-2938A24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09F7B-4ECF-4D1B-8A7A-14773422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FAFF68-B3C9-42AB-AAF2-ACFFDD22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4D67B6-BC97-476F-A53A-95CB70B3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53D705-12C3-4D72-8DDC-F05BA1D2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80AA09-F452-402C-9CAD-639C01EC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768139-CEF9-40CE-BF67-41FECA4A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56E5CA-CE41-4723-BA4F-E24791FA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4AE5B6-2D4C-4810-B7A3-EB97CE76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536CA4-C160-42D0-8435-98B22C03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0F7DBC-B0FB-4393-BA88-D326E0E9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7DFC49-B4D6-495E-BA84-85D7151C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97936-7F13-4AEC-BCEF-C54C6610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102462-63E2-48C2-BDB6-0B411BD1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B5AC6B-F7EC-4AC8-AAF0-89934C41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083820-E023-43DE-86DE-852EBB98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C556BE-D03A-4111-B473-C749BD57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37D857C-3E88-44C8-8810-5FD45D09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825249-EC04-41E4-B266-11E5E373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9A6635-7A86-4CAA-A5D3-E912378C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0969AC-96E3-4FBF-A237-CAB9384B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FB56AB-4F24-4666-8FD6-FD78A081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A229D4-587A-4AEB-8BF4-ADFA932D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02094-A8FC-4155-9C83-F7A8FE25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13C0E8-7F72-47C3-B554-62BCDF5E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4FD268-1330-440F-BA8A-A1B1D903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A6BA14-125D-4FC1-AF3F-D040C12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24E8821-468B-4389-9718-C985F03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AA4570-E0EC-4006-8058-40190699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820AAA-169D-49E5-B6A4-542D4B93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0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1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7960F0-2815-4F79-8717-5FAFF1D2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F06F2B2-B20A-48BD-A5F6-4D9F3D25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1EAC8F7-E443-4298-ACC4-5D3FAB90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B6E6E95-6BB3-419C-9A8C-2AD2A537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46B6B-8E88-413C-B975-934248B4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5A4B8D-C39A-4E79-96F6-1F7EB5B9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D2C311-A661-4622-96E5-F9CE5819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DF9AB85-0A0E-4852-8202-CFAB8B1F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BE00CD-1EE8-40DA-A532-A7562D15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E128C1-66B9-44F2-8769-FCD94DAA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B2A403-5C80-4630-94C4-B80C0A6D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527E3C-9CD6-4E0D-B0CB-E621136C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4702F6-6FDD-49C8-AB44-D9872718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EBF882-2B67-46E1-9489-138561DC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33D1AC-B7F2-45C3-A959-0406F937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5830-01B0-4DFE-80D5-BCD5C04D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D49A7C-EC0F-474C-BB4B-4AD26462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8B77C5-2A31-4CBE-864E-53768F34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BA7A6F-B6CB-4CEC-8D3C-F619F7C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6E90295-F99C-4ADE-9DB9-1F483205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986E5CB-59C8-4E6A-92E6-EDA92545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FB716B5-0B85-40EF-AAFC-ACF9621D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540A4D8-0859-4010-B913-8A1A3436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AD06E2-5F0E-4566-BC10-64160EC4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4341E72-B13E-4062-B022-49A4F4C4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B79CF5-BD59-49E4-B120-13EBF456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1125-DBF9-42DE-9529-1548ED19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70D7F41-E1DF-4667-8205-405F71F6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E8D04AA-FF4F-4C6C-B90F-98605CEC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595AEE-B106-4028-ADAA-BE0DC939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AD5F29-9AFB-4899-9DA7-390D0675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53C4A6-3473-4AC3-9204-A18E1197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2945857-6861-4176-B1ED-79F5C222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4CFB15D-D087-4F09-A5FF-4AB3D8D4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36F7363-19E3-4099-B355-8FA6DC9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F4109F-305F-48B0-A6AA-07080D0C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AC56BF-54D0-471C-AA12-4D3840DC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5298B-1A54-491D-9027-8E25135D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179020-8F66-440F-817F-49D9D36D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236C525-D031-454D-8DF9-F30D449E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EFE9C9-3A20-4B4F-9172-0EC3E006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AA7209-1A2B-444A-BE08-C8153166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F39AC74-4CC8-4F2B-AF26-594787FD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22AD679-00A3-4FFC-9541-9FD86F06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EEF3429-24D3-4855-A1E6-064D2653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1E7A22-8D61-4F93-823A-D7EBD401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2AA888-EDC9-496C-8664-6764C172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374C59-7759-48BB-9ACD-EB4337E8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85F-E076-4DEA-9BC4-C47A55A2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9998E-D3AD-42A8-BF24-AF7FC705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361E20-D0EF-4D51-BC1C-5BCCCDDF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A6E8BFB-6404-4B13-8DFF-7D9188CB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C4EC689-6D57-48F5-A5E7-896BE8B5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6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0F5A36B-50C1-4633-A987-26249175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7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80D70A-0083-4B0B-91DD-455D1F65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8306B51-65BC-4A7E-80D3-AD74B988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A4D7F3-939B-4EAF-8B23-DD71AAA4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8673666-CD40-449F-8D14-698E7031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C0C12F-3705-4018-89E8-5DD2ED36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2B6699D-D6BB-4D01-BB15-7F04E25F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E1FCE-AE0C-4C11-A2ED-583CF936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FFED26-5481-49AF-9C6D-6D728EAF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661BD2-CE5E-49DC-A26F-A61A7D22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9CF73B3-A7DD-4CA0-ACBB-EFE8D6F7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AF4A49C-104F-4663-A83F-A525384A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7B763B0-ED9C-4D6A-90F7-74E459F5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4C1D8E-86D2-482B-B67E-F8A3288A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5881FD4-55DD-4397-AB28-A67D0306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97A2796-43C7-4B6F-A51D-1D9E1842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08524DD-C984-474A-9051-FB08F98D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9402E8C-603D-493E-B8D1-57E09F99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4A5D3-DB21-4D28-B4D7-6E9F85E3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C0DF73-5069-47DA-958C-C215ACE7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F57BD8C-A436-4BA4-8289-9F0088E5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249C2E4-0EE4-4A33-8681-F5D52831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CAE7B44-C54D-4DAC-9B63-859B893F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06A33E-8F59-4F83-B14D-66F48459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A2563E-5C1E-4D5F-BEC1-BEA5EAF7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41FBD16-A0AC-46D8-B4E6-BA9EE402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1B0711-C953-469A-A14A-1BDE0454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7621E3-1799-4763-B480-E68828F0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38739F-9D39-4B55-A364-B5098669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D77AC-D390-4F8E-ACBC-62824712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F94BEF8-577F-4381-9268-6F8F1630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7E21873-1057-4A0E-90E9-7AF6AD8B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77CD90-FA2B-4587-8F75-AF7DA3CF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B39C5E6-C61B-40C8-AB4F-B6B2EE7D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1BB71E6-706C-463E-8359-05096BE3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C390F6A-21CA-443B-8064-7748E5A5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EBA3ED1-7D4D-40FD-810B-6D1A4D7D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ACDDA1B-CE17-4FEC-B446-1707388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DDF496E-3AB7-4395-9FFF-2B83DAC8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525E0ED-07DD-46C2-8555-556FE695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4A679-3968-49DC-83A7-55D7C81E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090F228-8C48-4653-ACD5-F50AB035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97B1E34-F4C9-415F-80BB-C92FFF5C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84BC691-1798-4777-ABFF-0C7143C6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E05EE5-EF41-4B62-A5DC-32CBF008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2F44DC7-A2E2-48E3-98E8-169D7FCA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1D56640-EDFD-4464-B3BD-8C0BF29B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CFAB659-CE83-4BCD-916B-C329EB4C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063BDC-35C5-4737-818D-2823ED0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639167C-D73A-49A9-B8F7-B66E7A86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386D8E4-6EF7-44B4-A879-9267AB7A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7C14-C088-41C9-8789-F4E9AEB8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E36CA8-4C1D-4BAF-B39C-9413DFD1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CB3CFF-400F-4878-8068-F6EC5743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D4DBEE5-E8A8-41D2-97BF-A46BB946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6EEE99-7831-4040-9094-ED053389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1C0608-A16A-40B9-B602-E6989FE0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AB5DA3D-C8B6-4040-9F8F-7923F2E3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4A05F3C-1BB3-4BB6-9104-0B18FDBC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26974D5-772C-40D6-B284-6552D42A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7AE30E-3682-4157-9D41-DDBCB5E3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497AE4B-DE6D-4B93-BCBA-1C7075BB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8BEA9-F726-4323-9310-E09A94B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E79999E-5E87-4672-8A98-59609B65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C049D68-6777-46BF-A4D0-F3A98095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B7673C6-8820-47A9-8C76-F063C8E5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CF0274E-3F2F-4B0E-8EA4-2041DDBB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578B40E-0EDD-40B6-8D86-C0F6C479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B3216E-1862-4CBD-AFDB-A8659CCE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DB3808F-002C-4C74-A935-E47EE1C8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39BC4BC-14C0-4528-BC0C-803F0818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24F4D60-9ABF-4DEC-A422-7594FB56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CBF8BA1-18C7-477F-A081-33861A05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E7364-CED9-488C-8980-6E813A16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B9088F-6951-4791-9B64-C6EFE6DB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18C43D7-6A3D-4523-ABFB-D874F0D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7C7B04A-6570-4091-95C6-EEAF3BCD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1464203-D286-443D-94C5-DA2441C1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B97129C-1C6D-45D2-9458-2391E00F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FC83C83-5A04-4EC8-97AB-FE0E313A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2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2BC7DA-E9BA-43B5-86A6-BB2EE6D3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0DFA3CF-D1C6-4BBE-979C-0887DF3D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F9698B5-49DF-4697-96B1-E1373EE8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9721EAB-0221-4616-A396-40C16DE2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56008-5738-4F4E-80F5-86838984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53A3162-4618-41EE-AA06-4C380062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38AA266-90B3-4416-9206-22289035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66DF127-6720-4BBB-81BE-8A9E1FB1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4A49F9B-2BF8-4C6B-992B-A11F4DEE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411C912-B7E2-4DFD-87F6-E1672959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0C44117-BBC7-4DB0-BE9B-351E2172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AC27B51-BAAD-4498-96FA-0F160B2C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4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1FA41ED-F1EF-4AB8-99E8-1D948E77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0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1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C5415CF-6E68-4F63-AD1B-A7AB22B8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1E6BBA2-51E1-47D1-BE0D-415C89CB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76A3C-481B-437F-A7DB-5ACF1970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548A4A-6FE6-400E-B28A-A39DE254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49E5048-44AB-431B-858D-39371441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E0781EE-7EC3-44B5-B474-C1FC23B0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1B76002-5250-489E-96AE-05C7511C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845A3E5-7E19-49E2-8199-4F887C89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D03C812-AC91-42C2-80E1-69FBAF4B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D2798A-EED3-4BAD-AD3A-8E5A1171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D40727A-FE1E-41AB-B06D-740ABED3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2AE2B64-EEF6-40DF-B4F9-950D4675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5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6504719-B2B8-4EEC-ADB2-C3FD50C2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C35-CBF3-4CA0-B62B-3F8AB7DB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8A9C6-75F5-4796-8447-7853D40E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0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1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2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CFEEA4-1EA0-42E0-8BB5-50F32DB8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BC99F2D-0BEA-4A6A-8F49-A97B7624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CCBD6C6-0688-465E-8688-0EC6B16D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11DEEE1-2A13-4535-9F9C-02ED5DE9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1AA8F45-EF1D-4D13-A8AF-2148D0AA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3D12C57-12F3-4C6F-8C9B-CD5A596B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3E70960-DB94-4C4A-985C-FD5A2B4D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ABE1444-353F-4DC5-8D96-E1407597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E4F3014-A37F-4C9C-B47A-7C94D973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BD1B7F6-2644-4CAC-87E7-08ECD37C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9A9E1-36CA-4509-82CA-797C1718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C9DB402-270A-4030-A1EE-92C46B99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197A4D2-4E1B-4376-AFD6-0D1EC9D0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6461F81-4D61-4BCB-A449-637590C0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E2E5D1E-E1F2-4DE3-BD00-DDEC663A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12D0AD6-A0F6-4CA8-BDFC-BB74AC64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BA95824-BEDE-4AA5-A156-9912A3B9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7F85576-B2E4-4195-B22E-78702DA6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676D99D-0BAD-4552-8598-44CDBE2A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807164E-89EE-4317-9BB6-89E804B8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BC3952F-D406-4C92-8AA6-70F6390D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8E3E1-9DF0-41AD-A8C4-11D3809C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5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1044B7-8E13-4474-987A-26583CB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39A2CC2-72AC-4070-829A-5CB35222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4512335-5A28-49CA-B835-71DEEDDD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7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C5B9B9D-0FBC-44CC-AFE3-9E375026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3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4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B19F089-5DA5-4A90-BBA0-67B3EC44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3BE1562-0D37-4C6B-8C06-0190FBFC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A1D1C9C-DED6-49EA-B110-6BAD98C0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EEC0F66-15FA-4C83-AE93-9B903FA4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7126474-C271-4636-A19F-526ED599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F0F934C-9ED9-42AD-AFE9-2C42A9D2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56915-53DF-4E27-9A85-388858FD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63F2B0A-44BD-42BA-A6C1-FA7A7BFB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96872F1-BAF7-4B37-8B44-41CE0C1D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3F6988-500A-4C34-B59C-4468600D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88E09CD-ADA1-4AF3-9485-3E0F49D8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B1B2F53-31F1-4884-A857-BD7D46AD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AEFD175-E358-4CC3-BF48-E862BF7C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2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206547E-B543-4A1D-B8C7-F6B01C3A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EB678DF-B8FF-4B27-A73D-9A69ABBA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94C89BA-1C25-4EE3-93F4-629B92CA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F879938-02AA-468B-AFFB-87FD3237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2322-E800-4316-BBEA-2BB0D054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84673CD-6224-49B3-A938-D1E8EF3C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36129C1-CADF-489F-8DA5-0EEE3B57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6C613DB-6517-4FF8-BC12-3CC81A7E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9E16042-9173-48DD-84E2-8E9E8D3A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7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6A344B3-8AC2-4CB0-94B7-2270E56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5E5CA17-97D3-4CFC-9421-90A892DD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56A0ECF-5436-4F87-99B9-7126DABB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56BC0FF-3DC0-4AA1-B3B7-7F9C5404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4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5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6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FB8C5D8-4C51-4A29-9131-00A2D1D3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1E010-CB88-4ACD-BF66-A04D3416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32F51-8D2C-4902-87BA-F4A7B137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2367C-C626-405C-A10A-7E895970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954EE-DA0A-4153-98B5-28FFD161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E9CFA-685A-4591-875B-08474B7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2B0-2052-4672-BA74-FE5FC133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C68AC-925B-4F06-B0E4-E0A2BBEF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6EDE6-F71F-4C41-8629-14D10949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22873-270B-47C3-84ED-8E622A89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EF505-339F-45DF-910B-96E6469A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82AB0-3024-45E7-B3A4-F32C99D7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D7014-0B27-46E6-B6FD-E76809F5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31023-0C81-4297-87BE-44638936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EF2E9-8AA8-4C05-8AE8-C2253961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C0B9A-A9F7-4860-8965-8AA34D59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28C58-D567-4332-9724-41C5B07C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5C6-3869-49D9-B796-D7C38ED5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EDF97-B7E4-4130-A719-CAD4E4B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4F2BC-763A-484E-A845-B43BDC4C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FA33D-D3EB-4144-A39B-6E67A2E0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A2E7A-685E-4322-8454-FD9FCC91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19D20-379C-4C62-A63A-047F9052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CE78B-32F3-4422-8BB0-1E1ACB54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6C96E-E592-4711-B21A-7A03F3CE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F2FE4-0643-4F2E-8497-7727FDF4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1C25C-F41F-4D50-BC23-35E48E1D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DFD3B-25A4-46FB-9ADE-8792AA10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C69-CFB0-4E20-962D-8BC7FD6E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F17BD-887D-4AF2-A4A2-60707F59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73ACF-3722-4C3F-B539-4AD2A088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E80E-9595-4D10-9DF3-51596300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92637-F296-44A4-B2F7-4C385617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A5D44-3A50-4B9B-BB0C-35917E88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B69AE-E0C0-4275-8A11-63C13E99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D2739-9C79-4C12-8996-663F28CD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4AAFF-7A1A-4FF6-A3D0-F3DDFF5D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E6250-0DD0-4160-A7D9-6A8E5D17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8ED13-10FA-40DC-A23F-0FBF7796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1" name="Freeform 2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5" name="Freeform 6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19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7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8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29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0"/>
            <p:cNvGrpSpPr/>
            <p:nvPr/>
          </p:nvGrpSpPr>
          <p:grpSpPr>
            <a:xfrm>
              <a:off x="1440" y="622080"/>
              <a:ext cx="9137520" cy="2491200"/>
              <a:chOff x="1440" y="622080"/>
              <a:chExt cx="9137520" cy="2491200"/>
            </a:xfrm>
          </p:grpSpPr>
          <p:sp>
            <p:nvSpPr>
              <p:cNvPr id="30" name="Line 31"/>
              <p:cNvSpPr/>
              <p:nvPr/>
            </p:nvSpPr>
            <p:spPr>
              <a:xfrm>
                <a:off x="1440" y="124308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2"/>
              <p:cNvSpPr/>
              <p:nvPr/>
            </p:nvSpPr>
            <p:spPr>
              <a:xfrm>
                <a:off x="1440" y="311184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3"/>
              <p:cNvSpPr/>
              <p:nvPr/>
            </p:nvSpPr>
            <p:spPr>
              <a:xfrm>
                <a:off x="1440" y="248868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4"/>
              <p:cNvSpPr/>
              <p:nvPr/>
            </p:nvSpPr>
            <p:spPr>
              <a:xfrm>
                <a:off x="1440" y="1865880"/>
                <a:ext cx="913752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5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6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7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303232-6429-4B70-8D19-5DD4E1F30B0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BBEC-CCB7-4FC6-B4A0-089FE7BB86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85B505-0E76-4A72-8E9F-8A685FF9D3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A18818-6597-4B7D-849B-5474AA6D42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8D1C2B-7271-4355-8E60-108A5E346B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2A8F9D-737E-450F-BA34-08DDFC5B22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E5220F-5D26-4E7F-9180-BB65384140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C22B0A-E5A2-4757-A716-5B7092E1AE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42B921-0560-4A8B-825A-14D816B448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228D62-6AE6-4D0A-98F0-7660D0816A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1A40EE-5AC6-4335-8017-C8AD990A8B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4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79" name="Freeform 2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5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83" name="Freeform 6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7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8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9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0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1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3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4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5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6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7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8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19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2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d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6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7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0"/>
            <p:cNvGrpSpPr/>
            <p:nvPr/>
          </p:nvGrpSpPr>
          <p:grpSpPr>
            <a:xfrm>
              <a:off x="0" y="622080"/>
              <a:ext cx="9137880" cy="2491200"/>
              <a:chOff x="0" y="622080"/>
              <a:chExt cx="9137880" cy="2491200"/>
            </a:xfrm>
          </p:grpSpPr>
          <p:sp>
            <p:nvSpPr>
              <p:cNvPr id="108" name="Line 31"/>
              <p:cNvSpPr/>
              <p:nvPr/>
            </p:nvSpPr>
            <p:spPr>
              <a:xfrm>
                <a:off x="0" y="124308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2"/>
              <p:cNvSpPr/>
              <p:nvPr/>
            </p:nvSpPr>
            <p:spPr>
              <a:xfrm>
                <a:off x="0" y="311184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3"/>
              <p:cNvSpPr/>
              <p:nvPr/>
            </p:nvSpPr>
            <p:spPr>
              <a:xfrm>
                <a:off x="0" y="248868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4"/>
              <p:cNvSpPr/>
              <p:nvPr/>
            </p:nvSpPr>
            <p:spPr>
              <a:xfrm>
                <a:off x="0" y="1865880"/>
                <a:ext cx="9137880" cy="144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5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6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0CEF94-F936-4B22-94CF-BF6707AAE76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C5A9E9-565D-4384-A935-98F4D8363D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F4141D-348B-4782-B2DD-D8C9F2AFBE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45B7D9-2AE0-4C6B-9CBA-EA02B8E975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BA1258-C28C-4520-9D1D-6B2B8CC246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2A3C1C-13E9-4726-AA7B-546B3F9B07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D7D04E-7AA4-401D-9BE7-45D53D78A9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A5C89E-2C0E-4192-B589-87497C1C47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39A776-9E10-4C60-B243-0BAA347BE5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8A42BA-91F1-46E0-940D-30C5AE8773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BA6619-19EF-448C-AA2A-EBAAB9A39F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"/>
          <p:cNvGrpSpPr/>
          <p:nvPr/>
        </p:nvGrpSpPr>
        <p:grpSpPr>
          <a:xfrm>
            <a:off x="1071720" y="304920"/>
            <a:ext cx="7613280" cy="1104480"/>
            <a:chOff x="1071720" y="304920"/>
            <a:chExt cx="7613280" cy="1104480"/>
          </a:xfrm>
        </p:grpSpPr>
        <p:sp>
          <p:nvSpPr>
            <p:cNvPr id="157" name="Oval 2"/>
            <p:cNvSpPr/>
            <p:nvPr/>
          </p:nvSpPr>
          <p:spPr>
            <a:xfrm flipH="1">
              <a:off x="4868280" y="304920"/>
              <a:ext cx="11048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3"/>
            <p:cNvSpPr/>
            <p:nvPr/>
          </p:nvSpPr>
          <p:spPr>
            <a:xfrm flipH="1">
              <a:off x="7581240" y="304920"/>
              <a:ext cx="110340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4"/>
            <p:cNvSpPr/>
            <p:nvPr/>
          </p:nvSpPr>
          <p:spPr>
            <a:xfrm flipH="1">
              <a:off x="1071720" y="306000"/>
              <a:ext cx="1103040" cy="11034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flipH="1">
              <a:off x="6322320" y="304920"/>
              <a:ext cx="110340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 flipH="1">
              <a:off x="2358360" y="304920"/>
              <a:ext cx="1103400" cy="110340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CFD078-4EAD-45A0-BD1C-343007B282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EE303D-2F4F-413A-8202-1F6B309FDD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B933FB-794F-4C8F-9AF3-2761DA746D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00E9E9-7157-4F45-A1F2-5F3BF37E46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7A1F71-C762-414F-91D6-1A59018211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8C3846-A43D-47B5-83B2-94BFC61EC9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6E5A58-3B65-4778-AF8E-8C463D4B68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28ABAD-7B42-41E1-9AA4-EEF748D605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812ED1-1C35-4F48-BBBC-1F8E711FE5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B05BE7-7EBE-4D8B-AC14-C842C3F5FF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8AE8C0-AD3B-46C1-A97E-2A072B1B8B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"/>
          <p:cNvGrpSpPr/>
          <p:nvPr/>
        </p:nvGrpSpPr>
        <p:grpSpPr>
          <a:xfrm>
            <a:off x="1658520" y="1600200"/>
            <a:ext cx="6835320" cy="3198600"/>
            <a:chOff x="1658520" y="1600200"/>
            <a:chExt cx="6835320" cy="3198600"/>
          </a:xfrm>
        </p:grpSpPr>
        <p:sp>
          <p:nvSpPr>
            <p:cNvPr id="204" name="Oval 2"/>
            <p:cNvSpPr/>
            <p:nvPr/>
          </p:nvSpPr>
          <p:spPr>
            <a:xfrm flipH="1">
              <a:off x="6970320" y="160020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3"/>
            <p:cNvSpPr/>
            <p:nvPr/>
          </p:nvSpPr>
          <p:spPr>
            <a:xfrm flipH="1">
              <a:off x="5180400" y="160020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4"/>
            <p:cNvSpPr/>
            <p:nvPr/>
          </p:nvSpPr>
          <p:spPr>
            <a:xfrm flipH="1">
              <a:off x="3390120" y="1600200"/>
              <a:ext cx="152352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5"/>
            <p:cNvSpPr/>
            <p:nvPr/>
          </p:nvSpPr>
          <p:spPr>
            <a:xfrm flipH="1">
              <a:off x="3390120" y="3275640"/>
              <a:ext cx="152352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"/>
            <p:cNvSpPr/>
            <p:nvPr/>
          </p:nvSpPr>
          <p:spPr>
            <a:xfrm flipH="1">
              <a:off x="1658160" y="3275640"/>
              <a:ext cx="1523160" cy="15231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 flipH="1">
              <a:off x="6970320" y="3275640"/>
              <a:ext cx="1523160" cy="15231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dt" idx="1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D0136E-60B7-4202-9FC9-6DF815F0D6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0BB73D-E268-4636-9D9D-40BD6C1C72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C57BAA-2A1A-4006-BAA7-B2B07387E6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27B9D8-08BD-4AE8-B5F0-1097E69D8A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 type="dt" idx="1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 type="sldNum" idx="1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47ACAF-ADCD-482C-AA46-A9567DD0D5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 type="dt" idx="1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 type="sldNum" idx="1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615E0D-1C53-483D-BEA8-B94D259D63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 type="dt" idx="1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 type="sldNum" idx="1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5BBB7D-C219-4154-9DB9-6790F8A859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 type="dt" idx="1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 type="sldNum" idx="1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EECAAA-5FBF-4F2E-8469-F7F5B4A07F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 type="dt" idx="1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5"/>
          <p:cNvSpPr>
            <a:spLocks noGrp="1"/>
          </p:cNvSpPr>
          <p:nvPr>
            <p:ph type="sldNum" idx="1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09E517-2E85-4ADF-A455-1A766CB093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 type="dt" idx="1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PlaceHolder 5"/>
          <p:cNvSpPr>
            <a:spLocks noGrp="1"/>
          </p:cNvSpPr>
          <p:nvPr>
            <p:ph type="sldNum" idx="1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BAFF1C-5B84-4795-8ECF-1DA913CD8E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 type="dt" idx="1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 type="sldNum" idx="1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1D5C29-112E-44BC-9F61-0125A1988D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1"/>
          <p:cNvGrpSpPr/>
          <p:nvPr/>
        </p:nvGrpSpPr>
        <p:grpSpPr>
          <a:xfrm>
            <a:off x="6225840" y="-55080"/>
            <a:ext cx="3010320" cy="3366720"/>
            <a:chOff x="6225840" y="-55080"/>
            <a:chExt cx="3010320" cy="3366720"/>
          </a:xfrm>
        </p:grpSpPr>
        <p:grpSp>
          <p:nvGrpSpPr>
            <p:cNvPr id="251" name="Group 2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52" name="Oval 3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"/>
              <p:cNvSpPr/>
              <p:nvPr/>
            </p:nvSpPr>
            <p:spPr>
              <a:xfrm>
                <a:off x="7927200" y="2828160"/>
                <a:ext cx="240480" cy="14112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5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255" name="Oval 6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7"/>
              <p:cNvSpPr/>
              <p:nvPr/>
            </p:nvSpPr>
            <p:spPr>
              <a:xfrm>
                <a:off x="8159040" y="1772640"/>
                <a:ext cx="240840" cy="140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8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258" name="Oval 9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10"/>
              <p:cNvSpPr/>
              <p:nvPr/>
            </p:nvSpPr>
            <p:spPr>
              <a:xfrm>
                <a:off x="6689160" y="327600"/>
                <a:ext cx="240840" cy="14076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1"/>
            <p:cNvGrpSpPr/>
            <p:nvPr/>
          </p:nvGrpSpPr>
          <p:grpSpPr>
            <a:xfrm>
              <a:off x="6225840" y="-55080"/>
              <a:ext cx="3010320" cy="3366720"/>
              <a:chOff x="6225840" y="-55080"/>
              <a:chExt cx="3010320" cy="3366720"/>
            </a:xfrm>
          </p:grpSpPr>
          <p:grpSp>
            <p:nvGrpSpPr>
              <p:cNvPr id="261" name="Group 12"/>
              <p:cNvGrpSpPr/>
              <p:nvPr/>
            </p:nvGrpSpPr>
            <p:grpSpPr>
              <a:xfrm>
                <a:off x="6991200" y="403200"/>
                <a:ext cx="1497240" cy="1103400"/>
                <a:chOff x="6991200" y="403200"/>
                <a:chExt cx="1497240" cy="1103400"/>
              </a:xfrm>
            </p:grpSpPr>
            <p:sp>
              <p:nvSpPr>
                <p:cNvPr id="262" name="Oval 13"/>
                <p:cNvSpPr/>
                <p:nvPr/>
              </p:nvSpPr>
              <p:spPr>
                <a:xfrm>
                  <a:off x="6991200" y="403200"/>
                  <a:ext cx="1497240" cy="11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"/>
                <p:cNvSpPr/>
                <p:nvPr/>
              </p:nvSpPr>
              <p:spPr>
                <a:xfrm>
                  <a:off x="7562160" y="80568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15"/>
              <p:cNvGrpSpPr/>
              <p:nvPr/>
            </p:nvGrpSpPr>
            <p:grpSpPr>
              <a:xfrm>
                <a:off x="6225840" y="-55080"/>
                <a:ext cx="2961360" cy="2340000"/>
                <a:chOff x="6225840" y="-55080"/>
                <a:chExt cx="2961360" cy="2340000"/>
              </a:xfrm>
            </p:grpSpPr>
            <p:grpSp>
              <p:nvGrpSpPr>
                <p:cNvPr id="265" name="Group 16"/>
                <p:cNvGrpSpPr/>
                <p:nvPr/>
              </p:nvGrpSpPr>
              <p:grpSpPr>
                <a:xfrm>
                  <a:off x="7574400" y="873720"/>
                  <a:ext cx="1420920" cy="1190160"/>
                  <a:chOff x="7574400" y="873720"/>
                  <a:chExt cx="1420920" cy="1190160"/>
                </a:xfrm>
              </p:grpSpPr>
              <p:sp>
                <p:nvSpPr>
                  <p:cNvPr id="266" name="Freeform 17"/>
                  <p:cNvSpPr/>
                  <p:nvPr/>
                </p:nvSpPr>
                <p:spPr>
                  <a:xfrm rot="2700000">
                    <a:off x="7543800" y="1133280"/>
                    <a:ext cx="84456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18"/>
                  <p:cNvSpPr/>
                  <p:nvPr/>
                </p:nvSpPr>
                <p:spPr>
                  <a:xfrm rot="2700000">
                    <a:off x="8461440" y="1549440"/>
                    <a:ext cx="453600" cy="41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19"/>
                <p:cNvGrpSpPr/>
                <p:nvPr/>
              </p:nvGrpSpPr>
              <p:grpSpPr>
                <a:xfrm>
                  <a:off x="7851240" y="529560"/>
                  <a:ext cx="1335960" cy="1398240"/>
                  <a:chOff x="7851240" y="529560"/>
                  <a:chExt cx="1335960" cy="1398240"/>
                </a:xfrm>
              </p:grpSpPr>
              <p:sp>
                <p:nvSpPr>
                  <p:cNvPr id="269" name="Freeform 20"/>
                  <p:cNvSpPr/>
                  <p:nvPr/>
                </p:nvSpPr>
                <p:spPr>
                  <a:xfrm rot="2100000">
                    <a:off x="7845120" y="771840"/>
                    <a:ext cx="932040" cy="27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21"/>
                  <p:cNvSpPr/>
                  <p:nvPr/>
                </p:nvSpPr>
                <p:spPr>
                  <a:xfrm rot="2100000">
                    <a:off x="8608680" y="1392840"/>
                    <a:ext cx="500040" cy="43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22"/>
                <p:cNvGrpSpPr/>
                <p:nvPr/>
              </p:nvGrpSpPr>
              <p:grpSpPr>
                <a:xfrm>
                  <a:off x="7834680" y="549720"/>
                  <a:ext cx="1347840" cy="1099800"/>
                  <a:chOff x="7834680" y="549720"/>
                  <a:chExt cx="1347840" cy="1099800"/>
                </a:xfrm>
              </p:grpSpPr>
              <p:sp>
                <p:nvSpPr>
                  <p:cNvPr id="272" name="Freeform 23"/>
                  <p:cNvSpPr/>
                  <p:nvPr/>
                </p:nvSpPr>
                <p:spPr>
                  <a:xfrm rot="1560000">
                    <a:off x="7840440" y="735120"/>
                    <a:ext cx="901440" cy="23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24"/>
                  <p:cNvSpPr/>
                  <p:nvPr/>
                </p:nvSpPr>
                <p:spPr>
                  <a:xfrm rot="1560000">
                    <a:off x="8641800" y="1191960"/>
                    <a:ext cx="48384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25"/>
                <p:cNvGrpSpPr/>
                <p:nvPr/>
              </p:nvGrpSpPr>
              <p:grpSpPr>
                <a:xfrm>
                  <a:off x="7822080" y="564840"/>
                  <a:ext cx="1363680" cy="862920"/>
                  <a:chOff x="7822080" y="564840"/>
                  <a:chExt cx="1363680" cy="862920"/>
                </a:xfrm>
              </p:grpSpPr>
              <p:sp>
                <p:nvSpPr>
                  <p:cNvPr id="275" name="Freeform 26"/>
                  <p:cNvSpPr/>
                  <p:nvPr/>
                </p:nvSpPr>
                <p:spPr>
                  <a:xfrm rot="1080000">
                    <a:off x="7837560" y="695520"/>
                    <a:ext cx="8841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27"/>
                  <p:cNvSpPr/>
                  <p:nvPr/>
                </p:nvSpPr>
                <p:spPr>
                  <a:xfrm rot="1080000">
                    <a:off x="8664120" y="983520"/>
                    <a:ext cx="474480" cy="37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28"/>
                <p:cNvGrpSpPr/>
                <p:nvPr/>
              </p:nvGrpSpPr>
              <p:grpSpPr>
                <a:xfrm>
                  <a:off x="7843680" y="602640"/>
                  <a:ext cx="1250640" cy="499320"/>
                  <a:chOff x="7843680" y="602640"/>
                  <a:chExt cx="1250640" cy="499320"/>
                </a:xfrm>
              </p:grpSpPr>
              <p:sp>
                <p:nvSpPr>
                  <p:cNvPr id="278" name="Freeform 29"/>
                  <p:cNvSpPr/>
                  <p:nvPr/>
                </p:nvSpPr>
                <p:spPr>
                  <a:xfrm rot="480000">
                    <a:off x="7853400" y="657720"/>
                    <a:ext cx="805320" cy="1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30"/>
                  <p:cNvSpPr/>
                  <p:nvPr/>
                </p:nvSpPr>
                <p:spPr>
                  <a:xfrm rot="480000">
                    <a:off x="8642160" y="766440"/>
                    <a:ext cx="4327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1"/>
                <p:cNvGrpSpPr/>
                <p:nvPr/>
              </p:nvGrpSpPr>
              <p:grpSpPr>
                <a:xfrm>
                  <a:off x="7870680" y="626760"/>
                  <a:ext cx="1109160" cy="196200"/>
                  <a:chOff x="7870680" y="626760"/>
                  <a:chExt cx="1109160" cy="196200"/>
                </a:xfrm>
              </p:grpSpPr>
              <p:sp>
                <p:nvSpPr>
                  <p:cNvPr id="281" name="Freeform 32"/>
                  <p:cNvSpPr/>
                  <p:nvPr/>
                </p:nvSpPr>
                <p:spPr>
                  <a:xfrm rot="21480000">
                    <a:off x="7872480" y="644760"/>
                    <a:ext cx="72144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33"/>
                  <p:cNvSpPr/>
                  <p:nvPr/>
                </p:nvSpPr>
                <p:spPr>
                  <a:xfrm rot="21480000">
                    <a:off x="8588880" y="633600"/>
                    <a:ext cx="38772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34"/>
                <p:cNvGrpSpPr/>
                <p:nvPr/>
              </p:nvGrpSpPr>
              <p:grpSpPr>
                <a:xfrm>
                  <a:off x="7835400" y="381240"/>
                  <a:ext cx="1018080" cy="438480"/>
                  <a:chOff x="7835400" y="381240"/>
                  <a:chExt cx="1018080" cy="438480"/>
                </a:xfrm>
              </p:grpSpPr>
              <p:sp>
                <p:nvSpPr>
                  <p:cNvPr id="284" name="Freeform 35"/>
                  <p:cNvSpPr/>
                  <p:nvPr/>
                </p:nvSpPr>
                <p:spPr>
                  <a:xfrm rot="20760000">
                    <a:off x="7845480" y="581040"/>
                    <a:ext cx="64548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36"/>
                  <p:cNvSpPr/>
                  <p:nvPr/>
                </p:nvSpPr>
                <p:spPr>
                  <a:xfrm rot="20760000">
                    <a:off x="8481240" y="419040"/>
                    <a:ext cx="3459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37"/>
                <p:cNvGrpSpPr/>
                <p:nvPr/>
              </p:nvGrpSpPr>
              <p:grpSpPr>
                <a:xfrm>
                  <a:off x="6438960" y="937800"/>
                  <a:ext cx="1421640" cy="1189080"/>
                  <a:chOff x="6438960" y="937800"/>
                  <a:chExt cx="1421640" cy="1189080"/>
                </a:xfrm>
              </p:grpSpPr>
              <p:sp>
                <p:nvSpPr>
                  <p:cNvPr id="287" name="Freeform 38"/>
                  <p:cNvSpPr/>
                  <p:nvPr/>
                </p:nvSpPr>
                <p:spPr>
                  <a:xfrm flipH="1" rot="18900000">
                    <a:off x="7046280" y="1197720"/>
                    <a:ext cx="84456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39"/>
                  <p:cNvSpPr/>
                  <p:nvPr/>
                </p:nvSpPr>
                <p:spPr>
                  <a:xfrm flipH="1" rot="18900000">
                    <a:off x="6518160" y="1614600"/>
                    <a:ext cx="453240" cy="41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40"/>
                <p:cNvGrpSpPr/>
                <p:nvPr/>
              </p:nvGrpSpPr>
              <p:grpSpPr>
                <a:xfrm>
                  <a:off x="6225840" y="618120"/>
                  <a:ext cx="1337760" cy="1398240"/>
                  <a:chOff x="6225840" y="618120"/>
                  <a:chExt cx="1337760" cy="1398240"/>
                </a:xfrm>
              </p:grpSpPr>
              <p:sp>
                <p:nvSpPr>
                  <p:cNvPr id="290" name="Freeform 41"/>
                  <p:cNvSpPr/>
                  <p:nvPr/>
                </p:nvSpPr>
                <p:spPr>
                  <a:xfrm flipH="1" rot="19500000">
                    <a:off x="6636600" y="860400"/>
                    <a:ext cx="932040" cy="27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42"/>
                  <p:cNvSpPr/>
                  <p:nvPr/>
                </p:nvSpPr>
                <p:spPr>
                  <a:xfrm flipH="1" rot="19500000">
                    <a:off x="6303600" y="1482480"/>
                    <a:ext cx="50004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43"/>
                <p:cNvGrpSpPr/>
                <p:nvPr/>
              </p:nvGrpSpPr>
              <p:grpSpPr>
                <a:xfrm>
                  <a:off x="6229800" y="641880"/>
                  <a:ext cx="1350000" cy="1099800"/>
                  <a:chOff x="6229800" y="641880"/>
                  <a:chExt cx="1350000" cy="1099800"/>
                </a:xfrm>
              </p:grpSpPr>
              <p:sp>
                <p:nvSpPr>
                  <p:cNvPr id="293" name="Freeform 44"/>
                  <p:cNvSpPr/>
                  <p:nvPr/>
                </p:nvSpPr>
                <p:spPr>
                  <a:xfrm flipH="1" rot="20040000">
                    <a:off x="6672240" y="827280"/>
                    <a:ext cx="9010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45"/>
                  <p:cNvSpPr/>
                  <p:nvPr/>
                </p:nvSpPr>
                <p:spPr>
                  <a:xfrm flipH="1" rot="20040000">
                    <a:off x="6286680" y="1283040"/>
                    <a:ext cx="48384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Group 46"/>
                <p:cNvGrpSpPr/>
                <p:nvPr/>
              </p:nvGrpSpPr>
              <p:grpSpPr>
                <a:xfrm>
                  <a:off x="6226560" y="657360"/>
                  <a:ext cx="1364040" cy="861120"/>
                  <a:chOff x="6226560" y="657360"/>
                  <a:chExt cx="1364040" cy="861120"/>
                </a:xfrm>
              </p:grpSpPr>
              <p:sp>
                <p:nvSpPr>
                  <p:cNvPr id="296" name="Freeform 47"/>
                  <p:cNvSpPr/>
                  <p:nvPr/>
                </p:nvSpPr>
                <p:spPr>
                  <a:xfrm flipH="1" rot="20520000">
                    <a:off x="6693120" y="787680"/>
                    <a:ext cx="8816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48"/>
                  <p:cNvSpPr/>
                  <p:nvPr/>
                </p:nvSpPr>
                <p:spPr>
                  <a:xfrm flipH="1" rot="20520000">
                    <a:off x="6273000" y="1075320"/>
                    <a:ext cx="47304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Group 49"/>
                <p:cNvGrpSpPr/>
                <p:nvPr/>
              </p:nvGrpSpPr>
              <p:grpSpPr>
                <a:xfrm>
                  <a:off x="6319080" y="694440"/>
                  <a:ext cx="1249920" cy="497880"/>
                  <a:chOff x="6319080" y="694440"/>
                  <a:chExt cx="1249920" cy="497880"/>
                </a:xfrm>
              </p:grpSpPr>
              <p:sp>
                <p:nvSpPr>
                  <p:cNvPr id="299" name="Freeform 50"/>
                  <p:cNvSpPr/>
                  <p:nvPr/>
                </p:nvSpPr>
                <p:spPr>
                  <a:xfrm flipH="1" rot="21120000">
                    <a:off x="6753600" y="749160"/>
                    <a:ext cx="80568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51"/>
                  <p:cNvSpPr/>
                  <p:nvPr/>
                </p:nvSpPr>
                <p:spPr>
                  <a:xfrm flipH="1" rot="21120000">
                    <a:off x="6337800" y="856800"/>
                    <a:ext cx="4327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Group 52"/>
                <p:cNvGrpSpPr/>
                <p:nvPr/>
              </p:nvGrpSpPr>
              <p:grpSpPr>
                <a:xfrm>
                  <a:off x="6432480" y="715680"/>
                  <a:ext cx="1109520" cy="196200"/>
                  <a:chOff x="6432480" y="715680"/>
                  <a:chExt cx="1109520" cy="196200"/>
                </a:xfrm>
              </p:grpSpPr>
              <p:sp>
                <p:nvSpPr>
                  <p:cNvPr id="302" name="Freeform 53"/>
                  <p:cNvSpPr/>
                  <p:nvPr/>
                </p:nvSpPr>
                <p:spPr>
                  <a:xfrm flipH="1" rot="120000">
                    <a:off x="6818760" y="733680"/>
                    <a:ext cx="72144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54"/>
                  <p:cNvSpPr/>
                  <p:nvPr/>
                </p:nvSpPr>
                <p:spPr>
                  <a:xfrm flipH="1" rot="120000">
                    <a:off x="6435360" y="722160"/>
                    <a:ext cx="38772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" name="Group 55"/>
                <p:cNvGrpSpPr/>
                <p:nvPr/>
              </p:nvGrpSpPr>
              <p:grpSpPr>
                <a:xfrm>
                  <a:off x="6559560" y="472320"/>
                  <a:ext cx="1017720" cy="438480"/>
                  <a:chOff x="6559560" y="472320"/>
                  <a:chExt cx="1017720" cy="438480"/>
                </a:xfrm>
              </p:grpSpPr>
              <p:sp>
                <p:nvSpPr>
                  <p:cNvPr id="305" name="Freeform 56"/>
                  <p:cNvSpPr/>
                  <p:nvPr/>
                </p:nvSpPr>
                <p:spPr>
                  <a:xfrm flipH="1" rot="840000">
                    <a:off x="6922440" y="672480"/>
                    <a:ext cx="64440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Freeform 57"/>
                  <p:cNvSpPr/>
                  <p:nvPr/>
                </p:nvSpPr>
                <p:spPr>
                  <a:xfrm flipH="1" rot="840000">
                    <a:off x="6584760" y="510120"/>
                    <a:ext cx="34524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58"/>
                <p:cNvGrpSpPr/>
                <p:nvPr/>
              </p:nvGrpSpPr>
              <p:grpSpPr>
                <a:xfrm>
                  <a:off x="6600240" y="338040"/>
                  <a:ext cx="1013760" cy="612000"/>
                  <a:chOff x="6600240" y="338040"/>
                  <a:chExt cx="1013760" cy="612000"/>
                </a:xfrm>
              </p:grpSpPr>
              <p:sp>
                <p:nvSpPr>
                  <p:cNvPr id="308" name="Freeform 59"/>
                  <p:cNvSpPr/>
                  <p:nvPr/>
                </p:nvSpPr>
                <p:spPr>
                  <a:xfrm flipH="1" rot="1260000">
                    <a:off x="6963840" y="666000"/>
                    <a:ext cx="6400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Freeform 60"/>
                  <p:cNvSpPr/>
                  <p:nvPr/>
                </p:nvSpPr>
                <p:spPr>
                  <a:xfrm flipH="1" rot="1260000">
                    <a:off x="6638040" y="390240"/>
                    <a:ext cx="34452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Group 61"/>
                <p:cNvGrpSpPr/>
                <p:nvPr/>
              </p:nvGrpSpPr>
              <p:grpSpPr>
                <a:xfrm>
                  <a:off x="6701400" y="152280"/>
                  <a:ext cx="947880" cy="855360"/>
                  <a:chOff x="6701400" y="152280"/>
                  <a:chExt cx="947880" cy="855360"/>
                </a:xfrm>
              </p:grpSpPr>
              <p:sp>
                <p:nvSpPr>
                  <p:cNvPr id="311" name="Freeform 62"/>
                  <p:cNvSpPr/>
                  <p:nvPr/>
                </p:nvSpPr>
                <p:spPr>
                  <a:xfrm flipH="1" rot="2040000">
                    <a:off x="7024680" y="667080"/>
                    <a:ext cx="62748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Freeform 63"/>
                  <p:cNvSpPr/>
                  <p:nvPr/>
                </p:nvSpPr>
                <p:spPr>
                  <a:xfrm flipH="1" rot="2040000">
                    <a:off x="6751800" y="222120"/>
                    <a:ext cx="33660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64"/>
                <p:cNvGrpSpPr/>
                <p:nvPr/>
              </p:nvGrpSpPr>
              <p:grpSpPr>
                <a:xfrm>
                  <a:off x="6813720" y="-16200"/>
                  <a:ext cx="853200" cy="1022400"/>
                  <a:chOff x="6813720" y="-16200"/>
                  <a:chExt cx="853200" cy="1022400"/>
                </a:xfrm>
              </p:grpSpPr>
              <p:sp>
                <p:nvSpPr>
                  <p:cNvPr id="314" name="Freeform 65"/>
                  <p:cNvSpPr/>
                  <p:nvPr/>
                </p:nvSpPr>
                <p:spPr>
                  <a:xfrm flipH="1" rot="2700000">
                    <a:off x="7082640" y="635040"/>
                    <a:ext cx="6084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66"/>
                  <p:cNvSpPr/>
                  <p:nvPr/>
                </p:nvSpPr>
                <p:spPr>
                  <a:xfrm flipH="1" rot="2700000">
                    <a:off x="6867360" y="57240"/>
                    <a:ext cx="326880" cy="28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67"/>
                <p:cNvGrpSpPr/>
                <p:nvPr/>
              </p:nvGrpSpPr>
              <p:grpSpPr>
                <a:xfrm>
                  <a:off x="7050600" y="-30240"/>
                  <a:ext cx="805680" cy="829440"/>
                  <a:chOff x="7050600" y="-30240"/>
                  <a:chExt cx="805680" cy="829440"/>
                </a:xfrm>
              </p:grpSpPr>
              <p:sp>
                <p:nvSpPr>
                  <p:cNvPr id="317" name="Freeform 68"/>
                  <p:cNvSpPr/>
                  <p:nvPr/>
                </p:nvSpPr>
                <p:spPr>
                  <a:xfrm flipH="1" rot="3480000">
                    <a:off x="7348680" y="430200"/>
                    <a:ext cx="57096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69"/>
                  <p:cNvSpPr/>
                  <p:nvPr/>
                </p:nvSpPr>
                <p:spPr>
                  <a:xfrm flipH="1" rot="3480000">
                    <a:off x="7089120" y="37800"/>
                    <a:ext cx="30600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70"/>
                <p:cNvGrpSpPr/>
                <p:nvPr/>
              </p:nvGrpSpPr>
              <p:grpSpPr>
                <a:xfrm>
                  <a:off x="7242480" y="-55080"/>
                  <a:ext cx="605160" cy="850320"/>
                  <a:chOff x="7242480" y="-55080"/>
                  <a:chExt cx="605160" cy="850320"/>
                </a:xfrm>
              </p:grpSpPr>
              <p:sp>
                <p:nvSpPr>
                  <p:cNvPr id="320" name="Freeform 71"/>
                  <p:cNvSpPr/>
                  <p:nvPr/>
                </p:nvSpPr>
                <p:spPr>
                  <a:xfrm flipH="1" rot="4140000">
                    <a:off x="7395840" y="428400"/>
                    <a:ext cx="55764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72"/>
                  <p:cNvSpPr/>
                  <p:nvPr/>
                </p:nvSpPr>
                <p:spPr>
                  <a:xfrm flipH="1" rot="4140000">
                    <a:off x="7261560" y="5040"/>
                    <a:ext cx="29916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73"/>
                <p:cNvGrpSpPr/>
                <p:nvPr/>
              </p:nvGrpSpPr>
              <p:grpSpPr>
                <a:xfrm>
                  <a:off x="7783920" y="216720"/>
                  <a:ext cx="1009800" cy="630360"/>
                  <a:chOff x="7783920" y="216720"/>
                  <a:chExt cx="1009800" cy="630360"/>
                </a:xfrm>
              </p:grpSpPr>
              <p:sp>
                <p:nvSpPr>
                  <p:cNvPr id="323" name="Freeform 74"/>
                  <p:cNvSpPr/>
                  <p:nvPr/>
                </p:nvSpPr>
                <p:spPr>
                  <a:xfrm rot="20280000">
                    <a:off x="7792920" y="558720"/>
                    <a:ext cx="64332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75"/>
                  <p:cNvSpPr/>
                  <p:nvPr/>
                </p:nvSpPr>
                <p:spPr>
                  <a:xfrm rot="20280000">
                    <a:off x="8408880" y="271440"/>
                    <a:ext cx="34596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Group 76"/>
                <p:cNvGrpSpPr/>
                <p:nvPr/>
              </p:nvGrpSpPr>
              <p:grpSpPr>
                <a:xfrm>
                  <a:off x="7737840" y="67680"/>
                  <a:ext cx="962640" cy="826200"/>
                  <a:chOff x="7737840" y="67680"/>
                  <a:chExt cx="962640" cy="826200"/>
                </a:xfrm>
              </p:grpSpPr>
              <p:sp>
                <p:nvSpPr>
                  <p:cNvPr id="326" name="Freeform 77"/>
                  <p:cNvSpPr/>
                  <p:nvPr/>
                </p:nvSpPr>
                <p:spPr>
                  <a:xfrm rot="19680000">
                    <a:off x="7737120" y="559080"/>
                    <a:ext cx="63432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Freeform 78"/>
                  <p:cNvSpPr/>
                  <p:nvPr/>
                </p:nvSpPr>
                <p:spPr>
                  <a:xfrm rot="19680000">
                    <a:off x="8310960" y="136080"/>
                    <a:ext cx="340200" cy="28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Freeform 79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80"/>
                <p:cNvSpPr/>
                <p:nvPr/>
              </p:nvSpPr>
              <p:spPr>
                <a:xfrm flipH="1" rot="4560000">
                  <a:off x="7432560" y="101160"/>
                  <a:ext cx="28260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81"/>
                <p:cNvGrpSpPr/>
                <p:nvPr/>
              </p:nvGrpSpPr>
              <p:grpSpPr>
                <a:xfrm>
                  <a:off x="7552440" y="-45000"/>
                  <a:ext cx="661680" cy="826200"/>
                  <a:chOff x="7552440" y="-45000"/>
                  <a:chExt cx="661680" cy="826200"/>
                </a:xfrm>
              </p:grpSpPr>
              <p:sp>
                <p:nvSpPr>
                  <p:cNvPr id="331" name="Freeform 82"/>
                  <p:cNvSpPr/>
                  <p:nvPr/>
                </p:nvSpPr>
                <p:spPr>
                  <a:xfrm rot="17760000">
                    <a:off x="7461000" y="431640"/>
                    <a:ext cx="5511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83"/>
                  <p:cNvSpPr/>
                  <p:nvPr/>
                </p:nvSpPr>
                <p:spPr>
                  <a:xfrm rot="17760000">
                    <a:off x="7901280" y="24840"/>
                    <a:ext cx="29556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84"/>
                <p:cNvGrpSpPr/>
                <p:nvPr/>
              </p:nvGrpSpPr>
              <p:grpSpPr>
                <a:xfrm>
                  <a:off x="7488360" y="-30960"/>
                  <a:ext cx="1022040" cy="804960"/>
                  <a:chOff x="7488360" y="-30960"/>
                  <a:chExt cx="1022040" cy="804960"/>
                </a:xfrm>
              </p:grpSpPr>
              <p:sp>
                <p:nvSpPr>
                  <p:cNvPr id="334" name="Freeform 85"/>
                  <p:cNvSpPr/>
                  <p:nvPr/>
                </p:nvSpPr>
                <p:spPr>
                  <a:xfrm rot="18840000">
                    <a:off x="7473240" y="386280"/>
                    <a:ext cx="58716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86"/>
                  <p:cNvSpPr/>
                  <p:nvPr/>
                </p:nvSpPr>
                <p:spPr>
                  <a:xfrm rot="18840000">
                    <a:off x="8126280" y="32400"/>
                    <a:ext cx="314640" cy="32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87"/>
                <p:cNvGrpSpPr/>
                <p:nvPr/>
              </p:nvGrpSpPr>
              <p:grpSpPr>
                <a:xfrm>
                  <a:off x="7675200" y="-7200"/>
                  <a:ext cx="227160" cy="752400"/>
                  <a:chOff x="7675200" y="-7200"/>
                  <a:chExt cx="227160" cy="752400"/>
                </a:xfrm>
              </p:grpSpPr>
              <p:sp>
                <p:nvSpPr>
                  <p:cNvPr id="337" name="Freeform 88"/>
                  <p:cNvSpPr/>
                  <p:nvPr/>
                </p:nvSpPr>
                <p:spPr>
                  <a:xfrm rot="16680000">
                    <a:off x="7494120" y="464760"/>
                    <a:ext cx="4932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89"/>
                  <p:cNvSpPr/>
                  <p:nvPr/>
                </p:nvSpPr>
                <p:spPr>
                  <a:xfrm rot="16680000">
                    <a:off x="7702920" y="80640"/>
                    <a:ext cx="263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90"/>
                <p:cNvGrpSpPr/>
                <p:nvPr/>
              </p:nvGrpSpPr>
              <p:grpSpPr>
                <a:xfrm>
                  <a:off x="6610680" y="937800"/>
                  <a:ext cx="1243080" cy="1316880"/>
                  <a:chOff x="6610680" y="937800"/>
                  <a:chExt cx="1243080" cy="1316880"/>
                </a:xfrm>
              </p:grpSpPr>
              <p:sp>
                <p:nvSpPr>
                  <p:cNvPr id="340" name="Freeform 91"/>
                  <p:cNvSpPr/>
                  <p:nvPr/>
                </p:nvSpPr>
                <p:spPr>
                  <a:xfrm flipH="1" rot="18360000">
                    <a:off x="7049520" y="1239120"/>
                    <a:ext cx="878760" cy="26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92"/>
                  <p:cNvSpPr/>
                  <p:nvPr/>
                </p:nvSpPr>
                <p:spPr>
                  <a:xfrm flipH="1" rot="18360000">
                    <a:off x="6678720" y="1738080"/>
                    <a:ext cx="472320" cy="41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93"/>
                <p:cNvGrpSpPr/>
                <p:nvPr/>
              </p:nvGrpSpPr>
              <p:grpSpPr>
                <a:xfrm>
                  <a:off x="6943680" y="963720"/>
                  <a:ext cx="831240" cy="1320120"/>
                  <a:chOff x="6943680" y="963720"/>
                  <a:chExt cx="831240" cy="1320120"/>
                </a:xfrm>
              </p:grpSpPr>
              <p:sp>
                <p:nvSpPr>
                  <p:cNvPr id="343" name="Freeform 94"/>
                  <p:cNvSpPr/>
                  <p:nvPr/>
                </p:nvSpPr>
                <p:spPr>
                  <a:xfrm flipH="1" rot="17520000">
                    <a:off x="7083000" y="1272960"/>
                    <a:ext cx="8366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5"/>
                  <p:cNvSpPr/>
                  <p:nvPr/>
                </p:nvSpPr>
                <p:spPr>
                  <a:xfrm flipH="1" rot="17520000">
                    <a:off x="6984720" y="1804680"/>
                    <a:ext cx="450000" cy="39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96"/>
                <p:cNvGrpSpPr/>
                <p:nvPr/>
              </p:nvGrpSpPr>
              <p:grpSpPr>
                <a:xfrm>
                  <a:off x="7273440" y="990000"/>
                  <a:ext cx="476280" cy="1256040"/>
                  <a:chOff x="7273440" y="990000"/>
                  <a:chExt cx="476280" cy="1256040"/>
                </a:xfrm>
              </p:grpSpPr>
              <p:sp>
                <p:nvSpPr>
                  <p:cNvPr id="346" name="Freeform 97"/>
                  <p:cNvSpPr/>
                  <p:nvPr/>
                </p:nvSpPr>
                <p:spPr>
                  <a:xfrm flipH="1" rot="16860000">
                    <a:off x="7170120" y="1299240"/>
                    <a:ext cx="8017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98"/>
                  <p:cNvSpPr/>
                  <p:nvPr/>
                </p:nvSpPr>
                <p:spPr>
                  <a:xfrm flipH="1" rot="16860000">
                    <a:off x="7259400" y="1840680"/>
                    <a:ext cx="42912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99"/>
                <p:cNvGrpSpPr/>
                <p:nvPr/>
              </p:nvGrpSpPr>
              <p:grpSpPr>
                <a:xfrm>
                  <a:off x="7558560" y="921960"/>
                  <a:ext cx="1288080" cy="1293840"/>
                  <a:chOff x="7558560" y="921960"/>
                  <a:chExt cx="1288080" cy="1293840"/>
                </a:xfrm>
              </p:grpSpPr>
              <p:sp>
                <p:nvSpPr>
                  <p:cNvPr id="349" name="Freeform 100"/>
                  <p:cNvSpPr/>
                  <p:nvPr/>
                </p:nvSpPr>
                <p:spPr>
                  <a:xfrm rot="3120000">
                    <a:off x="7494480" y="1214640"/>
                    <a:ext cx="8719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101"/>
                  <p:cNvSpPr/>
                  <p:nvPr/>
                </p:nvSpPr>
                <p:spPr>
                  <a:xfrm rot="3120000">
                    <a:off x="8305200" y="1695960"/>
                    <a:ext cx="468000" cy="41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102"/>
                <p:cNvGrpSpPr/>
                <p:nvPr/>
              </p:nvGrpSpPr>
              <p:grpSpPr>
                <a:xfrm>
                  <a:off x="7600320" y="948240"/>
                  <a:ext cx="1002960" cy="1333800"/>
                  <a:chOff x="7600320" y="948240"/>
                  <a:chExt cx="1002960" cy="1333800"/>
                </a:xfrm>
              </p:grpSpPr>
              <p:sp>
                <p:nvSpPr>
                  <p:cNvPr id="352" name="Freeform 103"/>
                  <p:cNvSpPr/>
                  <p:nvPr/>
                </p:nvSpPr>
                <p:spPr>
                  <a:xfrm rot="3720000">
                    <a:off x="7482600" y="1260360"/>
                    <a:ext cx="8571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104"/>
                  <p:cNvSpPr/>
                  <p:nvPr/>
                </p:nvSpPr>
                <p:spPr>
                  <a:xfrm rot="3720000">
                    <a:off x="8093160" y="1792440"/>
                    <a:ext cx="459720" cy="38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05"/>
                <p:cNvGrpSpPr/>
                <p:nvPr/>
              </p:nvGrpSpPr>
              <p:grpSpPr>
                <a:xfrm>
                  <a:off x="7626240" y="995400"/>
                  <a:ext cx="701640" cy="1289520"/>
                  <a:chOff x="7626240" y="995400"/>
                  <a:chExt cx="701640" cy="1289520"/>
                </a:xfrm>
              </p:grpSpPr>
              <p:sp>
                <p:nvSpPr>
                  <p:cNvPr id="355" name="Freeform 106"/>
                  <p:cNvSpPr/>
                  <p:nvPr/>
                </p:nvSpPr>
                <p:spPr>
                  <a:xfrm rot="4260000">
                    <a:off x="7440480" y="1320840"/>
                    <a:ext cx="833040" cy="20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107"/>
                  <p:cNvSpPr/>
                  <p:nvPr/>
                </p:nvSpPr>
                <p:spPr>
                  <a:xfrm rot="4260000">
                    <a:off x="7882920" y="1864800"/>
                    <a:ext cx="44604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08"/>
                <p:cNvGrpSpPr/>
                <p:nvPr/>
              </p:nvGrpSpPr>
              <p:grpSpPr>
                <a:xfrm>
                  <a:off x="7681320" y="1051200"/>
                  <a:ext cx="368280" cy="1180080"/>
                  <a:chOff x="7681320" y="1051200"/>
                  <a:chExt cx="368280" cy="1180080"/>
                </a:xfrm>
              </p:grpSpPr>
              <p:sp>
                <p:nvSpPr>
                  <p:cNvPr id="358" name="Freeform 109"/>
                  <p:cNvSpPr/>
                  <p:nvPr/>
                </p:nvSpPr>
                <p:spPr>
                  <a:xfrm rot="4920000">
                    <a:off x="7437600" y="1355760"/>
                    <a:ext cx="76752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10"/>
                  <p:cNvSpPr/>
                  <p:nvPr/>
                </p:nvSpPr>
                <p:spPr>
                  <a:xfrm rot="4920000">
                    <a:off x="7677720" y="1869480"/>
                    <a:ext cx="4114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Group 111"/>
                <p:cNvGrpSpPr/>
                <p:nvPr/>
              </p:nvGrpSpPr>
              <p:grpSpPr>
                <a:xfrm>
                  <a:off x="7480080" y="1074240"/>
                  <a:ext cx="333360" cy="1143720"/>
                  <a:chOff x="7480080" y="1074240"/>
                  <a:chExt cx="333360" cy="1143720"/>
                </a:xfrm>
              </p:grpSpPr>
              <p:sp>
                <p:nvSpPr>
                  <p:cNvPr id="361" name="Freeform 112"/>
                  <p:cNvSpPr/>
                  <p:nvPr/>
                </p:nvSpPr>
                <p:spPr>
                  <a:xfrm rot="5760000">
                    <a:off x="7342200" y="1389600"/>
                    <a:ext cx="7437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Freeform 113"/>
                  <p:cNvSpPr/>
                  <p:nvPr/>
                </p:nvSpPr>
                <p:spPr>
                  <a:xfrm rot="5760000">
                    <a:off x="7395840" y="1915560"/>
                    <a:ext cx="39816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3" name="Freeform 114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AutoShape 115"/>
              <p:cNvSpPr/>
              <p:nvPr/>
            </p:nvSpPr>
            <p:spPr>
              <a:xfrm flipH="1">
                <a:off x="6845400" y="906480"/>
                <a:ext cx="2179440" cy="2405160"/>
              </a:xfrm>
              <a:custGeom>
                <a:avLst/>
                <a:gdLst>
                  <a:gd name="textAreaLeft" fmla="*/ 1089000 w 2179440"/>
                  <a:gd name="textAreaRight" fmla="*/ 2179800 w 2179440"/>
                  <a:gd name="textAreaTop" fmla="*/ 42840 h 2405160"/>
                  <a:gd name="textAreaBottom" fmla="*/ 1224000 h 2405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13532" y="351"/>
                    </a:lnTo>
                    <a:close/>
                  </a:path>
                  <a:path fill="none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AutoShape 116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120 w 1552680"/>
                  <a:gd name="textAreaRight" fmla="*/ 1459080 w 1552680"/>
                  <a:gd name="textAreaTop" fmla="*/ 104940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1" y="16025"/>
                    </a:moveTo>
                    <a:cubicBezTo>
                      <a:pt x="18350" y="19464"/>
                      <a:pt x="14730" y="21599"/>
                      <a:pt x="10800" y="21600"/>
                    </a:cubicBezTo>
                    <a:cubicBezTo>
                      <a:pt x="7234" y="21600"/>
                      <a:pt x="3899" y="19840"/>
                      <a:pt x="1886" y="16897"/>
                    </a:cubicBezTo>
                    <a:lnTo>
                      <a:pt x="10800" y="10800"/>
                    </a:lnTo>
                    <a:lnTo>
                      <a:pt x="20251" y="16025"/>
                    </a:lnTo>
                    <a:close/>
                  </a:path>
                  <a:path fill="none" w="21600" h="21600">
                    <a:moveTo>
                      <a:pt x="20251" y="16025"/>
                    </a:moveTo>
                    <a:cubicBezTo>
                      <a:pt x="18350" y="19464"/>
                      <a:pt x="14730" y="21599"/>
                      <a:pt x="10800" y="21600"/>
                    </a:cubicBezTo>
                    <a:cubicBezTo>
                      <a:pt x="7234" y="21600"/>
                      <a:pt x="3899" y="19840"/>
                      <a:pt x="1886" y="16897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AutoShape 117"/>
              <p:cNvSpPr/>
              <p:nvPr/>
            </p:nvSpPr>
            <p:spPr>
              <a:xfrm flipH="1">
                <a:off x="6954120" y="758880"/>
                <a:ext cx="955800" cy="2398680"/>
              </a:xfrm>
              <a:custGeom>
                <a:avLst/>
                <a:gdLst>
                  <a:gd name="textAreaLeft" fmla="*/ 318600 w 955800"/>
                  <a:gd name="textAreaRight" fmla="*/ 955800 w 95580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7130" y="642"/>
                    </a:lnTo>
                    <a:close/>
                  </a:path>
                  <a:path fill="none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AutoShape 118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30200 w 1465200"/>
                  <a:gd name="textAreaRight" fmla="*/ 1465560 w 1465200"/>
                  <a:gd name="textAreaTop" fmla="*/ 0 h 2395800"/>
                  <a:gd name="textAreaBottom" fmla="*/ 121932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3" y="953"/>
                    </a:moveTo>
                    <a:cubicBezTo>
                      <a:pt x="7757" y="324"/>
                      <a:pt x="9270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6363" y="953"/>
                    </a:lnTo>
                    <a:close/>
                  </a:path>
                  <a:path fill="none" w="21600" h="21600">
                    <a:moveTo>
                      <a:pt x="6363" y="953"/>
                    </a:moveTo>
                    <a:cubicBezTo>
                      <a:pt x="7757" y="324"/>
                      <a:pt x="9270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AutoShape 119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4280 w 1533600"/>
                  <a:gd name="textAreaRight" fmla="*/ 1533960 w 153360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372" y="2120"/>
                    </a:lnTo>
                    <a:close/>
                  </a:path>
                  <a:path fill="none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AutoShape 120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520 w 243000"/>
                  <a:gd name="textAreaRight" fmla="*/ 243360 w 24300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AutoShape 121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12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AutoShape 122"/>
              <p:cNvSpPr/>
              <p:nvPr/>
            </p:nvSpPr>
            <p:spPr>
              <a:xfrm>
                <a:off x="7678800" y="606600"/>
                <a:ext cx="911160" cy="2398680"/>
              </a:xfrm>
              <a:custGeom>
                <a:avLst/>
                <a:gdLst>
                  <a:gd name="textAreaLeft" fmla="*/ 180720 w 911160"/>
                  <a:gd name="textAreaRight" fmla="*/ 911520 w 91116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23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24"/>
              <p:cNvSpPr/>
              <p:nvPr/>
            </p:nvSpPr>
            <p:spPr>
              <a:xfrm flipV="1" rot="19680000">
                <a:off x="7611840" y="1102680"/>
                <a:ext cx="2253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AutoShape 125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360 w 1538280"/>
                  <a:gd name="textAreaRight" fmla="*/ 1538280 w 1538280"/>
                  <a:gd name="textAreaTop" fmla="*/ 0 h 2398680"/>
                  <a:gd name="textAreaBottom" fmla="*/ 122076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cubicBezTo>
                      <a:pt x="5208" y="1129"/>
                      <a:pt x="7946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3185" y="3141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cubicBezTo>
                      <a:pt x="5208" y="1129"/>
                      <a:pt x="7946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AutoShape 126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2640 w 1281240"/>
                  <a:gd name="textAreaTop" fmla="*/ 0 h 2363760"/>
                  <a:gd name="textAreaBottom" fmla="*/ 118116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4" y="5007"/>
                    </a:moveTo>
                    <a:cubicBezTo>
                      <a:pt x="3666" y="1888"/>
                      <a:pt x="7105" y="-1"/>
                      <a:pt x="10800" y="0"/>
                    </a:cubicBezTo>
                    <a:cubicBezTo>
                      <a:pt x="13286" y="0"/>
                      <a:pt x="15696" y="857"/>
                      <a:pt x="17623" y="2429"/>
                    </a:cubicBezTo>
                    <a:lnTo>
                      <a:pt x="10800" y="10800"/>
                    </a:lnTo>
                    <a:lnTo>
                      <a:pt x="1684" y="5007"/>
                    </a:lnTo>
                    <a:close/>
                  </a:path>
                  <a:path fill="none" w="21600" h="21600">
                    <a:moveTo>
                      <a:pt x="1684" y="5007"/>
                    </a:moveTo>
                    <a:cubicBezTo>
                      <a:pt x="3666" y="1888"/>
                      <a:pt x="7105" y="-1"/>
                      <a:pt x="10800" y="0"/>
                    </a:cubicBezTo>
                    <a:cubicBezTo>
                      <a:pt x="13286" y="0"/>
                      <a:pt x="15696" y="857"/>
                      <a:pt x="17623" y="2429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AutoShape 127"/>
              <p:cNvSpPr/>
              <p:nvPr/>
            </p:nvSpPr>
            <p:spPr>
              <a:xfrm>
                <a:off x="7615080" y="657360"/>
                <a:ext cx="543240" cy="2365200"/>
              </a:xfrm>
              <a:custGeom>
                <a:avLst/>
                <a:gdLst>
                  <a:gd name="textAreaLeft" fmla="*/ 108000 w 543240"/>
                  <a:gd name="textAreaRight" fmla="*/ 498960 w 543240"/>
                  <a:gd name="textAreaTop" fmla="*/ 0 h 2365200"/>
                  <a:gd name="textAreaBottom" fmla="*/ 1182600 h 2365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4398" y="0"/>
                      <a:pt x="17760" y="1792"/>
                      <a:pt x="19766" y="4779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4398" y="0"/>
                      <a:pt x="17760" y="1792"/>
                      <a:pt x="19766" y="4779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28"/>
              <p:cNvSpPr/>
              <p:nvPr/>
            </p:nvSpPr>
            <p:spPr>
              <a:xfrm flipH="1">
                <a:off x="6554160" y="1285920"/>
                <a:ext cx="555480" cy="780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129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30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131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32"/>
              <p:cNvSpPr/>
              <p:nvPr/>
            </p:nvSpPr>
            <p:spPr>
              <a:xfrm>
                <a:off x="8294760" y="754200"/>
                <a:ext cx="77940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133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34"/>
              <p:cNvSpPr/>
              <p:nvPr/>
            </p:nvSpPr>
            <p:spPr>
              <a:xfrm rot="20220000">
                <a:off x="7986600" y="78408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135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86D505C-4958-490A-8E10-1D0F3690637F}" type="slidenum">
              <a:rPr b="0" lang="ru-RU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 type="dt" idx="1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 type="sldNum" idx="1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E5E0CB-2F8E-4C2E-9719-9A7A233C11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 type="dt" idx="1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 type="sldNum" idx="1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46F1DE-1218-4DB1-BB00-750618539E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4F5FCA-F324-455A-B390-6D63A51DCB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EC03E0-AA9A-4C9F-8198-FC726CFA97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 type="dt" idx="1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 type="sldNum" idx="1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44C770-B189-4FAB-A0E8-C5C064FC29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1"/>
          <p:cNvGrpSpPr/>
          <p:nvPr/>
        </p:nvGrpSpPr>
        <p:grpSpPr>
          <a:xfrm>
            <a:off x="1895760" y="163800"/>
            <a:ext cx="7232040" cy="8093880"/>
            <a:chOff x="1895760" y="163800"/>
            <a:chExt cx="7232040" cy="8093880"/>
          </a:xfrm>
        </p:grpSpPr>
        <p:grpSp>
          <p:nvGrpSpPr>
            <p:cNvPr id="427" name="Group 2"/>
            <p:cNvGrpSpPr/>
            <p:nvPr/>
          </p:nvGrpSpPr>
          <p:grpSpPr>
            <a:xfrm>
              <a:off x="3483000" y="954000"/>
              <a:ext cx="944640" cy="708120"/>
              <a:chOff x="3483000" y="954000"/>
              <a:chExt cx="944640" cy="708120"/>
            </a:xfrm>
          </p:grpSpPr>
          <p:sp>
            <p:nvSpPr>
              <p:cNvPr id="428" name="Oval 3"/>
              <p:cNvSpPr/>
              <p:nvPr/>
            </p:nvSpPr>
            <p:spPr>
              <a:xfrm>
                <a:off x="348300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4"/>
              <p:cNvSpPr/>
              <p:nvPr/>
            </p:nvSpPr>
            <p:spPr>
              <a:xfrm>
                <a:off x="3822120" y="1262880"/>
                <a:ext cx="22824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5"/>
            <p:cNvGrpSpPr/>
            <p:nvPr/>
          </p:nvGrpSpPr>
          <p:grpSpPr>
            <a:xfrm>
              <a:off x="1895760" y="163800"/>
              <a:ext cx="7232040" cy="7867440"/>
              <a:chOff x="1895760" y="163800"/>
              <a:chExt cx="7232040" cy="7867440"/>
            </a:xfrm>
          </p:grpSpPr>
          <p:grpSp>
            <p:nvGrpSpPr>
              <p:cNvPr id="431" name="Group 6"/>
              <p:cNvGrpSpPr/>
              <p:nvPr/>
            </p:nvGrpSpPr>
            <p:grpSpPr>
              <a:xfrm>
                <a:off x="1895760" y="163800"/>
                <a:ext cx="7118280" cy="5626800"/>
                <a:chOff x="1895760" y="163800"/>
                <a:chExt cx="7118280" cy="5626800"/>
              </a:xfrm>
            </p:grpSpPr>
            <p:grpSp>
              <p:nvGrpSpPr>
                <p:cNvPr id="432" name="Group 7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433" name="Oval 8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9"/>
                  <p:cNvSpPr/>
                  <p:nvPr/>
                </p:nvSpPr>
                <p:spPr>
                  <a:xfrm>
                    <a:off x="5109480" y="2235960"/>
                    <a:ext cx="713880" cy="499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0"/>
                <p:cNvGrpSpPr/>
                <p:nvPr/>
              </p:nvGrpSpPr>
              <p:grpSpPr>
                <a:xfrm>
                  <a:off x="1895760" y="163800"/>
                  <a:ext cx="7118280" cy="5626800"/>
                  <a:chOff x="1895760" y="163800"/>
                  <a:chExt cx="7118280" cy="5626800"/>
                </a:xfrm>
              </p:grpSpPr>
              <p:grpSp>
                <p:nvGrpSpPr>
                  <p:cNvPr id="436" name="Group 11"/>
                  <p:cNvGrpSpPr/>
                  <p:nvPr/>
                </p:nvGrpSpPr>
                <p:grpSpPr>
                  <a:xfrm>
                    <a:off x="5137200" y="2395440"/>
                    <a:ext cx="3421080" cy="2859120"/>
                    <a:chOff x="5137200" y="2395440"/>
                    <a:chExt cx="3421080" cy="2859120"/>
                  </a:xfrm>
                </p:grpSpPr>
                <p:sp>
                  <p:nvSpPr>
                    <p:cNvPr id="437" name="Freeform 12"/>
                    <p:cNvSpPr/>
                    <p:nvPr/>
                  </p:nvSpPr>
                  <p:spPr>
                    <a:xfrm rot="2700000">
                      <a:off x="5063040" y="3020760"/>
                      <a:ext cx="2030760" cy="63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13"/>
                    <p:cNvSpPr/>
                    <p:nvPr/>
                  </p:nvSpPr>
                  <p:spPr>
                    <a:xfrm rot="2700000">
                      <a:off x="7277040" y="4019760"/>
                      <a:ext cx="1088640" cy="99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14"/>
                  <p:cNvGrpSpPr/>
                  <p:nvPr/>
                </p:nvGrpSpPr>
                <p:grpSpPr>
                  <a:xfrm>
                    <a:off x="5801760" y="1564560"/>
                    <a:ext cx="3212280" cy="3359880"/>
                    <a:chOff x="5801760" y="1564560"/>
                    <a:chExt cx="3212280" cy="3359880"/>
                  </a:xfrm>
                </p:grpSpPr>
                <p:sp>
                  <p:nvSpPr>
                    <p:cNvPr id="440" name="Freeform 15"/>
                    <p:cNvSpPr/>
                    <p:nvPr/>
                  </p:nvSpPr>
                  <p:spPr>
                    <a:xfrm rot="2100000">
                      <a:off x="5787720" y="2146680"/>
                      <a:ext cx="2237760" cy="65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16"/>
                    <p:cNvSpPr/>
                    <p:nvPr/>
                  </p:nvSpPr>
                  <p:spPr>
                    <a:xfrm rot="2100000">
                      <a:off x="7625160" y="3639600"/>
                      <a:ext cx="1200600" cy="103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17"/>
                  <p:cNvGrpSpPr/>
                  <p:nvPr/>
                </p:nvGrpSpPr>
                <p:grpSpPr>
                  <a:xfrm>
                    <a:off x="5762160" y="1618200"/>
                    <a:ext cx="3245040" cy="2645640"/>
                    <a:chOff x="5762160" y="1618200"/>
                    <a:chExt cx="3245040" cy="2645640"/>
                  </a:xfrm>
                </p:grpSpPr>
                <p:sp>
                  <p:nvSpPr>
                    <p:cNvPr id="443" name="Freeform 18"/>
                    <p:cNvSpPr/>
                    <p:nvPr/>
                  </p:nvSpPr>
                  <p:spPr>
                    <a:xfrm rot="1560000">
                      <a:off x="5776920" y="2064240"/>
                      <a:ext cx="2167560" cy="56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19"/>
                    <p:cNvSpPr/>
                    <p:nvPr/>
                  </p:nvSpPr>
                  <p:spPr>
                    <a:xfrm rot="1560000">
                      <a:off x="7706160" y="3162240"/>
                      <a:ext cx="1164240" cy="89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20"/>
                  <p:cNvGrpSpPr/>
                  <p:nvPr/>
                </p:nvGrpSpPr>
                <p:grpSpPr>
                  <a:xfrm>
                    <a:off x="5731560" y="1655280"/>
                    <a:ext cx="3281760" cy="2073600"/>
                    <a:chOff x="5731560" y="1655280"/>
                    <a:chExt cx="3281760" cy="2073600"/>
                  </a:xfrm>
                </p:grpSpPr>
                <p:sp>
                  <p:nvSpPr>
                    <p:cNvPr id="446" name="Freeform 21"/>
                    <p:cNvSpPr/>
                    <p:nvPr/>
                  </p:nvSpPr>
                  <p:spPr>
                    <a:xfrm rot="1080000">
                      <a:off x="5769000" y="1969200"/>
                      <a:ext cx="2123640" cy="57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22"/>
                    <p:cNvSpPr/>
                    <p:nvPr/>
                  </p:nvSpPr>
                  <p:spPr>
                    <a:xfrm rot="1080000">
                      <a:off x="7759080" y="2666160"/>
                      <a:ext cx="1141560" cy="90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23"/>
                  <p:cNvGrpSpPr/>
                  <p:nvPr/>
                </p:nvGrpSpPr>
                <p:grpSpPr>
                  <a:xfrm>
                    <a:off x="5781960" y="1746360"/>
                    <a:ext cx="3008160" cy="1200960"/>
                    <a:chOff x="5781960" y="1746360"/>
                    <a:chExt cx="3008160" cy="1200960"/>
                  </a:xfrm>
                </p:grpSpPr>
                <p:sp>
                  <p:nvSpPr>
                    <p:cNvPr id="449" name="Freeform 24"/>
                    <p:cNvSpPr/>
                    <p:nvPr/>
                  </p:nvSpPr>
                  <p:spPr>
                    <a:xfrm rot="480000">
                      <a:off x="5805360" y="1878840"/>
                      <a:ext cx="19386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25"/>
                    <p:cNvSpPr/>
                    <p:nvPr/>
                  </p:nvSpPr>
                  <p:spPr>
                    <a:xfrm rot="480000">
                      <a:off x="7701480" y="2133720"/>
                      <a:ext cx="1041840" cy="74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26"/>
                  <p:cNvGrpSpPr/>
                  <p:nvPr/>
                </p:nvGrpSpPr>
                <p:grpSpPr>
                  <a:xfrm>
                    <a:off x="5847120" y="1799640"/>
                    <a:ext cx="2668680" cy="475560"/>
                    <a:chOff x="5847120" y="1799640"/>
                    <a:chExt cx="2668680" cy="475560"/>
                  </a:xfrm>
                </p:grpSpPr>
                <p:sp>
                  <p:nvSpPr>
                    <p:cNvPr id="452" name="Freeform 27"/>
                    <p:cNvSpPr/>
                    <p:nvPr/>
                  </p:nvSpPr>
                  <p:spPr>
                    <a:xfrm rot="21480000">
                      <a:off x="5851440" y="1841400"/>
                      <a:ext cx="1733400" cy="28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28"/>
                    <p:cNvSpPr/>
                    <p:nvPr/>
                  </p:nvSpPr>
                  <p:spPr>
                    <a:xfrm rot="21480000">
                      <a:off x="7576560" y="1815480"/>
                      <a:ext cx="931680" cy="44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29"/>
                  <p:cNvGrpSpPr/>
                  <p:nvPr/>
                </p:nvGrpSpPr>
                <p:grpSpPr>
                  <a:xfrm>
                    <a:off x="5763240" y="1211400"/>
                    <a:ext cx="2449440" cy="1057680"/>
                    <a:chOff x="5763240" y="1211400"/>
                    <a:chExt cx="2449440" cy="1057680"/>
                  </a:xfrm>
                </p:grpSpPr>
                <p:sp>
                  <p:nvSpPr>
                    <p:cNvPr id="455" name="Freeform 30"/>
                    <p:cNvSpPr/>
                    <p:nvPr/>
                  </p:nvSpPr>
                  <p:spPr>
                    <a:xfrm rot="20760000">
                      <a:off x="5787720" y="1692720"/>
                      <a:ext cx="1551240" cy="39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31"/>
                    <p:cNvSpPr/>
                    <p:nvPr/>
                  </p:nvSpPr>
                  <p:spPr>
                    <a:xfrm rot="20760000">
                      <a:off x="7317360" y="1302480"/>
                      <a:ext cx="832320" cy="61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32"/>
                  <p:cNvGrpSpPr/>
                  <p:nvPr/>
                </p:nvGrpSpPr>
                <p:grpSpPr>
                  <a:xfrm>
                    <a:off x="2407320" y="2545200"/>
                    <a:ext cx="3418560" cy="2859840"/>
                    <a:chOff x="2407320" y="2545200"/>
                    <a:chExt cx="3418560" cy="2859840"/>
                  </a:xfrm>
                </p:grpSpPr>
                <p:sp>
                  <p:nvSpPr>
                    <p:cNvPr id="458" name="Freeform 33"/>
                    <p:cNvSpPr/>
                    <p:nvPr/>
                  </p:nvSpPr>
                  <p:spPr>
                    <a:xfrm flipH="1" rot="18900000">
                      <a:off x="3870000" y="3169440"/>
                      <a:ext cx="2028960" cy="63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34"/>
                    <p:cNvSpPr/>
                    <p:nvPr/>
                  </p:nvSpPr>
                  <p:spPr>
                    <a:xfrm flipH="1" rot="18900000">
                      <a:off x="2600280" y="4167000"/>
                      <a:ext cx="1089360" cy="99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0" name="Group 35"/>
                  <p:cNvGrpSpPr/>
                  <p:nvPr/>
                </p:nvGrpSpPr>
                <p:grpSpPr>
                  <a:xfrm>
                    <a:off x="1895760" y="1783800"/>
                    <a:ext cx="3214800" cy="3361320"/>
                    <a:chOff x="1895760" y="1783800"/>
                    <a:chExt cx="3214800" cy="3361320"/>
                  </a:xfrm>
                </p:grpSpPr>
                <p:sp>
                  <p:nvSpPr>
                    <p:cNvPr id="461" name="Freeform 36"/>
                    <p:cNvSpPr/>
                    <p:nvPr/>
                  </p:nvSpPr>
                  <p:spPr>
                    <a:xfrm flipH="1" rot="19500000">
                      <a:off x="2886120" y="2365920"/>
                      <a:ext cx="2237760" cy="65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Freeform 37"/>
                    <p:cNvSpPr/>
                    <p:nvPr/>
                  </p:nvSpPr>
                  <p:spPr>
                    <a:xfrm flipH="1" rot="19500000">
                      <a:off x="2084040" y="3857760"/>
                      <a:ext cx="1202040" cy="10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3" name="Group 38"/>
                  <p:cNvGrpSpPr/>
                  <p:nvPr/>
                </p:nvGrpSpPr>
                <p:grpSpPr>
                  <a:xfrm>
                    <a:off x="1904760" y="1835280"/>
                    <a:ext cx="3245040" cy="2646000"/>
                    <a:chOff x="1904760" y="1835280"/>
                    <a:chExt cx="3245040" cy="2646000"/>
                  </a:xfrm>
                </p:grpSpPr>
                <p:sp>
                  <p:nvSpPr>
                    <p:cNvPr id="464" name="Freeform 39"/>
                    <p:cNvSpPr/>
                    <p:nvPr/>
                  </p:nvSpPr>
                  <p:spPr>
                    <a:xfrm flipH="1" rot="20040000">
                      <a:off x="2965680" y="2281680"/>
                      <a:ext cx="2169000" cy="56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40"/>
                    <p:cNvSpPr/>
                    <p:nvPr/>
                  </p:nvSpPr>
                  <p:spPr>
                    <a:xfrm flipH="1" rot="20040000">
                      <a:off x="2040480" y="3380760"/>
                      <a:ext cx="1164240" cy="88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Group 41"/>
                  <p:cNvGrpSpPr/>
                  <p:nvPr/>
                </p:nvGrpSpPr>
                <p:grpSpPr>
                  <a:xfrm>
                    <a:off x="1898640" y="1874160"/>
                    <a:ext cx="3281760" cy="2074320"/>
                    <a:chOff x="1898640" y="1874160"/>
                    <a:chExt cx="3281760" cy="2074320"/>
                  </a:xfrm>
                </p:grpSpPr>
                <p:sp>
                  <p:nvSpPr>
                    <p:cNvPr id="467" name="Freeform 42"/>
                    <p:cNvSpPr/>
                    <p:nvPr/>
                  </p:nvSpPr>
                  <p:spPr>
                    <a:xfrm flipH="1" rot="20520000">
                      <a:off x="3016800" y="2188080"/>
                      <a:ext cx="2125440" cy="58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Freeform 43"/>
                    <p:cNvSpPr/>
                    <p:nvPr/>
                  </p:nvSpPr>
                  <p:spPr>
                    <a:xfrm flipH="1" rot="20520000">
                      <a:off x="2010960" y="2884320"/>
                      <a:ext cx="1141920" cy="9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44"/>
                  <p:cNvGrpSpPr/>
                  <p:nvPr/>
                </p:nvGrpSpPr>
                <p:grpSpPr>
                  <a:xfrm>
                    <a:off x="2118600" y="1965600"/>
                    <a:ext cx="3008520" cy="1200600"/>
                    <a:chOff x="2118600" y="1965600"/>
                    <a:chExt cx="3008520" cy="1200600"/>
                  </a:xfrm>
                </p:grpSpPr>
                <p:sp>
                  <p:nvSpPr>
                    <p:cNvPr id="470" name="Freeform 45"/>
                    <p:cNvSpPr/>
                    <p:nvPr/>
                  </p:nvSpPr>
                  <p:spPr>
                    <a:xfrm flipH="1" rot="21120000">
                      <a:off x="3166200" y="2098080"/>
                      <a:ext cx="1937160" cy="47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Freeform 46"/>
                    <p:cNvSpPr/>
                    <p:nvPr/>
                  </p:nvSpPr>
                  <p:spPr>
                    <a:xfrm flipH="1" rot="21120000">
                      <a:off x="2165040" y="2352240"/>
                      <a:ext cx="1039680" cy="74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2" name="Group 47"/>
                  <p:cNvGrpSpPr/>
                  <p:nvPr/>
                </p:nvGrpSpPr>
                <p:grpSpPr>
                  <a:xfrm>
                    <a:off x="2395800" y="2017080"/>
                    <a:ext cx="2669040" cy="475920"/>
                    <a:chOff x="2395800" y="2017080"/>
                    <a:chExt cx="2669040" cy="475920"/>
                  </a:xfrm>
                </p:grpSpPr>
                <p:sp>
                  <p:nvSpPr>
                    <p:cNvPr id="473" name="Freeform 48"/>
                    <p:cNvSpPr/>
                    <p:nvPr/>
                  </p:nvSpPr>
                  <p:spPr>
                    <a:xfrm flipH="1" rot="120000">
                      <a:off x="3323880" y="2057400"/>
                      <a:ext cx="1736640" cy="28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49"/>
                    <p:cNvSpPr/>
                    <p:nvPr/>
                  </p:nvSpPr>
                  <p:spPr>
                    <a:xfrm flipH="1" rot="120000">
                      <a:off x="2403000" y="2032920"/>
                      <a:ext cx="933480" cy="44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Group 50"/>
                  <p:cNvGrpSpPr/>
                  <p:nvPr/>
                </p:nvGrpSpPr>
                <p:grpSpPr>
                  <a:xfrm>
                    <a:off x="2698200" y="1430640"/>
                    <a:ext cx="2449080" cy="1058400"/>
                    <a:chOff x="2698200" y="1430640"/>
                    <a:chExt cx="2449080" cy="1058400"/>
                  </a:xfrm>
                </p:grpSpPr>
                <p:sp>
                  <p:nvSpPr>
                    <p:cNvPr id="476" name="Freeform 51"/>
                    <p:cNvSpPr/>
                    <p:nvPr/>
                  </p:nvSpPr>
                  <p:spPr>
                    <a:xfrm flipH="1" rot="840000">
                      <a:off x="3572640" y="1911960"/>
                      <a:ext cx="154944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Freeform 52"/>
                    <p:cNvSpPr/>
                    <p:nvPr/>
                  </p:nvSpPr>
                  <p:spPr>
                    <a:xfrm flipH="1" rot="840000">
                      <a:off x="2760480" y="1521720"/>
                      <a:ext cx="831600" cy="61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Group 53"/>
                  <p:cNvGrpSpPr/>
                  <p:nvPr/>
                </p:nvGrpSpPr>
                <p:grpSpPr>
                  <a:xfrm>
                    <a:off x="2796840" y="1109520"/>
                    <a:ext cx="2438280" cy="1471680"/>
                    <a:chOff x="2796840" y="1109520"/>
                    <a:chExt cx="2438280" cy="1471680"/>
                  </a:xfrm>
                </p:grpSpPr>
                <p:sp>
                  <p:nvSpPr>
                    <p:cNvPr id="479" name="Freeform 54"/>
                    <p:cNvSpPr/>
                    <p:nvPr/>
                  </p:nvSpPr>
                  <p:spPr>
                    <a:xfrm flipH="1" rot="1260000">
                      <a:off x="3663360" y="1898280"/>
                      <a:ext cx="154728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55"/>
                    <p:cNvSpPr/>
                    <p:nvPr/>
                  </p:nvSpPr>
                  <p:spPr>
                    <a:xfrm flipH="1" rot="1260000">
                      <a:off x="2886840" y="1236240"/>
                      <a:ext cx="83016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56"/>
                  <p:cNvGrpSpPr/>
                  <p:nvPr/>
                </p:nvGrpSpPr>
                <p:grpSpPr>
                  <a:xfrm>
                    <a:off x="3038400" y="663480"/>
                    <a:ext cx="2282760" cy="2059200"/>
                    <a:chOff x="3038400" y="663480"/>
                    <a:chExt cx="2282760" cy="2059200"/>
                  </a:xfrm>
                </p:grpSpPr>
                <p:sp>
                  <p:nvSpPr>
                    <p:cNvPr id="482" name="Freeform 57"/>
                    <p:cNvSpPr/>
                    <p:nvPr/>
                  </p:nvSpPr>
                  <p:spPr>
                    <a:xfrm flipH="1" rot="2040000">
                      <a:off x="3815280" y="1900800"/>
                      <a:ext cx="1512720" cy="43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Freeform 58"/>
                    <p:cNvSpPr/>
                    <p:nvPr/>
                  </p:nvSpPr>
                  <p:spPr>
                    <a:xfrm flipH="1" rot="2040000">
                      <a:off x="3160440" y="831600"/>
                      <a:ext cx="811440" cy="68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Group 59"/>
                  <p:cNvGrpSpPr/>
                  <p:nvPr/>
                </p:nvGrpSpPr>
                <p:grpSpPr>
                  <a:xfrm>
                    <a:off x="3307680" y="259200"/>
                    <a:ext cx="2056320" cy="2459880"/>
                    <a:chOff x="3307680" y="259200"/>
                    <a:chExt cx="2056320" cy="2459880"/>
                  </a:xfrm>
                </p:grpSpPr>
                <p:sp>
                  <p:nvSpPr>
                    <p:cNvPr id="485" name="Freeform 60"/>
                    <p:cNvSpPr/>
                    <p:nvPr/>
                  </p:nvSpPr>
                  <p:spPr>
                    <a:xfrm flipH="1" rot="2700000">
                      <a:off x="3956040" y="1824480"/>
                      <a:ext cx="1466640" cy="44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Freeform 61"/>
                    <p:cNvSpPr/>
                    <p:nvPr/>
                  </p:nvSpPr>
                  <p:spPr>
                    <a:xfrm flipH="1" rot="2700000">
                      <a:off x="3436200" y="436320"/>
                      <a:ext cx="787680" cy="69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Group 62"/>
                  <p:cNvGrpSpPr/>
                  <p:nvPr/>
                </p:nvGrpSpPr>
                <p:grpSpPr>
                  <a:xfrm>
                    <a:off x="3880080" y="222480"/>
                    <a:ext cx="1938600" cy="1998000"/>
                    <a:chOff x="3880080" y="222480"/>
                    <a:chExt cx="1938600" cy="1998000"/>
                  </a:xfrm>
                </p:grpSpPr>
                <p:sp>
                  <p:nvSpPr>
                    <p:cNvPr id="488" name="Freeform 63"/>
                    <p:cNvSpPr/>
                    <p:nvPr/>
                  </p:nvSpPr>
                  <p:spPr>
                    <a:xfrm flipH="1" rot="3480000">
                      <a:off x="4599720" y="1332360"/>
                      <a:ext cx="1370160" cy="40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Freeform 64"/>
                    <p:cNvSpPr/>
                    <p:nvPr/>
                  </p:nvSpPr>
                  <p:spPr>
                    <a:xfrm flipH="1" rot="3480000">
                      <a:off x="3974400" y="385920"/>
                      <a:ext cx="736200" cy="63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Group 65"/>
                  <p:cNvGrpSpPr/>
                  <p:nvPr/>
                </p:nvGrpSpPr>
                <p:grpSpPr>
                  <a:xfrm>
                    <a:off x="4338000" y="163800"/>
                    <a:ext cx="1458360" cy="2049120"/>
                    <a:chOff x="4338000" y="163800"/>
                    <a:chExt cx="1458360" cy="2049120"/>
                  </a:xfrm>
                </p:grpSpPr>
                <p:sp>
                  <p:nvSpPr>
                    <p:cNvPr id="491" name="Freeform 66"/>
                    <p:cNvSpPr/>
                    <p:nvPr/>
                  </p:nvSpPr>
                  <p:spPr>
                    <a:xfrm flipH="1" rot="4140000">
                      <a:off x="4704480" y="1326600"/>
                      <a:ext cx="134568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67"/>
                    <p:cNvSpPr/>
                    <p:nvPr/>
                  </p:nvSpPr>
                  <p:spPr>
                    <a:xfrm flipH="1" rot="4140000">
                      <a:off x="4383720" y="309960"/>
                      <a:ext cx="723240" cy="59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Group 68"/>
                  <p:cNvGrpSpPr/>
                  <p:nvPr/>
                </p:nvGrpSpPr>
                <p:grpSpPr>
                  <a:xfrm>
                    <a:off x="5638680" y="820440"/>
                    <a:ext cx="2431080" cy="1514520"/>
                    <a:chOff x="5638680" y="820440"/>
                    <a:chExt cx="2431080" cy="1514520"/>
                  </a:xfrm>
                </p:grpSpPr>
                <p:sp>
                  <p:nvSpPr>
                    <p:cNvPr id="494" name="Freeform 69"/>
                    <p:cNvSpPr/>
                    <p:nvPr/>
                  </p:nvSpPr>
                  <p:spPr>
                    <a:xfrm rot="20280000">
                      <a:off x="5660640" y="1640880"/>
                      <a:ext cx="154764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Freeform 70"/>
                    <p:cNvSpPr/>
                    <p:nvPr/>
                  </p:nvSpPr>
                  <p:spPr>
                    <a:xfrm rot="20280000">
                      <a:off x="7145280" y="951840"/>
                      <a:ext cx="831240" cy="65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Group 71"/>
                  <p:cNvGrpSpPr/>
                  <p:nvPr/>
                </p:nvGrpSpPr>
                <p:grpSpPr>
                  <a:xfrm>
                    <a:off x="5529960" y="462240"/>
                    <a:ext cx="2315160" cy="1982520"/>
                    <a:chOff x="5529960" y="462240"/>
                    <a:chExt cx="2315160" cy="1982520"/>
                  </a:xfrm>
                </p:grpSpPr>
                <p:sp>
                  <p:nvSpPr>
                    <p:cNvPr id="497" name="Freeform 72"/>
                    <p:cNvSpPr/>
                    <p:nvPr/>
                  </p:nvSpPr>
                  <p:spPr>
                    <a:xfrm rot="19680000">
                      <a:off x="5529240" y="1640160"/>
                      <a:ext cx="1521360" cy="43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Freeform 73"/>
                    <p:cNvSpPr/>
                    <p:nvPr/>
                  </p:nvSpPr>
                  <p:spPr>
                    <a:xfrm rot="19680000">
                      <a:off x="6908760" y="626760"/>
                      <a:ext cx="817200" cy="68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9" name="Freeform 74"/>
                  <p:cNvSpPr/>
                  <p:nvPr/>
                </p:nvSpPr>
                <p:spPr>
                  <a:xfrm flipH="1" rot="4560000">
                    <a:off x="4764960" y="1466280"/>
                    <a:ext cx="12664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75"/>
                  <p:cNvSpPr/>
                  <p:nvPr/>
                </p:nvSpPr>
                <p:spPr>
                  <a:xfrm flipH="1" rot="4560000">
                    <a:off x="4795560" y="539280"/>
                    <a:ext cx="6807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1" name="Group 76"/>
                  <p:cNvGrpSpPr/>
                  <p:nvPr/>
                </p:nvGrpSpPr>
                <p:grpSpPr>
                  <a:xfrm>
                    <a:off x="5082840" y="187200"/>
                    <a:ext cx="1596960" cy="1989360"/>
                    <a:chOff x="5082840" y="187200"/>
                    <a:chExt cx="1596960" cy="1989360"/>
                  </a:xfrm>
                </p:grpSpPr>
                <p:sp>
                  <p:nvSpPr>
                    <p:cNvPr id="502" name="Freeform 77"/>
                    <p:cNvSpPr/>
                    <p:nvPr/>
                  </p:nvSpPr>
                  <p:spPr>
                    <a:xfrm rot="17760000">
                      <a:off x="4864680" y="1332720"/>
                      <a:ext cx="1326600" cy="34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Freeform 78"/>
                    <p:cNvSpPr/>
                    <p:nvPr/>
                  </p:nvSpPr>
                  <p:spPr>
                    <a:xfrm rot="17760000">
                      <a:off x="5925600" y="354600"/>
                      <a:ext cx="710640" cy="54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Group 79"/>
                  <p:cNvGrpSpPr/>
                  <p:nvPr/>
                </p:nvGrpSpPr>
                <p:grpSpPr>
                  <a:xfrm>
                    <a:off x="4925520" y="222120"/>
                    <a:ext cx="2463840" cy="1936440"/>
                    <a:chOff x="4925520" y="222120"/>
                    <a:chExt cx="2463840" cy="1936440"/>
                  </a:xfrm>
                </p:grpSpPr>
                <p:sp>
                  <p:nvSpPr>
                    <p:cNvPr id="505" name="Freeform 80"/>
                    <p:cNvSpPr/>
                    <p:nvPr/>
                  </p:nvSpPr>
                  <p:spPr>
                    <a:xfrm rot="18840000">
                      <a:off x="4889880" y="1223280"/>
                      <a:ext cx="1415880" cy="50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Freeform 81"/>
                    <p:cNvSpPr/>
                    <p:nvPr/>
                  </p:nvSpPr>
                  <p:spPr>
                    <a:xfrm rot="18840000">
                      <a:off x="6463440" y="375120"/>
                      <a:ext cx="759240" cy="78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Group 82"/>
                  <p:cNvGrpSpPr/>
                  <p:nvPr/>
                </p:nvGrpSpPr>
                <p:grpSpPr>
                  <a:xfrm>
                    <a:off x="5376600" y="278280"/>
                    <a:ext cx="549360" cy="1810440"/>
                    <a:chOff x="5376600" y="278280"/>
                    <a:chExt cx="549360" cy="1810440"/>
                  </a:xfrm>
                </p:grpSpPr>
                <p:sp>
                  <p:nvSpPr>
                    <p:cNvPr id="508" name="Freeform 83"/>
                    <p:cNvSpPr/>
                    <p:nvPr/>
                  </p:nvSpPr>
                  <p:spPr>
                    <a:xfrm rot="16680000">
                      <a:off x="4943160" y="1418760"/>
                      <a:ext cx="117972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84"/>
                    <p:cNvSpPr/>
                    <p:nvPr/>
                  </p:nvSpPr>
                  <p:spPr>
                    <a:xfrm rot="16680000">
                      <a:off x="5448600" y="490680"/>
                      <a:ext cx="6336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Group 85"/>
                  <p:cNvGrpSpPr/>
                  <p:nvPr/>
                </p:nvGrpSpPr>
                <p:grpSpPr>
                  <a:xfrm>
                    <a:off x="2823480" y="2546280"/>
                    <a:ext cx="2992680" cy="3167640"/>
                    <a:chOff x="2823480" y="2546280"/>
                    <a:chExt cx="2992680" cy="3167640"/>
                  </a:xfrm>
                </p:grpSpPr>
                <p:sp>
                  <p:nvSpPr>
                    <p:cNvPr id="511" name="Freeform 86"/>
                    <p:cNvSpPr/>
                    <p:nvPr/>
                  </p:nvSpPr>
                  <p:spPr>
                    <a:xfrm flipH="1" rot="18360000">
                      <a:off x="3884040" y="3270600"/>
                      <a:ext cx="2112480" cy="63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87"/>
                    <p:cNvSpPr/>
                    <p:nvPr/>
                  </p:nvSpPr>
                  <p:spPr>
                    <a:xfrm flipH="1" rot="18360000">
                      <a:off x="2991600" y="4467600"/>
                      <a:ext cx="1132560" cy="9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Group 88"/>
                  <p:cNvGrpSpPr/>
                  <p:nvPr/>
                </p:nvGrpSpPr>
                <p:grpSpPr>
                  <a:xfrm>
                    <a:off x="3622680" y="2609280"/>
                    <a:ext cx="2004480" cy="3175200"/>
                    <a:chOff x="3622680" y="2609280"/>
                    <a:chExt cx="2004480" cy="3175200"/>
                  </a:xfrm>
                </p:grpSpPr>
                <p:sp>
                  <p:nvSpPr>
                    <p:cNvPr id="514" name="Freeform 89"/>
                    <p:cNvSpPr/>
                    <p:nvPr/>
                  </p:nvSpPr>
                  <p:spPr>
                    <a:xfrm flipH="1" rot="17520000">
                      <a:off x="3962880" y="3354120"/>
                      <a:ext cx="201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Freeform 90"/>
                    <p:cNvSpPr/>
                    <p:nvPr/>
                  </p:nvSpPr>
                  <p:spPr>
                    <a:xfrm flipH="1" rot="17520000">
                      <a:off x="3723480" y="4632120"/>
                      <a:ext cx="1081080" cy="9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Group 91"/>
                  <p:cNvGrpSpPr/>
                  <p:nvPr/>
                </p:nvGrpSpPr>
                <p:grpSpPr>
                  <a:xfrm>
                    <a:off x="4416840" y="2672640"/>
                    <a:ext cx="1142640" cy="3020400"/>
                    <a:chOff x="4416840" y="2672640"/>
                    <a:chExt cx="1142640" cy="3020400"/>
                  </a:xfrm>
                </p:grpSpPr>
                <p:sp>
                  <p:nvSpPr>
                    <p:cNvPr id="517" name="Freeform 92"/>
                    <p:cNvSpPr/>
                    <p:nvPr/>
                  </p:nvSpPr>
                  <p:spPr>
                    <a:xfrm flipH="1" rot="16860000">
                      <a:off x="4166640" y="3412800"/>
                      <a:ext cx="1923480" cy="50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93"/>
                    <p:cNvSpPr/>
                    <p:nvPr/>
                  </p:nvSpPr>
                  <p:spPr>
                    <a:xfrm flipH="1" rot="16860000">
                      <a:off x="4387680" y="4714920"/>
                      <a:ext cx="1031760" cy="79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94"/>
                  <p:cNvGrpSpPr/>
                  <p:nvPr/>
                </p:nvGrpSpPr>
                <p:grpSpPr>
                  <a:xfrm>
                    <a:off x="5099400" y="2510640"/>
                    <a:ext cx="3097800" cy="3109320"/>
                    <a:chOff x="5099400" y="2510640"/>
                    <a:chExt cx="3097800" cy="3109320"/>
                  </a:xfrm>
                </p:grpSpPr>
                <p:sp>
                  <p:nvSpPr>
                    <p:cNvPr id="520" name="Freeform 95"/>
                    <p:cNvSpPr/>
                    <p:nvPr/>
                  </p:nvSpPr>
                  <p:spPr>
                    <a:xfrm rot="3120000">
                      <a:off x="4944600" y="3215520"/>
                      <a:ext cx="2097360" cy="63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96"/>
                    <p:cNvSpPr/>
                    <p:nvPr/>
                  </p:nvSpPr>
                  <p:spPr>
                    <a:xfrm rot="3120000">
                      <a:off x="6897240" y="4374360"/>
                      <a:ext cx="1124640" cy="99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97"/>
                  <p:cNvGrpSpPr/>
                  <p:nvPr/>
                </p:nvGrpSpPr>
                <p:grpSpPr>
                  <a:xfrm>
                    <a:off x="5199480" y="2574000"/>
                    <a:ext cx="2409840" cy="3202920"/>
                    <a:chOff x="5199480" y="2574000"/>
                    <a:chExt cx="2409840" cy="3202920"/>
                  </a:xfrm>
                </p:grpSpPr>
                <p:sp>
                  <p:nvSpPr>
                    <p:cNvPr id="523" name="Freeform 98"/>
                    <p:cNvSpPr/>
                    <p:nvPr/>
                  </p:nvSpPr>
                  <p:spPr>
                    <a:xfrm rot="3720000">
                      <a:off x="4915440" y="3325320"/>
                      <a:ext cx="2059920" cy="59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99"/>
                    <p:cNvSpPr/>
                    <p:nvPr/>
                  </p:nvSpPr>
                  <p:spPr>
                    <a:xfrm rot="3720000">
                      <a:off x="6385680" y="4603320"/>
                      <a:ext cx="1104480" cy="9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100"/>
                  <p:cNvGrpSpPr/>
                  <p:nvPr/>
                </p:nvGrpSpPr>
                <p:grpSpPr>
                  <a:xfrm>
                    <a:off x="5263920" y="2685960"/>
                    <a:ext cx="1688400" cy="3104640"/>
                    <a:chOff x="5263920" y="2685960"/>
                    <a:chExt cx="1688400" cy="3104640"/>
                  </a:xfrm>
                </p:grpSpPr>
                <p:sp>
                  <p:nvSpPr>
                    <p:cNvPr id="526" name="Freeform 101"/>
                    <p:cNvSpPr/>
                    <p:nvPr/>
                  </p:nvSpPr>
                  <p:spPr>
                    <a:xfrm rot="4260000">
                      <a:off x="4818960" y="3467880"/>
                      <a:ext cx="2001960" cy="48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Freeform 102"/>
                    <p:cNvSpPr/>
                    <p:nvPr/>
                  </p:nvSpPr>
                  <p:spPr>
                    <a:xfrm rot="4260000">
                      <a:off x="5878440" y="4775040"/>
                      <a:ext cx="1074240" cy="76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103"/>
                  <p:cNvGrpSpPr/>
                  <p:nvPr/>
                </p:nvGrpSpPr>
                <p:grpSpPr>
                  <a:xfrm>
                    <a:off x="5395320" y="2818800"/>
                    <a:ext cx="885960" cy="2837520"/>
                    <a:chOff x="5395320" y="2818800"/>
                    <a:chExt cx="885960" cy="2837520"/>
                  </a:xfrm>
                </p:grpSpPr>
                <p:sp>
                  <p:nvSpPr>
                    <p:cNvPr id="529" name="Freeform 104"/>
                    <p:cNvSpPr/>
                    <p:nvPr/>
                  </p:nvSpPr>
                  <p:spPr>
                    <a:xfrm rot="4920000">
                      <a:off x="4813200" y="3547080"/>
                      <a:ext cx="183996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105"/>
                    <p:cNvSpPr/>
                    <p:nvPr/>
                  </p:nvSpPr>
                  <p:spPr>
                    <a:xfrm rot="4920000">
                      <a:off x="5388840" y="4787640"/>
                      <a:ext cx="988200" cy="66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Group 106"/>
                  <p:cNvGrpSpPr/>
                  <p:nvPr/>
                </p:nvGrpSpPr>
                <p:grpSpPr>
                  <a:xfrm>
                    <a:off x="4912200" y="2876400"/>
                    <a:ext cx="802080" cy="2746800"/>
                    <a:chOff x="4912200" y="2876400"/>
                    <a:chExt cx="802080" cy="2746800"/>
                  </a:xfrm>
                </p:grpSpPr>
                <p:sp>
                  <p:nvSpPr>
                    <p:cNvPr id="532" name="Freeform 107"/>
                    <p:cNvSpPr/>
                    <p:nvPr/>
                  </p:nvSpPr>
                  <p:spPr>
                    <a:xfrm rot="5760000">
                      <a:off x="4582440" y="3633120"/>
                      <a:ext cx="1785600" cy="29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108"/>
                    <p:cNvSpPr/>
                    <p:nvPr/>
                  </p:nvSpPr>
                  <p:spPr>
                    <a:xfrm rot="5760000">
                      <a:off x="4711320" y="4893120"/>
                      <a:ext cx="958320" cy="45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34" name="Group 109"/>
              <p:cNvGrpSpPr/>
              <p:nvPr/>
            </p:nvGrpSpPr>
            <p:grpSpPr>
              <a:xfrm>
                <a:off x="2174400" y="682560"/>
                <a:ext cx="6953400" cy="7348680"/>
                <a:chOff x="2174400" y="682560"/>
                <a:chExt cx="6953400" cy="7348680"/>
              </a:xfrm>
            </p:grpSpPr>
            <p:grpSp>
              <p:nvGrpSpPr>
                <p:cNvPr id="535" name="Group 110"/>
                <p:cNvGrpSpPr/>
                <p:nvPr/>
              </p:nvGrpSpPr>
              <p:grpSpPr>
                <a:xfrm>
                  <a:off x="2174400" y="682560"/>
                  <a:ext cx="6953400" cy="7348680"/>
                  <a:chOff x="2174400" y="682560"/>
                  <a:chExt cx="6953400" cy="7348680"/>
                </a:xfrm>
              </p:grpSpPr>
              <p:sp>
                <p:nvSpPr>
                  <p:cNvPr id="536" name="AutoShape 111"/>
                  <p:cNvSpPr/>
                  <p:nvPr/>
                </p:nvSpPr>
                <p:spPr>
                  <a:xfrm flipV="1">
                    <a:off x="5400000" y="858600"/>
                    <a:ext cx="3727800" cy="5045040"/>
                  </a:xfrm>
                  <a:custGeom>
                    <a:avLst/>
                    <a:gdLst>
                      <a:gd name="textAreaLeft" fmla="*/ 340920 w 3727800"/>
                      <a:gd name="textAreaRight" fmla="*/ 3504240 w 3727800"/>
                      <a:gd name="textAreaTop" fmla="*/ 2522520 h 5045040"/>
                      <a:gd name="textAreaBottom" fmla="*/ 504540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1" y="16025"/>
                        </a:moveTo>
                        <a:cubicBezTo>
                          <a:pt x="18350" y="19464"/>
                          <a:pt x="14730" y="21599"/>
                          <a:pt x="10800" y="21600"/>
                        </a:cubicBezTo>
                        <a:cubicBezTo>
                          <a:pt x="7234" y="21600"/>
                          <a:pt x="3899" y="19840"/>
                          <a:pt x="1886" y="16897"/>
                        </a:cubicBezTo>
                        <a:lnTo>
                          <a:pt x="10800" y="10800"/>
                        </a:lnTo>
                        <a:lnTo>
                          <a:pt x="20251" y="16025"/>
                        </a:lnTo>
                        <a:close/>
                      </a:path>
                      <a:path fill="none" w="21600" h="21600">
                        <a:moveTo>
                          <a:pt x="20251" y="16025"/>
                        </a:moveTo>
                        <a:cubicBezTo>
                          <a:pt x="18350" y="19464"/>
                          <a:pt x="14730" y="21599"/>
                          <a:pt x="10800" y="21600"/>
                        </a:cubicBezTo>
                        <a:cubicBezTo>
                          <a:pt x="7234" y="21600"/>
                          <a:pt x="3899" y="19840"/>
                          <a:pt x="1886" y="16897"/>
                        </a:cubicBezTo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AutoShape 112"/>
                  <p:cNvSpPr/>
                  <p:nvPr/>
                </p:nvSpPr>
                <p:spPr>
                  <a:xfrm flipH="1">
                    <a:off x="2561040" y="2270160"/>
                    <a:ext cx="3516840" cy="5761080"/>
                  </a:xfrm>
                  <a:custGeom>
                    <a:avLst/>
                    <a:gdLst>
                      <a:gd name="textAreaLeft" fmla="*/ 1031400 w 3516840"/>
                      <a:gd name="textAreaRight" fmla="*/ 3517200 w 3516840"/>
                      <a:gd name="textAreaTop" fmla="*/ 0 h 5761080"/>
                      <a:gd name="textAreaBottom" fmla="*/ 293364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3" y="953"/>
                        </a:moveTo>
                        <a:cubicBezTo>
                          <a:pt x="7757" y="324"/>
                          <a:pt x="9270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6363" y="953"/>
                        </a:lnTo>
                        <a:close/>
                      </a:path>
                      <a:path fill="none" w="21600" h="21600">
                        <a:moveTo>
                          <a:pt x="6363" y="953"/>
                        </a:moveTo>
                        <a:cubicBezTo>
                          <a:pt x="7757" y="324"/>
                          <a:pt x="9270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AutoShape 113"/>
                  <p:cNvSpPr/>
                  <p:nvPr/>
                </p:nvSpPr>
                <p:spPr>
                  <a:xfrm>
                    <a:off x="5385600" y="1752480"/>
                    <a:ext cx="2191680" cy="5761080"/>
                  </a:xfrm>
                  <a:custGeom>
                    <a:avLst/>
                    <a:gdLst>
                      <a:gd name="textAreaLeft" fmla="*/ 433080 w 2191680"/>
                      <a:gd name="textAreaRight" fmla="*/ 2192040 w 2191680"/>
                      <a:gd name="textAreaTop" fmla="*/ 0 h 5761080"/>
                      <a:gd name="textAreaBottom" fmla="*/ 293364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4193" y="2256"/>
                        </a:lnTo>
                        <a:close/>
                      </a:path>
                      <a:path fill="none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AutoShape 114"/>
                  <p:cNvSpPr/>
                  <p:nvPr/>
                </p:nvSpPr>
                <p:spPr>
                  <a:xfrm flipH="1">
                    <a:off x="2174040" y="1298520"/>
                    <a:ext cx="3694680" cy="5761080"/>
                  </a:xfrm>
                  <a:custGeom>
                    <a:avLst/>
                    <a:gdLst>
                      <a:gd name="textAreaLeft" fmla="*/ 563400 w 3694680"/>
                      <a:gd name="textAreaRight" fmla="*/ 3695040 w 3694680"/>
                      <a:gd name="textAreaTop" fmla="*/ 0 h 5761080"/>
                      <a:gd name="textAreaBottom" fmla="*/ 293364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cubicBezTo>
                          <a:pt x="5208" y="1129"/>
                          <a:pt x="7946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  <a:lnTo>
                          <a:pt x="10800" y="10800"/>
                        </a:lnTo>
                        <a:lnTo>
                          <a:pt x="3185" y="3141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cubicBezTo>
                          <a:pt x="5208" y="1129"/>
                          <a:pt x="7946" y="-1"/>
                          <a:pt x="10800" y="0"/>
                        </a:cubicBezTo>
                        <a:cubicBezTo>
                          <a:pt x="16764" y="0"/>
                          <a:pt x="21600" y="4835"/>
                          <a:pt x="21600" y="10800"/>
                        </a:cubicBezTo>
                        <a:cubicBezTo>
                          <a:pt x="21600" y="10917"/>
                          <a:pt x="21598" y="11034"/>
                          <a:pt x="21594" y="11152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AutoShape 115"/>
                  <p:cNvSpPr/>
                  <p:nvPr/>
                </p:nvSpPr>
                <p:spPr>
                  <a:xfrm flipH="1">
                    <a:off x="2510280" y="682560"/>
                    <a:ext cx="3080520" cy="5681880"/>
                  </a:xfrm>
                  <a:custGeom>
                    <a:avLst/>
                    <a:gdLst>
                      <a:gd name="textAreaLeft" fmla="*/ 251640 w 3080520"/>
                      <a:gd name="textAreaRight" fmla="*/ 2532600 w 3080520"/>
                      <a:gd name="textAreaTop" fmla="*/ 0 h 5681880"/>
                      <a:gd name="textAreaBottom" fmla="*/ 284004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4" y="5007"/>
                        </a:moveTo>
                        <a:cubicBezTo>
                          <a:pt x="3666" y="1888"/>
                          <a:pt x="7105" y="-1"/>
                          <a:pt x="10800" y="0"/>
                        </a:cubicBezTo>
                        <a:cubicBezTo>
                          <a:pt x="13286" y="0"/>
                          <a:pt x="15696" y="857"/>
                          <a:pt x="17623" y="2429"/>
                        </a:cubicBezTo>
                        <a:lnTo>
                          <a:pt x="10800" y="10800"/>
                        </a:lnTo>
                        <a:lnTo>
                          <a:pt x="1684" y="5007"/>
                        </a:lnTo>
                        <a:close/>
                      </a:path>
                      <a:path fill="none" w="21600" h="21600">
                        <a:moveTo>
                          <a:pt x="1684" y="5007"/>
                        </a:moveTo>
                        <a:cubicBezTo>
                          <a:pt x="3666" y="1888"/>
                          <a:pt x="7105" y="-1"/>
                          <a:pt x="10800" y="0"/>
                        </a:cubicBezTo>
                        <a:cubicBezTo>
                          <a:pt x="13286" y="0"/>
                          <a:pt x="15696" y="857"/>
                          <a:pt x="17623" y="2429"/>
                        </a:cubicBezTo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AutoShape 116"/>
                  <p:cNvSpPr/>
                  <p:nvPr/>
                </p:nvSpPr>
                <p:spPr>
                  <a:xfrm>
                    <a:off x="5231520" y="1874880"/>
                    <a:ext cx="1307880" cy="5681520"/>
                  </a:xfrm>
                  <a:custGeom>
                    <a:avLst/>
                    <a:gdLst>
                      <a:gd name="textAreaLeft" fmla="*/ 258480 w 1307880"/>
                      <a:gd name="textAreaRight" fmla="*/ 1201680 w 1307880"/>
                      <a:gd name="textAreaTop" fmla="*/ 0 h 5681520"/>
                      <a:gd name="textAreaBottom" fmla="*/ 284004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4398" y="0"/>
                          <a:pt x="17760" y="1792"/>
                          <a:pt x="19766" y="4779"/>
                        </a:cubicBezTo>
                        <a:lnTo>
                          <a:pt x="10800" y="10800"/>
                        </a:lnTo>
                        <a:lnTo>
                          <a:pt x="4193" y="2256"/>
                        </a:lnTo>
                        <a:close/>
                      </a:path>
                      <a:path fill="none" w="21600" h="21600">
                        <a:moveTo>
                          <a:pt x="4193" y="2256"/>
                        </a:moveTo>
                        <a:cubicBezTo>
                          <a:pt x="6085" y="793"/>
                          <a:pt x="8408" y="-1"/>
                          <a:pt x="10800" y="0"/>
                        </a:cubicBezTo>
                        <a:cubicBezTo>
                          <a:pt x="14398" y="0"/>
                          <a:pt x="17760" y="1792"/>
                          <a:pt x="19766" y="4779"/>
                        </a:cubicBezTo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117"/>
                  <p:cNvSpPr/>
                  <p:nvPr/>
                </p:nvSpPr>
                <p:spPr>
                  <a:xfrm flipH="1">
                    <a:off x="4303080" y="836640"/>
                    <a:ext cx="51552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Freeform 118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4" name="Group 119"/>
            <p:cNvGrpSpPr/>
            <p:nvPr/>
          </p:nvGrpSpPr>
          <p:grpSpPr>
            <a:xfrm>
              <a:off x="2343240" y="712800"/>
              <a:ext cx="6408360" cy="7544880"/>
              <a:chOff x="2343240" y="712800"/>
              <a:chExt cx="6408360" cy="7544880"/>
            </a:xfrm>
          </p:grpSpPr>
          <p:sp>
            <p:nvSpPr>
              <p:cNvPr id="545" name="Freeform 120"/>
              <p:cNvSpPr/>
              <p:nvPr/>
            </p:nvSpPr>
            <p:spPr>
              <a:xfrm flipH="1">
                <a:off x="4467960" y="3234600"/>
                <a:ext cx="598320" cy="182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AutoShape 121"/>
              <p:cNvSpPr/>
              <p:nvPr/>
            </p:nvSpPr>
            <p:spPr>
              <a:xfrm flipH="1">
                <a:off x="3384360" y="2475720"/>
                <a:ext cx="5230800" cy="5781960"/>
              </a:xfrm>
              <a:custGeom>
                <a:avLst/>
                <a:gdLst>
                  <a:gd name="textAreaLeft" fmla="*/ 2615760 w 5230800"/>
                  <a:gd name="textAreaRight" fmla="*/ 5231160 w 5230800"/>
                  <a:gd name="textAreaTop" fmla="*/ 102960 h 5781960"/>
                  <a:gd name="textAreaBottom" fmla="*/ 2944080 h 5781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13532" y="351"/>
                    </a:lnTo>
                    <a:close/>
                  </a:path>
                  <a:path fill="none" w="21600" h="21600">
                    <a:moveTo>
                      <a:pt x="13532" y="351"/>
                    </a:moveTo>
                    <a:cubicBezTo>
                      <a:pt x="18285" y="1594"/>
                      <a:pt x="21600" y="5887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AutoShape 122"/>
              <p:cNvSpPr/>
              <p:nvPr/>
            </p:nvSpPr>
            <p:spPr>
              <a:xfrm flipH="1">
                <a:off x="3644640" y="2122200"/>
                <a:ext cx="2301120" cy="5761080"/>
              </a:xfrm>
              <a:custGeom>
                <a:avLst/>
                <a:gdLst>
                  <a:gd name="textAreaLeft" fmla="*/ 767880 w 2301120"/>
                  <a:gd name="textAreaRight" fmla="*/ 2301480 w 230112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7130" y="642"/>
                    </a:lnTo>
                    <a:close/>
                  </a:path>
                  <a:path fill="none" w="21600" h="21600">
                    <a:moveTo>
                      <a:pt x="7130" y="642"/>
                    </a:moveTo>
                    <a:cubicBezTo>
                      <a:pt x="8307" y="217"/>
                      <a:pt x="954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AutoShape 123"/>
              <p:cNvSpPr/>
              <p:nvPr/>
            </p:nvSpPr>
            <p:spPr>
              <a:xfrm flipH="1">
                <a:off x="2343240" y="1736280"/>
                <a:ext cx="3683520" cy="5759640"/>
              </a:xfrm>
              <a:custGeom>
                <a:avLst/>
                <a:gdLst>
                  <a:gd name="textAreaLeft" fmla="*/ 754200 w 3683520"/>
                  <a:gd name="textAreaRight" fmla="*/ 3684240 w 3683520"/>
                  <a:gd name="textAreaTop" fmla="*/ 0 h 5759640"/>
                  <a:gd name="textAreaBottom" fmla="*/ 2932920 h 5759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372" y="2120"/>
                    </a:lnTo>
                    <a:close/>
                  </a:path>
                  <a:path fill="none" w="21600" h="21600">
                    <a:moveTo>
                      <a:pt x="4372" y="2120"/>
                    </a:moveTo>
                    <a:cubicBezTo>
                      <a:pt x="6232" y="743"/>
                      <a:pt x="8485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AutoShape 124"/>
              <p:cNvSpPr/>
              <p:nvPr/>
            </p:nvSpPr>
            <p:spPr>
              <a:xfrm>
                <a:off x="5469840" y="2150640"/>
                <a:ext cx="585360" cy="5761080"/>
              </a:xfrm>
              <a:custGeom>
                <a:avLst/>
                <a:gdLst>
                  <a:gd name="textAreaLeft" fmla="*/ 115560 w 585360"/>
                  <a:gd name="textAreaRight" fmla="*/ 585720 w 58536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AutoShape 125"/>
              <p:cNvSpPr/>
              <p:nvPr/>
            </p:nvSpPr>
            <p:spPr>
              <a:xfrm>
                <a:off x="5404680" y="2136240"/>
                <a:ext cx="1542600" cy="5761440"/>
              </a:xfrm>
              <a:custGeom>
                <a:avLst/>
                <a:gdLst>
                  <a:gd name="textAreaLeft" fmla="*/ 304560 w 1542600"/>
                  <a:gd name="textAreaRight" fmla="*/ 1542960 w 1542600"/>
                  <a:gd name="textAreaTop" fmla="*/ 0 h 5761440"/>
                  <a:gd name="textAreaBottom" fmla="*/ 2932920 h 57614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  <a:lnTo>
                      <a:pt x="10800" y="10800"/>
                    </a:lnTo>
                    <a:lnTo>
                      <a:pt x="4193" y="2256"/>
                    </a:lnTo>
                    <a:close/>
                  </a:path>
                  <a:path fill="none" w="21600" h="21600">
                    <a:moveTo>
                      <a:pt x="4193" y="2256"/>
                    </a:moveTo>
                    <a:cubicBezTo>
                      <a:pt x="6085" y="793"/>
                      <a:pt x="8408" y="-1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0917"/>
                      <a:pt x="21598" y="11034"/>
                      <a:pt x="21594" y="11152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126"/>
              <p:cNvSpPr/>
              <p:nvPr/>
            </p:nvSpPr>
            <p:spPr>
              <a:xfrm>
                <a:off x="6153480" y="3545640"/>
                <a:ext cx="598320" cy="1823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127"/>
              <p:cNvSpPr/>
              <p:nvPr/>
            </p:nvSpPr>
            <p:spPr>
              <a:xfrm flipV="1" rot="19680000">
                <a:off x="5223600" y="2946240"/>
                <a:ext cx="544320" cy="103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128"/>
              <p:cNvSpPr/>
              <p:nvPr/>
            </p:nvSpPr>
            <p:spPr>
              <a:xfrm flipH="1">
                <a:off x="2684880" y="3384000"/>
                <a:ext cx="1338120" cy="1878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29"/>
              <p:cNvSpPr/>
              <p:nvPr/>
            </p:nvSpPr>
            <p:spPr>
              <a:xfrm flipH="1">
                <a:off x="3316680" y="1398240"/>
                <a:ext cx="858600" cy="1878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30"/>
              <p:cNvSpPr/>
              <p:nvPr/>
            </p:nvSpPr>
            <p:spPr>
              <a:xfrm>
                <a:off x="7510680" y="3107520"/>
                <a:ext cx="124092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31"/>
              <p:cNvSpPr/>
              <p:nvPr/>
            </p:nvSpPr>
            <p:spPr>
              <a:xfrm>
                <a:off x="6864840" y="2109600"/>
                <a:ext cx="1870920" cy="1315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132"/>
              <p:cNvSpPr/>
              <p:nvPr/>
            </p:nvSpPr>
            <p:spPr>
              <a:xfrm>
                <a:off x="6934680" y="712800"/>
                <a:ext cx="817200" cy="176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33"/>
              <p:cNvSpPr/>
              <p:nvPr/>
            </p:nvSpPr>
            <p:spPr>
              <a:xfrm flipH="1" rot="1380000">
                <a:off x="4182120" y="2155320"/>
                <a:ext cx="54396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6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BB69A18-8FBC-4188-91CE-3DBA6E0D0BD3}" type="slidenum">
              <a:rPr b="0" lang="ru-RU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8B35-778B-46DD-B14B-C28D1184C5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928D-30D9-4F99-B136-827BC53225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CD63-CC09-4E7E-8590-2333FCF131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2050920" y="1236240"/>
            <a:ext cx="4894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d6d8c0"/>
                </a:solidFill>
                <a:latin typeface="Arial"/>
              </a:rPr>
              <a:t>Лекция на тему:</a:t>
            </a:r>
            <a:r>
              <a:rPr b="1" lang="ru-RU" sz="4800" spc="-1" strike="noStrike">
                <a:solidFill>
                  <a:srgbClr val="d6d8c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d6d8c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ubTitle"/>
          </p:nvPr>
        </p:nvSpPr>
        <p:spPr>
          <a:xfrm>
            <a:off x="250560" y="242064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Verdana"/>
              </a:rPr>
              <a:t>Гигиенические основы планировки населенных мес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елитебн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рритория предназначена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ccff"/>
                </a:solidFill>
                <a:latin typeface="Arial"/>
                <a:ea typeface="Arial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мещения жилищного фонда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ых зданий и сооружений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мунальных и промышленных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ccff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нутригородские со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оизводственн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территория предназначена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  <a:ea typeface="Arial"/>
              </a:rPr>
              <a:t>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мещения промышленных предприятий и связанных с ними объ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  <a:ea typeface="Arial"/>
              </a:rPr>
              <a:t>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общения внешнего транспо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  <a:ea typeface="Arial"/>
              </a:rPr>
              <a:t>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ей внегородского и пригородного сооб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178920" y="250560"/>
            <a:ext cx="8713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Производственная территория включ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омышленная зона (промышленные предприятия, подъездные железнодорожные пути, улицы и дороги, обеспечивающие внутренние и внешние транспортные связ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учная и научно-производственная (учрежд. науки, высшие и сред. учебные завед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33cc"/>
                </a:solidFill>
                <a:latin typeface="Arial"/>
              </a:rPr>
              <a:t>Основная структурная единица</a:t>
            </a:r>
            <a:r>
              <a:rPr b="1" lang="ru-RU" sz="3400" spc="-1" strike="noStrike">
                <a:solidFill>
                  <a:srgbClr val="ff33cc"/>
                </a:solidFill>
                <a:latin typeface="Arial"/>
              </a:rPr>
              <a:t> жилой застройки: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SA" sz="3800" spc="-1" strike="noStrike">
                <a:solidFill>
                  <a:srgbClr val="9933ff"/>
                </a:solidFill>
                <a:latin typeface="Arial"/>
                <a:cs typeface="Arial"/>
              </a:rPr>
              <a:t>٭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Жилой райо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есколько микрорайон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9933ff"/>
                </a:solidFill>
                <a:latin typeface="Arial"/>
                <a:cs typeface="Arial"/>
              </a:rPr>
              <a:t>٭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икрорайо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есколько кварталов) - площадь от 10 -60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диус обслуживания не менее &gt;500 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Границами микрорайона являю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9933ff"/>
                </a:solidFill>
                <a:latin typeface="Arial"/>
                <a:ea typeface="Arial"/>
              </a:rPr>
              <a:t>―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гистральные или жилые ули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9933ff"/>
                </a:solidFill>
                <a:latin typeface="Arial"/>
                <a:ea typeface="Arial"/>
              </a:rPr>
              <a:t>―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ез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9933ff"/>
                </a:solidFill>
                <a:latin typeface="Arial"/>
                <a:ea typeface="Arial"/>
              </a:rPr>
              <a:t>―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шеходные пу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гиенические требования к застройке микрорайона предусматри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 txBox="1"/>
          <p:nvPr/>
        </p:nvSpPr>
        <p:spPr>
          <a:xfrm>
            <a:off x="457200" y="1341360"/>
            <a:ext cx="8362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микроклимата, инсоляции и защиты от перегрева, аэрации или снижения подвижности воздуха на территории и в помещениях жилых и общественных з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у от транспортного шума, внутримикрорайонного загрязнения атмосферного воздуха выхлопными газами транспо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ю полноценного обслуживания жителей учреждениями культурно-бытового назначения и коммунальными объек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устройство и озеленение территор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ализованное водоснабжение, канализацию и удаление бытовых от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9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59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57579b"/>
                </a:solidFill>
                <a:latin typeface="Times New Roman"/>
              </a:rPr>
              <a:t>Системы застройки кварталов</a:t>
            </a:r>
            <a:r>
              <a:rPr b="0" lang="ru-RU" sz="4000" spc="-1" strike="noStrike">
                <a:solidFill>
                  <a:srgbClr val="478a9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трочная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здания параллельны друг друг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ериметрическ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дворы - колодц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(часть по периметру, часть зданий свободно, там где нужна защита от сильных ветр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Times New Roman"/>
              </a:rPr>
              <a:t>-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вободна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структура микрорайон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лотность застройки не &gt; 20 - 25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395280" y="128160"/>
            <a:ext cx="8291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И ПРОЕКТИРОВА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ЛОЙ ЗАСТРОЙ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ЛЕДУЕТ ПРЕДУСМАТРИВАТЬ РАЗМЕЩЕНИЕ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ЗЛИЧНЫХ ПЛОЩ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1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гр дет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ошкольного и мл. школьн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2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дыха взрослого нас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3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нятия физкуль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4.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оз. ц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5.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оянки автомоби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990099"/>
                </a:solidFill>
                <a:latin typeface="Times New Roman"/>
              </a:rPr>
              <a:t>Планировка улиц </a:t>
            </a:r>
            <a:br>
              <a:rPr sz="3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сис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990099"/>
                </a:solidFill>
                <a:latin typeface="Arial"/>
                <a:cs typeface="Arial"/>
              </a:rPr>
              <a:t>۰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Шахматн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улицы расположены перпендикулярно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990099"/>
                </a:solidFill>
                <a:latin typeface="Arial"/>
                <a:cs typeface="Arial"/>
              </a:rPr>
              <a:t>۰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адиаль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направление улиц от центра к периферии и пересекаются меньшими кольцевыми ули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Times New Roman"/>
              </a:rPr>
              <a:t>Требования к размещению производственной зоны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1.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учетом возможного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благоприятного влияния на условия жизн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2.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становление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анитарных разрывов между производственной и селитебной зо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с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imes New Roman"/>
              </a:rPr>
              <a:t>3.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лагоустройство территории, обеспечение сбора, обеззараживания и удаление всех сточных вод, твердых от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5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изводственная зона должна располагать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◘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 подветренной стороны по отношению к жилой застройке с учетом розы вет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◘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льеф территории производственной зоны должен позволять организовать сток жидких от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d6d8c0"/>
                </a:solidFill>
                <a:latin typeface="Arial"/>
              </a:rPr>
              <a:t>Задание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Arial"/>
              </a:rPr>
              <a:t>1. Написать лекцию в тетрадь </a:t>
            </a:r>
            <a:br>
              <a:rPr sz="4400"/>
            </a:br>
            <a:r>
              <a:rPr b="0" lang="ru-RU" sz="4400" spc="-1" strike="noStrike">
                <a:solidFill>
                  <a:srgbClr val="d6d8c0"/>
                </a:solidFill>
                <a:latin typeface="Arial"/>
              </a:rPr>
              <a:t>2. Разобрать лекцию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нитарно-защитные зоны разрыва для промышленных предприятий с учетом класс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2072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 - 100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 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50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Ι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00м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-10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л.  - 50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Arial"/>
              </a:rPr>
              <a:t>Ландшафтно-рекреационная территория включает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178920" y="1933560"/>
            <a:ext cx="87138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ие леса, лесопарки, водоемы, парки, скв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определения потребности селитебной зо-ны следует принимать укрупненные показа-те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 расчете на 1000 челове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bb0cb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городах средней этажности выделяется 10 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bb0cb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ля застройки без земельных участков 20 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bb0cb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участками при многоэтажной застройке 7 - 8 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ff3300"/>
                </a:solidFill>
                <a:latin typeface="Times New Roman"/>
              </a:rPr>
              <a:t>Планировка сельских населенных мес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 основе планировки должн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жать те же принципы, что и в город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Крупные сельские пункты строятся в настоящее врем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о типу микрорайон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В   основу планировки сельских населенных пунктов положено: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ление террито-рии на жилую и производственн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ественный центр се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ельсовет, почта, клуб, магазин, столо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чебно-профилактическое учрежд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ельская больница на окраине с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Ясли, сады, школ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ходятся ближе к жилой зеленой зоне села (в начале или конце села).                      Плотность застройки не должна превышать 5 - 6 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личают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актную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- в виде жилых кварталов 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инейную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систему застро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400" spc="-1" strike="noStrike">
                <a:solidFill>
                  <a:srgbClr val="ff3399"/>
                </a:solidFill>
                <a:latin typeface="Arial"/>
              </a:rPr>
              <a:t>Требования к размещению произво-дственной зон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С учетом возможного неблагоприятного влияния на условия жизни насе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становление санитарных разрывов между производственной и селитебной зоной посел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лагоустройство территории, обеспечение сбора, обезвреживания и удаления всех сточных вод, твердых от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Размеры санитарно-защитной зоны с/х объ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ермы крупного рогатого скота и др. -3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аражи, ремонтные мастерские - 100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лады для хранения минеральных удобрений и ядохимикатов (до 20 т) -20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ельской населенной местност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лится территория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жил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изводстве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щественный центр села (с/с, почта, клуб, магазин, столовая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81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мероприятия по оздоровлению окружающей среды в городе и с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 txBox="1"/>
          <p:nvPr/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ировочные-рациональное размещение промышленных и бытовых помещений по отношению к жилой зоне, с соблюдением разрывов санитарно-защитной з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ие и санитарно-технические мероприятия направлены на улавливание, очистку, переработку загрязняющих веществ, внедрение прогрессивных технологий, создание безотходных или малоотходного произ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онные основываются на санитарном законодатель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се это предусматривает соз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комфортной жилой сред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Rectangle 2"/>
          <p:cNvSpPr/>
          <p:nvPr/>
        </p:nvSpPr>
        <p:spPr>
          <a:xfrm>
            <a:off x="609480" y="4046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Гигиенические проблемы урба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Rectangle 3"/>
          <p:cNvSpPr/>
          <p:nvPr/>
        </p:nvSpPr>
        <p:spPr>
          <a:xfrm>
            <a:off x="622440" y="184464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рбанизация происходит от латинского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 «урбанус» - городс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исходит быстрый рост городов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енности жителей, происходит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ок в города сельского насе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9"/>
          <p:cNvSpPr/>
          <p:nvPr/>
        </p:nvSpPr>
        <p:spPr>
          <a:xfrm>
            <a:off x="730080" y="40464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Times New Roman"/>
                <a:ea typeface="Arial Unicode MS"/>
              </a:rPr>
              <a:t>Воздушная среда на урбанизированных территория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Rectangle 10"/>
          <p:cNvSpPr/>
          <p:nvPr/>
        </p:nvSpPr>
        <p:spPr>
          <a:xfrm>
            <a:off x="685800" y="2060640"/>
            <a:ext cx="77724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крупных городах создается новая экологическ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реда с высокой концентрацией антропогенных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ак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 Изменяется естественная среда обитания, рит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жизни, психоэмоциональный фон труда и бы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Снижается интенсивность солнечной радиации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5-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Выше среднегодовая температура воздуха на 1-2 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Чаще возникают туманы (не 10% выш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Times New Roman"/>
              </a:rPr>
              <a:t>Неблагоприятное воздействие на здоровье на здоровье городских жител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ольшой поток информации, стрессовых воздейств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тия невротических состояний неврозов - так называемых «болезней цивилизац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оответствие социальных изменений с изменениями биологичес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Благоприятные условия 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рупного г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унальное благоустро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окий уровень культуры и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получить образ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квалификационной мед. помо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ость роста промышленности и правильность расстановки кад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ланировка населенных мест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хватывает сложный комплекс проблем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являющихся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теорией и практикой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градостроитель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323640" y="2636640"/>
            <a:ext cx="85690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 ним относ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ественно-эконом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оительно-инжене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рхитектурно-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удожеств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нитарно-гигиенические пробле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Неблагоприятные условия</a:t>
            </a:r>
            <a:br>
              <a:rPr sz="3200"/>
            </a:b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крупного г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 (воздух, вода, поч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худшение условий жизни насе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зменение городского клим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вышение физической и психической нагруз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Ухудшение состояния здоровья (повышение заболеваемости болезнями органов дыхания и инфекционной, рост хронической и сердечно-сосудистой заболеваем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99ff66"/>
                </a:solidFill>
                <a:latin typeface="Arial Black"/>
              </a:rPr>
              <a:t>Благодарю, за внимание!</a:t>
            </a:r>
            <a:endParaRPr b="0" lang="en-US" sz="48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68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68" fill="hold"/>
                                        <p:tgtEl>
                                          <p:spTgt spid="26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68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68" fill="hold"/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179280" y="85320"/>
            <a:ext cx="850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ерриторию для строительств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новых или расширения существующих населенных пунктов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ыбираю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 учетом возможност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ционального размещения мест приложения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труда, проживания и отдых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у территорий предшествуют изучение и анализ естественных услов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родно-климатичес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идрологическ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точников водоснаб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условия удаления сточных в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анитарного состояния окружающей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зможность организации санитарных защитных з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личие резервных территор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8ea642"/>
                </a:solidFill>
                <a:latin typeface="Arial"/>
                <a:ea typeface="Arial"/>
              </a:rPr>
              <a:t>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зможность озелен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ТРЕБОВАНИЯ К ТЕРРИТОРИИ ЗАСТР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ea642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льеф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покойный с уклоном      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-6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рганиченно-пригодный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ригод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gt;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ea642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вень грунтовы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лагоприятные территории    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&lt; 3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благоприятные территории  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1-3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8ea642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обо неблагоприятные территории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 1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ичие источников водоснаб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словия и организация удаления сточных 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Возможность организации санитарно-защитных з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6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озможность озел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8ea642"/>
                </a:solidFill>
                <a:latin typeface="Times New Roman"/>
              </a:rPr>
              <a:t>7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личие резервных территорий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гиенические санитарные и требования       при планировке населенных м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бор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ункциональное зо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ение вопросов охраны окружающей сред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4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орудование централизованного водоснабжения и кан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5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здание сет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здоровительны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чебно-профилактически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льтурно-бытовых и спортивных объек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cc66"/>
                </a:solidFill>
                <a:latin typeface="Times New Roman"/>
              </a:rPr>
              <a:t>6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статочное озеле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Text Box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Text Box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оответствии с </a:t>
            </a:r>
            <a:r>
              <a:rPr b="1" lang="ru-RU" sz="4000" spc="-1" strike="noStrike">
                <a:solidFill>
                  <a:srgbClr val="cc0066"/>
                </a:solidFill>
                <a:latin typeface="Arial"/>
              </a:rPr>
              <a:t>СНИП 2.07.89 г.</a:t>
            </a: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роительные нормы и прави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Градостроительство, планировка и застройка городских и сельских поселени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78544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ерритория города подразделен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литебн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ммунально-складскую – для размещения складов, гаражей и трамвайных и автобусных пар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Arial"/>
              </a:rPr>
              <a:t>◊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нешнего транспорта – для размещения транспортных сооружений, вокзалов, станций, портов, прист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"/>
          <p:cNvSpPr txBox="1"/>
          <p:nvPr/>
        </p:nvSpPr>
        <p:spPr>
          <a:xfrm>
            <a:off x="457200" y="404640"/>
            <a:ext cx="8228160" cy="57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ccff"/>
                </a:solidFill>
                <a:latin typeface="Times New Roman"/>
                <a:ea typeface="Arial"/>
              </a:rPr>
              <a:t>◊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дшафтно-рекреционную. (зона отдыха населения, пригородная зон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овке пригородной зоны организацию мест массового отдыха и мест лечебно-оздоровительного назначения следует предусматривать на удобных, здоровых и живописных территориях, а также учитывать потребности города в разных видах хозяйственного обслу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◊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елах пригородной зоны следует размещать: лесопарки, пригородные парки, санатор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омники и другие виды зеленых наса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1" name="Picture 1" descr=""/>
          <p:cNvPicPr/>
          <p:nvPr/>
        </p:nvPicPr>
        <p:blipFill>
          <a:blip r:embed="rId1"/>
          <a:stretch/>
        </p:blipFill>
        <p:spPr>
          <a:xfrm>
            <a:off x="1967040" y="399960"/>
            <a:ext cx="5209920" cy="605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17:32Z</dcterms:created>
  <dc:creator>первый</dc:creator>
  <dc:description/>
  <dc:language>en-US</dc:language>
  <cp:lastModifiedBy>User</cp:lastModifiedBy>
  <cp:lastPrinted>2011-12-02T05:08:52Z</cp:lastPrinted>
  <dcterms:modified xsi:type="dcterms:W3CDTF">2021-12-05T11:09:38Z</dcterms:modified>
  <cp:revision>45</cp:revision>
  <dc:subject/>
  <dc:title>Лекция на тему:  </dc:title>
</cp:coreProperties>
</file>