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</p:sldMasterIdLst>
  <p:sldIdLst>
    <p:sldId id="256" r:id="rId56"/>
    <p:sldId id="257" r:id="rId57"/>
    <p:sldId id="258" r:id="rId58"/>
    <p:sldId id="259" r:id="rId59"/>
    <p:sldId id="260" r:id="rId60"/>
    <p:sldId id="261" r:id="rId61"/>
    <p:sldId id="262" r:id="rId62"/>
    <p:sldId id="263" r:id="rId63"/>
    <p:sldId id="264" r:id="rId64"/>
    <p:sldId id="265" r:id="rId65"/>
    <p:sldId id="266" r:id="rId66"/>
    <p:sldId id="267" r:id="rId67"/>
    <p:sldId id="268" r:id="rId68"/>
    <p:sldId id="269" r:id="rId69"/>
    <p:sldId id="270" r:id="rId70"/>
    <p:sldId id="271" r:id="rId71"/>
    <p:sldId id="272" r:id="rId72"/>
    <p:sldId id="273" r:id="rId73"/>
    <p:sldId id="274" r:id="rId74"/>
    <p:sldId id="275" r:id="rId75"/>
    <p:sldId id="276" r:id="rId76"/>
    <p:sldId id="277" r:id="rId77"/>
    <p:sldId id="278" r:id="rId78"/>
    <p:sldId id="279" r:id="rId79"/>
    <p:sldId id="280" r:id="rId80"/>
    <p:sldId id="281" r:id="rId81"/>
    <p:sldId id="282" r:id="rId82"/>
    <p:sldId id="283" r:id="rId83"/>
    <p:sldId id="284" r:id="rId84"/>
    <p:sldId id="285" r:id="rId85"/>
    <p:sldId id="286" r:id="rId8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" Target="slides/slide1.xml"/><Relationship Id="rId57" Type="http://schemas.openxmlformats.org/officeDocument/2006/relationships/slide" Target="slides/slide2.xml"/><Relationship Id="rId58" Type="http://schemas.openxmlformats.org/officeDocument/2006/relationships/slide" Target="slides/slide3.xml"/><Relationship Id="rId59" Type="http://schemas.openxmlformats.org/officeDocument/2006/relationships/slide" Target="slides/slide4.xml"/><Relationship Id="rId60" Type="http://schemas.openxmlformats.org/officeDocument/2006/relationships/slide" Target="slides/slide5.xml"/><Relationship Id="rId61" Type="http://schemas.openxmlformats.org/officeDocument/2006/relationships/slide" Target="slides/slide6.xml"/><Relationship Id="rId62" Type="http://schemas.openxmlformats.org/officeDocument/2006/relationships/slide" Target="slides/slide7.xml"/><Relationship Id="rId63" Type="http://schemas.openxmlformats.org/officeDocument/2006/relationships/slide" Target="slides/slide8.xml"/><Relationship Id="rId64" Type="http://schemas.openxmlformats.org/officeDocument/2006/relationships/slide" Target="slides/slide9.xml"/><Relationship Id="rId65" Type="http://schemas.openxmlformats.org/officeDocument/2006/relationships/slide" Target="slides/slide10.xml"/><Relationship Id="rId66" Type="http://schemas.openxmlformats.org/officeDocument/2006/relationships/slide" Target="slides/slide11.xml"/><Relationship Id="rId67" Type="http://schemas.openxmlformats.org/officeDocument/2006/relationships/slide" Target="slides/slide12.xml"/><Relationship Id="rId68" Type="http://schemas.openxmlformats.org/officeDocument/2006/relationships/slide" Target="slides/slide13.xml"/><Relationship Id="rId69" Type="http://schemas.openxmlformats.org/officeDocument/2006/relationships/slide" Target="slides/slide14.xml"/><Relationship Id="rId70" Type="http://schemas.openxmlformats.org/officeDocument/2006/relationships/slide" Target="slides/slide15.xml"/><Relationship Id="rId71" Type="http://schemas.openxmlformats.org/officeDocument/2006/relationships/slide" Target="slides/slide16.xml"/><Relationship Id="rId72" Type="http://schemas.openxmlformats.org/officeDocument/2006/relationships/slide" Target="slides/slide17.xml"/><Relationship Id="rId73" Type="http://schemas.openxmlformats.org/officeDocument/2006/relationships/slide" Target="slides/slide18.xml"/><Relationship Id="rId74" Type="http://schemas.openxmlformats.org/officeDocument/2006/relationships/slide" Target="slides/slide19.xml"/><Relationship Id="rId75" Type="http://schemas.openxmlformats.org/officeDocument/2006/relationships/slide" Target="slides/slide20.xml"/><Relationship Id="rId76" Type="http://schemas.openxmlformats.org/officeDocument/2006/relationships/slide" Target="slides/slide21.xml"/><Relationship Id="rId77" Type="http://schemas.openxmlformats.org/officeDocument/2006/relationships/slide" Target="slides/slide22.xml"/><Relationship Id="rId78" Type="http://schemas.openxmlformats.org/officeDocument/2006/relationships/slide" Target="slides/slide23.xml"/><Relationship Id="rId79" Type="http://schemas.openxmlformats.org/officeDocument/2006/relationships/slide" Target="slides/slide24.xml"/><Relationship Id="rId80" Type="http://schemas.openxmlformats.org/officeDocument/2006/relationships/slide" Target="slides/slide25.xml"/><Relationship Id="rId81" Type="http://schemas.openxmlformats.org/officeDocument/2006/relationships/slide" Target="slides/slide26.xml"/><Relationship Id="rId82" Type="http://schemas.openxmlformats.org/officeDocument/2006/relationships/slide" Target="slides/slide27.xml"/><Relationship Id="rId83" Type="http://schemas.openxmlformats.org/officeDocument/2006/relationships/slide" Target="slides/slide28.xml"/><Relationship Id="rId84" Type="http://schemas.openxmlformats.org/officeDocument/2006/relationships/slide" Target="slides/slide29.xml"/><Relationship Id="rId85" Type="http://schemas.openxmlformats.org/officeDocument/2006/relationships/slide" Target="slides/slide30.xml"/><Relationship Id="rId86" Type="http://schemas.openxmlformats.org/officeDocument/2006/relationships/slide" Target="slides/slide31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C4A-5E18-4171-8B69-03494F12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004-E1B3-4030-996F-06F40B19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4E8AF-0FE8-4B95-AFF9-F0E09128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87F86-F08A-406C-8DBA-D89DCD04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EAEF9-457B-4497-AD61-91562842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EBE74-9AF2-4330-8604-5DF46167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55A8C-1BCF-423F-81F8-D60A843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2F05B-DD5B-4BC1-B208-B8ACBFF6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8D9AD-5D47-4246-87D8-689CD891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28EBA-7759-40FF-903B-CE846585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3DDA6-92D9-47B4-920D-D2968BE2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8D71A-846E-4821-B7D2-9008F0A4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871-38B0-4164-AF28-6860820B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C28F2-4B0D-418D-BA37-652FCB8B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25F5B-4285-4510-815E-AC3AE032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A416F-3D50-4B73-AEB2-1401C26B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8E10A-D4F8-4753-A160-B6D9A6F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E861B-4E5A-4EC3-A96C-A7C50E48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590BF-87D6-4AA6-86C8-062686BD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1A8E4-BE97-4B28-910F-BC9499F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68D69-D2F6-4EC7-A6A2-73678C1D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1E864-BF75-4A8B-A808-47C46C7E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ACCA8-7527-4A93-9408-B83C4C51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222-9038-43ED-8E42-20FB1F7D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EB181-30CA-4AC2-BD82-E8CD56EF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A5BDE-2EDE-4832-BC91-A73C0E4C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27471-F6ED-400C-81B8-F045E648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814C3-9548-4B8E-BAEA-6D0BF051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A56C8-D6C9-4A7F-8B85-6FD80137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CBDC9-8B1D-4964-8AAF-F72BB631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DF8A9-AF47-4FD0-BAC6-278AD514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DCE9E-5DDC-49A5-BAFE-6CB782C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DE709-F080-46B4-8F18-3E4A10A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D9F6B-5E90-4D70-836C-9F97F229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0A1C-F627-4395-9BC5-AEAA11AF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D20FF-C52B-4C01-B5C0-F4FFBF2A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EE5B7-AE14-49D2-A0CC-290DB311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F6245-E8D8-47CF-A614-7E45C73A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C7EB2-B571-41C4-8C98-55292709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D16FE-F58C-458D-B6DF-12414F8D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70B12-3568-47F9-9A29-E42843EC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01F25-60ED-4977-9D40-3789E8AE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89430-E759-4E5F-A4FC-9FB3901F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6E275-599E-4BBE-BA54-8540757D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67478-3881-4375-AF91-A5B27636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3AD2-9657-4611-A4D4-1895201D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6C024-8D30-48E9-9FEB-CE3BC278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0B889-4ACC-4FC3-989A-FF1C2B06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0F2AE-CFD4-4E04-9F2B-4DD8FF16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C77DC-F868-4B71-8EA2-7B0A5499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48C34-8247-477D-89B0-1628387F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44234-A068-4113-B044-DB37AD83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544E7-5904-48DC-BF82-3D198A5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538DA-29CC-4BCB-A3F1-91A674A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B7210-DE64-470F-8814-74B20DF2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49BB0-88FC-4CF8-AD5E-55DDDE77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3AA1-9367-44E5-BC41-AC22E8B2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30C74-A724-4FAC-8D86-EF3846B5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F4A89-5BC6-497B-82B1-5F7EA20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3A368-D566-4216-B967-AAB8F83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4578D-0FF3-4CA8-850E-D87F7CA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35407-D19B-4DD0-A615-8101EE41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3D746-6D12-4962-B17C-E419800F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03E5E-AC45-4505-979F-4CFF5191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97BC6-E87D-4ADE-ABE8-C5BA7C92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454BE-7CD3-4D92-AD53-429CC7EC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099B6-F567-4257-B01F-2E3B1DD4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686B-BA9E-4A7B-8BF3-3FCB74B7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DCA5A-C397-4AB5-9A80-4E56C7BE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6F740-6663-4F89-821B-9583F0DD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81251-7FA6-4A8C-AA28-61798FAA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1816E-2A0D-43A0-8385-C18C45F4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BD56B-6A26-4A46-AD40-7A60309C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1D42E-7593-4F99-BD53-650B436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F8470-97BF-4F14-BC6E-54592186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53834-9595-4532-BC7C-52068D03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D0ECA-5CE1-43D8-9BE0-DE904E46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DAB45-DF52-40FF-A970-61AAD10C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A43F-2791-438B-AA60-ED706129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79605-9B4E-4CED-B50C-E9E7EA21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10ADC-7352-43F8-B70E-750CB246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CBC35-C0D0-48AF-BA45-57528827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CA01C-17D0-454B-B892-F1C3D0A2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9878E-9AB8-4179-B129-B66FA4AB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C34BC-5916-4DF7-A5A9-4ED9058F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36107-F4D3-4A21-A228-640AA1B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39B2C-2427-46B2-87EB-E4D985D6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FF719-F4AC-4F71-8F0B-AADCC721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24E8F-8C49-43D2-8FB3-91CAE0CB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0871-1FD3-42EE-A223-E4F50CC9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51217-6292-43E8-9062-38A95CB5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D69C1-650D-4AC7-AD0B-F4627E8C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203D7-9DE1-400C-BCF6-51686ACC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776BB-E251-45AD-8E12-A6D4339A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5806F-BC30-40CE-A913-5A41259B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D3993-27AD-4C94-9F4D-27B2D088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EB0B9-F97A-4BE6-84E0-690B275D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9DE08-3C6E-4823-B2D6-9EF6DE9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A7424-FDE7-4954-BD3C-D1501DA3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7D330-F213-4B7B-8012-1A3C4BD2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1C63-9DB8-4C3E-ADE8-FAFB1CA8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840DE-28E3-4F39-8D14-B4D032FA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FF823-28FD-445D-B0F4-C6A89A53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82EA0-DF83-46A9-AD04-53DFA407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12047-C08A-4820-8683-52899AC8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6420DF-4C4D-4379-A187-9C3D0C1A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D2EE9-9633-4D3C-9D3D-4A889748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115D2-B28C-4666-9C0C-B395183A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577CC-A09F-4EED-8009-4835B9FE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A59C2-6BB7-48B0-A2D6-E6494169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FC315-8211-4509-8A92-AF7A2FF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BAB-B278-4265-B4D8-83A012AB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C786-E312-425F-803A-F6AF5E1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7AC84-0F76-4F2A-98D3-71D65D75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A4AAA-60E9-47D9-9356-CB7878E1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5AAAF-F868-4976-BA7D-7E1ABD92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E64A6-6791-46FB-A162-21FEE882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7CB63-C58F-469D-A6FE-31309647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FC419-9810-4A26-89D1-995DA24C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A1D3FC-744D-4D43-99BF-E8FC0D9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4C5DAB-3913-4ECE-A9F1-A3535230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B9B7E-0A8B-45ED-B231-B6373B28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15944-6C30-4544-B723-FF3FA71F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FA47-DF7F-4E3E-BFBE-1FEAA336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2A8F1-044E-482C-B32E-5A673A11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F15DC-BFFD-4605-ADC3-619132C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EC730-7FDC-4C93-A720-1DCF747F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4B749-E2A7-4688-A605-00F25C4A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65AE2-7835-4695-B367-6DABA3BA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7A9A0-4465-4999-8415-CF6A02D9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7EEA8-DF0B-433A-B9BE-B28762BA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C90C4-0145-44D6-B969-46948976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4AF52-AB56-4898-91EB-0421A56B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3498A-6B49-4618-B345-8FC3FBC9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16CB-A857-4AF9-AFC5-C0EE2BBA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5E38D6-3CB3-425F-B283-8AEFD179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5E65D-B796-4427-B0B6-F01E0720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64D2CD-47A0-48AA-9E0E-B512DBA2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2647D5-97B9-4487-AD44-2FBC75F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8B602D-A540-4D46-9EBF-E96E488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6AD47-2980-4412-B299-264F024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21100-529F-4D66-AECA-810703E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D1759-339E-4A9C-87BF-AF743D62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0C3447-AB20-42F4-B749-23071A21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882D0-18A7-4762-8AAB-E69F4C94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CC8F-DD04-4674-B972-82CCA4F5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59E092-5990-4076-8C66-B3B08C2A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728BB-DE07-422B-8D31-FF2D1390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D4E41-F31E-4FBF-8681-6C087CEB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E4424-589E-42E6-A9DC-435C6F26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98D4C-4227-4FAD-8B8C-17C372B6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E9FB0-9CBB-4D01-A6C6-B37834B9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34BB2-C4A9-439E-AF9A-19E48587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986E4-CE27-40A2-A0D5-435C8AD0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A428AB-C1DE-436C-B92F-921A2E48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C5993-7199-450F-A070-F5BC5178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5DBF-5999-41E4-BCBC-08D43DFF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85098-8627-4BE0-8FFF-622FC088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0D919E-9D40-4B5E-A84C-0029A24D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E201D-CB27-4ED9-AF34-AF30369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CAE23-3788-4B7D-9492-A36926AB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2449F-E64F-4A9D-B756-1C70D5CB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0101C3-C195-4E94-925F-D9DEF615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B81466-6C98-4633-8EBC-002A2FE4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1C9A7B-5D26-4DDA-9629-28C9FAD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05F5AA-CD37-472B-98F9-94EC79C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49AD9-2D6E-4F7E-BCF7-D90828EF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60E2-2F86-42F5-A77C-CCE58476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8A8FC6-CDD7-4AC7-8062-D8FBEC04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933511-DBFA-41AE-8952-DE010E02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8108F-472D-4856-AD68-17AD8708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94016-315C-42A9-901D-0618F0CC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ADC6BE-31A5-41DB-9F1B-0C1F2B3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630D86-475D-45DC-BE20-7A770B73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2AAFF-EA5D-4A77-BDA0-57310C67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5007CD-1552-4DA2-AADD-8E7B22E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971236-2DD3-4234-9A49-819B5B6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5A6099-01A4-4B13-B372-84456236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F94B-B6C7-4017-9E02-B13F8102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FB9E0-DA6E-4109-91E9-22681920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C4ECDB-4B3E-4403-ADE2-F87237A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4BBD5D-8C9C-497E-AE82-C80A2D3B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90B690-57D7-4F07-8E39-2F491361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6A8C4B-AFA3-4D17-B497-DBAA8FDD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D8C7E8-D8D6-4D45-B7A8-86CF0599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A4FAAF-C865-46AC-B1DC-D5D49D6B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920BDC-F1BB-48B6-AB34-37017B26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40285E-4709-4BD0-BEBA-F2DDD448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5E610-7E21-4913-9031-50A84718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D0D7-D116-4E4F-A2D2-283D2A70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C811E-263E-421C-9F7D-85FB5D0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655A26-9B1D-4870-938D-14A8BFC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72B03F-CBCA-4C63-8D5D-AAF366DC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3E7F62-BC2D-4051-AC33-D8B8F5E4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9E0408-92BC-4198-A357-7AABC678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37EB8C-E984-4BCC-92D2-A694A33E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770E09-85B8-48B5-969D-991D5DE5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A101D1-C43F-446D-B52E-C5293EF2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7BCE69-F63B-45FF-B71B-C025409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406128-6A02-46B6-9986-BB2A9FCB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5C523-607A-4A23-80F4-5F72B343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87C7D1-8B2A-4032-8A44-73A2D580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CD4346-3302-4BF8-B82F-EC74F25D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70A925-2581-4092-AFB8-3ED3653F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75AD87-9422-46D6-A77A-1299F13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A402C9-90E3-456D-8AC0-815F9B3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F95598-BDF1-4F00-B512-D327CA72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21ADA9-4B84-465F-827C-51C92C52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4ED695-81BA-469D-A9FB-4F325EEA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12F2D8-6F26-47FB-97CE-E0854C97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3138F9-6527-4067-A9A9-07934E7C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31F8-87C3-4870-A9BF-E6392DCE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111B3-ACAC-411E-987B-418AD47D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5CBBC8-1CB4-4076-AFFF-12688CBF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7AEA34-C186-4B05-BAFB-26E54724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D9ABB4-315A-4796-9361-015CEC16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7EB9B5-B332-44AB-9762-0E611C4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7A7B54-9944-4A6D-97E5-1F8E2F36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91FCBF-ADAD-418C-B143-CAB19DD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D34175-8869-4BCF-89BA-C5D0586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C6C769-CF3E-4ECF-AFB6-46B410BC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2C3CB9-C23F-4521-AD14-F0F2088E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A39-B19C-42BB-956C-B97B46CA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DBC3-EDC5-4916-8AA3-2C6B005C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18E0E1-D27F-4A50-AF1C-93860FF5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1C8294-5332-4014-A64A-DF55699D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3336EA-892A-4025-BC0D-A8431F41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F00AA1-01EF-46B3-BC67-F88AAF4A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325B57-07D5-405A-A725-65540BCC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7EDD33-207F-49DD-BCDB-E2C48C08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203423-F64D-4E06-9519-39BC9E29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F52433-78F6-42CF-9073-F0CB69F0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D66B4B-E3CF-4A72-BC7D-A507F082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D82E7D-ACB8-4736-A47B-F15B727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BB67-3111-4693-B42D-32D1700A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5BF6D8-9A87-48DC-BBFF-4D3F517D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768B99-F002-42A6-9140-7325587A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C7E9F7-F799-4C94-9062-9004DCD2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CD0F8E-3E57-42C4-9BB9-E5A0F1BD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5F141E-95E9-4FD0-8CF6-9536C303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A7B027-B2EC-48B9-966F-FEA354A1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8A83CC-9743-4E05-AE06-CD51EF2D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526B9A-804C-42C6-8442-DEA9E391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C3CFB6-0964-42B8-B519-B26AE6D1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0C9EC2-174E-481E-A3AA-8623D3B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8981-3982-4896-9D78-1C37F99A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6DE4E8-D888-43ED-8679-3699BC1A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333F36-B6A0-4FC3-9236-4ED8D55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851F2E-2599-49BA-9A5D-9DBD4DE3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A91F35-2FE3-4719-A226-6AE5B66E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9A1209-947C-4259-9E6C-154DC041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E6061E-8FB5-41F2-9901-25E9A9A7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BF72A2-0094-4CB1-8C4E-BFB3C324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C11796-C7FD-49B1-837A-F5247413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85ECA2-03C2-4A7C-8F50-DA9FE0D1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86086A-2358-490F-B159-2A6804CD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684B-4ADA-413D-9740-B1301CB8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37D4B8-4932-4474-B387-54810234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A35DB8-B41B-45A6-8D50-14A9F53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52DDC9-73EF-4832-A9AC-47FF8622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8CCDC1-EAA5-4F25-917E-74A9AA55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AFB82E-2F99-4377-8DFE-CE676A75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48A29-C96C-476C-B820-2B38F111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F80D48-14C2-4871-80C2-8615179E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4F7D01-13AB-47EB-A0E4-D14C3172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9A36F4-B2A5-46BF-B9B3-5F61F4FD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E26955-A1E9-4E93-A285-1D271243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7991-1198-4365-BAC5-D36DEEC3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9748E0-8918-4134-9DC4-83196042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E83C51-245A-42DF-8B8E-065F4D1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5F6D5C-A3CB-44B0-B878-69A6D844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7F4A74-CC4B-4420-87AD-EC3D697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2DC013-1C72-40E2-AE9D-1620F71D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87DB8E-48B4-40FE-8EFA-33789924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DAC747-A7F4-4562-9B8A-876CDEB2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EA67C8-3B25-408E-9FFF-3047FCCC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64EECC-9893-4029-AFB9-AF2BD77C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3B627A-F76E-47DB-8101-6E0C9CE3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E1F6-D69B-4D6D-9B64-BF0B3F83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AFA741-AEB7-4224-8A72-234AA84B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D9E953-F046-4F17-95A0-E754AD6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A116E2-B359-4B68-B28E-D92A4296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40AEDF-5AA3-40B3-A964-87A2F27F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4F3E67-3873-4553-8B78-646A15D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F42EDA-00D1-4B36-9FFB-713A531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BDD798-2277-47A9-94DF-88FD014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2D140C-95A6-4356-B9A7-066C3A97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6CEABD-D1C9-4294-8AE4-9987B970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08FEA7-1789-4182-9A41-1AA6EC25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950B-DA84-40BB-B476-5BFB7709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578FAE-4286-4583-9EAD-A057B3BC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996BBC-DC82-437D-B415-61D9C064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760380-76EE-49CC-8450-5011115F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7710F6-4EFB-4954-91ED-27D6C5FD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7B7D65-6062-4FED-A007-B882C08D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CB68D5-A688-4B7D-B1E4-0ABFF84D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113FB7-395E-4588-967E-53FAD5A6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AADB75-D24A-4B9C-AE6D-FEBA686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94FBA7-F7B4-4510-A145-040F34AF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C73777-8872-44C1-8F83-D0071D4F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4C72-85AF-47AB-855F-9EB36CEC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FAA897-8A6A-4939-9A19-A293C7C6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B0B627-D2AD-4988-AFA0-CF50CF73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4E6E36-712C-4083-89BA-64362794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0EACC7-B389-4DDF-875F-0EE4463E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93B152-434E-4E98-92EA-5B7B93EC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55CEE3-BBEF-4D59-BF80-2CF7DD59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212F20-29D3-4953-B73C-FE84F3BE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FF4430-69D7-4188-9F9D-3C479DC1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6A8630-D9D8-45D9-B979-666D35B6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970D40-C211-4ADA-8BE7-E99070B7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C31A-F4ED-41BC-B30B-4DCD0310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181740-BBBB-47F1-B95E-0C28EDB5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4C1294-5A57-4854-B1FC-CB2E98B7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A4356D-8FEC-4E83-8749-1A7A18F0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61CE96-DB57-417C-AC06-B7768B0C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1B40E3-787B-40C0-B61F-C45155F8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742BE3-EC50-485A-925F-73EF27C2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D67D1D-2AD2-4625-8884-67350A7A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4CF4CE-ACB3-4092-A2DF-0DCA380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EC30C9-51E4-493C-ACA7-5C704D63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856994-3ABF-4263-97C6-34EDF5DB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294A6-B5AB-4C75-9E04-AC4946FB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40B580-2DDF-40A1-B876-3B832941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3A47C9-1EFC-4823-88BF-9306537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CA5A36-E8FC-4B36-8116-6E28A049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48115E-475D-4275-BC67-074C4AB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6CAD32-EF48-439A-9013-E233107F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9A6B57-90D7-4AC7-BCC8-9B35FBF4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AD9269-02F9-4CA0-A2E0-065C7ACD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AC3D31-DBE0-4646-95CF-528EEAEE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118D4A-6AA6-4D52-91D0-D7F189C7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9B916C-188E-4443-8D57-95F6DA1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807-2D1A-4259-840F-43B33629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DBB42-19E6-4A10-A0BC-B5F965A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791C1A-C663-4CD8-9087-B29EC23A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E6F9BE-4721-4475-A279-F90420D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F1EC87-4109-4011-853A-47EDCFA4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AB7CEC-297B-4A22-B48B-C3473E82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C6C819-77B3-4AAE-9A2A-6D3C9D66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047419-118D-430B-AB64-7F26A84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C06BC8-E158-42F1-B2CF-CA66A353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8B2223-3B2E-4B59-9D9E-46DC4B3F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5B4A2F-A0C5-44CB-A98F-52C04C52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98ECC5-1882-4B3B-84B8-E403D1FF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53698-7372-4C78-B4FF-A26922D7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D52EAF-4DFA-458C-8CA3-5114596B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936061-0464-4E75-B56B-7B8454D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47BD65-500F-42F4-BE4B-DCF388C4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CFEF31-4E8E-4E1E-A537-25F31A06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8F0E51-D929-4EA0-BDC1-91A2CCAC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3847E1-AEA4-4292-91A0-230A186E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F6B2E2-B541-49FD-A80E-7E92F8F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8D4C35-D7BE-4D70-9336-6CDC432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EEE59C-7BE9-44E9-B821-A766DE3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4E25D3-D10A-4D70-91E6-870D9C39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23E4A-A8B9-4B4E-ABEE-0E5E5DF8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36C81C-453B-46C5-8458-1357482A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ECFA34-0314-440E-9674-1567F0B9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F5DF5F-AFCE-4250-B76F-89AB1E8E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BE0B5F-7C67-47E6-95F8-52F88CD7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00E019-1DF5-4C48-8739-139613B9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DE976A-EE4E-42E4-A887-71C85195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B39B8D-EEE5-417E-9222-4BA50AA5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018C81-4121-4924-B992-1A079531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8F904F-31C9-410B-8642-B0E13408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E62872-B572-458F-86D9-02091807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49C9-85FF-4FBD-B9C0-C4A790EF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F10111-E80C-4D12-BA20-1F0251C3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5529BE-DAD0-4567-AAB6-276588E1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58361A-4A4B-4FE9-86B6-A0010CD7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86FE9D-433D-4E61-A3EC-5C53DE1C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F9CDAC-7F32-4449-B78F-366F24F5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154780-0BE0-47B5-879D-B7BB8D91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1A3B65-02BB-4562-AC3B-E2926E0C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CF493E-2FBC-4E04-9141-3AFFDD97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A1688C-AF25-41A1-9378-435AD501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2EC83E-822E-472E-AFE8-2FCD371B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153F-4AA0-4010-BB05-18D5762E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6BF787-DA80-45F5-8089-B1DC41A9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1A4721-6B83-4AD7-A9CC-6331F35D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622924-1591-492F-A829-B9C928F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57F503-A2AB-457E-A2A8-8E3FAC78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6FBF7D-DD6E-46DE-85CB-557C0E4F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A35E46-DFF5-47F7-BFEC-11463332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631C9E-FCF1-4981-8F5C-8FB36540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F31907E-E7FC-4EE0-99E5-C175C202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7753FB-2B9F-4988-8273-23FAB907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273F6B-2290-4F45-8DC7-9AB6BEC4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AFA6-097C-4BDB-BAF6-F2EB79B1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647F88-FDDA-4A86-96E5-3FA44365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66E6EA-923B-4AF7-8745-1D5ADE98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0A83A8-7E18-4B9F-B001-7B2330BE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7C1682-D735-4689-A424-9442712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779EC8-F8A9-492E-8992-AA8FAB53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384186D-2480-4154-A394-03F78F42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1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4FF422-FFE4-49B0-81EF-589BBB71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198FC1-418C-4368-9EB6-1C348F12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2E83EC-1BF3-4337-A372-D1523C67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19F3F88-B409-4163-B0B2-541961A1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3EC0-704A-4A9F-A660-917DD4D3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1341CA3-19ED-405A-8753-6853AFF8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3BB212-A322-4E66-BB0A-65749307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80752C-0C29-4F4B-B6DE-C4EEBFC7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634724-A212-4627-BFDE-D2F747F1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3B6432-E7D7-4223-AC6A-58A268F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B19CB6-42AF-4318-A2DF-8608303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E7546ED-831E-4B71-B14A-1457AB28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08D8C2-078F-46A1-B72F-48B65E4E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57266E-6354-46DC-8205-576F7236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891F94-118D-44CE-B44D-9DEC7EE6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50AA-27D4-489D-ADF2-CAC675B9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A5CD25-2F3D-4943-A586-6F426EE3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23DFD1-E3F8-4679-B223-59496C60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A780A8-9206-4180-8A3C-079BC623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4CE565-20B9-4769-B18A-E8257DFA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1AEB1F-C7F4-49A7-98E5-C2E2257F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7AE7558-3B52-400B-8A8B-D88609CC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563EEB-3120-4812-A18D-0952D8D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516C10-F195-4CCC-A880-9A306ED5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5AE4BE-754B-4E0E-BC81-8B6A60B1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1F6CCA-0ED6-4F85-9DC1-9681B3E0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278B-7A14-4E45-99A9-15AE3583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5FFF29-0CB8-4B22-B2A0-4CC07A74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9F3758-A694-432F-8694-8ED9104F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93E5A6-08E7-42E5-9563-00213323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B18499-D05A-46AC-9062-2BEBB20D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FFB5F2-26A4-4E28-9A86-0085DB09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CE574E-3EF3-4300-9308-24F51063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A4F155-A3F2-4021-B942-02E0ADE2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05FA4A-514A-4A51-8347-2B2AB126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FA69BE-7A80-472B-8AA9-6511705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B2FAFB-093E-4DE4-A325-E673F7B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51519-38D0-412A-A02C-8EA5D99C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7780318-EFC1-4AC3-9BD0-364D9F22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7FA95B-D0CD-4FB0-BB09-AAA2FE3A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BE7D1E-2D40-426D-A734-7E2CA17A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87D2CF-91E2-41AC-BC9E-2BA795B0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F43D9C-8926-4E1B-A65D-7227449E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C2DB84-D50E-4F4E-AC07-241D50FF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5953FD-C19A-4352-9520-79DDC111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36613B-DAD5-417F-BF8A-CF368E70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6AC5C3-BFC8-47BE-9CFD-A826063B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F92E0D-C2D3-48DA-BFC9-1E3F1B9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B40-30CB-4316-8EEA-B38BC06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D14A0-3DEE-489A-9108-DEB21D9A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95B900-EB7D-4ADA-BB4C-CF6989F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9688B1-2F8E-4BBC-99E4-BCD17912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DCFF69E-7629-4132-BB58-78EE909A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EAB2D4-241E-4690-B27C-DA94E51D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C1E3EF-0D37-40F8-A929-586D1360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3AA964-DEE7-43EB-8BE6-88F5FA9C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4867CC-E56B-4719-9636-1B0447B0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689FF1-01C0-48E8-8E3F-CC5FABEA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445FC4-CE9E-4E00-8D01-9C217CCC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D41616F-C52B-4402-8C53-B2FAD932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EA78E-B11B-479A-9157-8F393D54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CC729D8-57DF-4F4B-BD71-5FF9D8ED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611163-4580-49C0-B42A-CCD33AC5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26FC89-B90D-479B-8247-387FAC3F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AA0869-ADE9-4FAD-9F39-B3898BC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34609F-9E60-434C-AF0E-5538C496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DD19FB-92A4-4851-A113-4EC5302D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14D6C8B-8EBD-4743-A4DB-496721AF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D60670-9CC3-4DAF-9E32-2E0BDBD7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9035FD-5E83-48DF-8326-D269D9F9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57C592-823D-40F2-8D16-AF4BCE3A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AEFA8-8677-4ABC-80B3-3060F3B5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6953E6-600C-4E01-932A-0D16267B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ADDF21-78AC-4897-997C-B995D37B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3EB6552-3BE2-4B2E-B62E-3098AA8A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35ED22-55EB-4C84-B0B0-59210825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4E9634-7EA1-49A5-85ED-3D73858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B7F3F9D-0FB1-457D-8877-703F6E5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F78B56-B7FE-4D79-A8AE-26FC7F74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2F26C2-AC8E-458F-9D79-D062E2DC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1C0CA3B-386C-429E-956C-F73EB4EC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9B26C1-FA1A-455C-A26F-5CC79407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BE63D-D687-435C-A5EF-B044722B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D097A3-A9D4-4DB1-8294-4207F8DC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18D459A-2A7B-41F3-BFD9-7EE24C81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2D14193-E591-4207-AE88-07EE9269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5E17B3-20B8-4B7B-A053-00AE7745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276F93-A4D7-43BF-BD16-3AE254E4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B642A56-5EA7-48B4-8A3A-F6393E8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F264334-92CF-4F15-B8CE-6F74A49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84F06DB-5C15-4536-8DC4-C8144988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2F1274-8EBA-4D6A-884D-A6203744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8B7158-55D6-44D3-9B82-2B82C792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B515-8060-45E6-932E-D056E443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7921A9-5348-4E19-AE11-A943AD04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FCC654-189D-4122-99AE-03A58692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2E3826-4ECE-4CA1-AA1C-26BA382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D22194-B36E-46BA-BC29-F82979BB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541CBDE-EE27-439E-8F61-5407F646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69DE670-3A13-4856-B260-CC00509B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83D4771-3803-46CC-A42D-0479F34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859D9C-6821-43AD-838F-23DD1043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E7CE20-3ECD-4304-B6C8-25A276C2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45CAD8B-621A-4876-A385-5F641A70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79108-72F9-49E8-BE9F-1AB2D6E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9B555DD-8865-4F1E-A35C-4E21D166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2DC410-9824-4A6B-AAE5-69A9DCB8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7944024-184D-46BD-BA96-009719DE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B237EEC-FB50-4073-8CDD-A425D430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F9E44A-D0CD-4562-AE0A-160187D4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CD84FD-5A35-4BCB-A346-3BFB5296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93ACB0-573E-4647-900E-30F542EA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7FFCF7C-D781-4E6D-82DA-49A3DBFE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67757EF-CBF4-47CA-B9AE-BD6AC748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115199-BD17-4B2B-93AA-4F500D24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9762-E990-42D4-B559-BB71AC30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25CB5A-7FAC-4063-B74E-714A9A7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C91C54A-13D7-480A-B48A-B6859747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70A1AB-5858-4B08-A443-244EB0B6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26192E-4C15-482A-A965-BE8F8F1F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D106B49-8113-414E-A61B-5CB34B9D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99CC10-A9CF-4D03-AB10-A95F7475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4AB0CE-2E29-431B-A01C-9885AA0A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7F6D7F-F379-4D40-B1FC-A17C4C4D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2E75DB-4AE8-4436-939A-B66D3546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E236F8-A1E4-45A5-ACCC-92B914EE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7606-37CF-4BB8-8155-4A299CC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F079993-03E2-4B0F-92CD-C306EF29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D85F338-63BA-420C-B8E5-9746E34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C52B0DC-BD7A-4E11-BB88-9D40C4C3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8733AD-86C0-4676-ACB8-D33164AF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3A03F9-B28D-4D6B-BCE2-93B9887A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485656-4467-4704-9EC7-63BEAD3C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2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89576E9-F02A-4629-92EA-EB1307A6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6B763E-F1FE-49B5-86F5-AF7C81CC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7CD4861-301D-44E1-AE23-E22D1FA7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1FF6C0-7FB1-4284-A5B5-98A9BCB1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154E9-6C5A-4EE9-BCB2-829697AC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EC339D5-96B7-44C0-8EAA-D6C3C4D0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165E553-38EF-4D17-98EB-9D138D81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152818-F8FB-49FB-90B5-ACB47DA6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E6448B7-2ECF-4D88-AF0F-19F0C566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A87D3C8-7FDF-406C-9A8C-315CA9C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5F45DCB-3291-498C-AD09-A1046CD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9A9A368-C4BC-4300-B051-173D825C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1237D6C-8296-487A-9E72-56136350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DE5991-8EBF-47A1-AED9-97AAB87A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E533CC-FF6A-48C2-B2E5-6385FB9A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EE57-D76B-4DD2-95DC-1C1609D2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A07627-7D8C-4D55-AC00-DFCDAF6B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6913082-4256-4788-9D6B-3C5E6D5E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FE11CF-CF09-4872-9C48-D57B84D8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68529F8-4F81-43C6-A84A-694452D2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464C0C-303B-4945-8172-A6A07AA0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C656D3B-52A3-4AEC-846D-516FA598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3FA1926-4D1F-4CE7-BF3F-CB721DF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F602CB7-A475-410E-963C-78FFFB1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EAB4DA3-3CDC-4F17-986C-702F9C4E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D981D2D-1928-4DF5-A337-507E7B39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300-23BD-4F4F-92F7-6332C45B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0FF0-CC43-4D98-9842-08FCB22F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B206646-1DF9-4C77-8B5E-3D57EEA4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F21C724-65C0-4584-83F9-26525452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6B74DAC-948F-43F5-AEA0-56EA24EA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246ECAC-BEF7-44BF-9BD4-10BC475D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35DBB9A-4E57-4249-8EE0-EF477263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539A5CF-0ABD-4BD0-8CA8-713349F6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19278C-1CE0-4263-8D3E-B3F482F1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1A162A2-A814-4286-B21E-00DD78F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B0D21FC-7345-4AF3-9A9C-81C663E1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2FEF641-EC4E-466D-880D-8DDECEFF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4D3D-2D8B-4356-B9A6-E3B05527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A528F84-4FE3-4064-A03C-1750FDD3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C21BBCC-7E41-49EF-8A43-E468603F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828F070-B97E-486F-AF8B-63B9D32E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1E889BF-B09F-437D-BE94-D81A9037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866A1CF-5C7E-4670-B7AB-0873C755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DDFB9B6-3A0E-474E-960C-63D1DB79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4C934B2-0FA4-4DFB-8002-E1F6F3C4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64C7796-5483-4883-BDA4-31DA5971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F376D7C-E307-459E-BFCF-F27BDFDD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E840FE6-C31E-4270-B0B3-67BD95C2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30ECF-3C64-4EA2-96E7-277FBAE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DB222F-80DC-45ED-B61F-7DE1B90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DCE8A25-0D44-449A-A387-BA7B25F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BBF235D-4868-49D3-835F-C0E34F31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1EC8FE4-3648-46DA-9432-A4A34BBF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7B57813-9081-4CEC-9C55-FEBEABB6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4469C3-E9E8-4604-9D69-8CC0AA66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3A922E5-B676-47A6-A044-B04A8B87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76DF022-7F29-4362-8A98-556FC144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E0E401F-C64D-413D-AF02-6258C62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FAE3DF4-A22F-413D-9285-DB2277EC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7E846-DF1D-42FC-AA51-DEC0CC60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1DE44C8-2DF4-4D8A-9325-33E5DE2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326AAC-9651-4AC4-A315-AD81148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1142AA4-47D2-45AA-9EB4-1B656B3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B729F28-90A6-4D95-8DF3-8560938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12BD69-B4FE-4389-8030-EA94C74C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EF1F912-0C79-4A08-8AEA-C69BE6E5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5AFB3F4-7CAB-4337-9457-0FBC0066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086E123-9517-4288-8F3D-48665BEE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1EB44A-0982-4C62-AA17-D2B2EDAC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64325E-BD0B-4BB6-9D42-190C8B51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7A92F-009F-48FC-B0E0-7465A32B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A93E405-6717-40C7-B15C-65BD2F16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4799B8F-EF95-471F-8EBD-DD40600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3D78104-D17C-4705-95DB-574B6232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8F53731-3008-48ED-903E-4E95E41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B1AD045-CCC2-4CFF-AF4F-C62727B5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460D019-9D43-4EC4-9BAF-B51349D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848635-5662-4B36-9A43-D59A8A4C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AB511D-2160-447E-859A-D43CDC9D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151D255-3180-4921-9253-A3EA3CA5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1250-56FE-4CC8-9A45-D5E5C86E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0B8E6-795B-44C5-8F09-5F81AE3F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D188-9E34-44BC-8DEC-371E268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153C-AD06-43A2-A49B-CB437620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7B65F-E605-4E1A-B879-030DEC72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1F7-8060-4F4F-A9B1-BBB8EFE2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32C3-A76C-4164-B003-EDE029B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2EB17-F102-46C9-9157-59767471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E152-016C-43A7-AE88-1C0C5505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4F805-768C-4E51-A58D-054227D2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25B51-471A-4F28-84E3-D406C1FD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28738-5A2D-41A2-8E4C-2E6601C7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20D0A-344D-4036-A87B-C37A1412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AB247-262A-4935-892B-D9360D55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53D19-45E7-4473-9618-8C9AAD3C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B6B8-C83B-4794-A9E3-96E7F98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9C8-5BD1-431D-8ADE-5284976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E49F-0009-4BEE-9A93-62EF7C5B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D165-0A55-4224-AC02-035F3E1C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8D214-A43B-41C4-9BFF-0DB4F50E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43D1E-56CB-406F-81B8-6B64F4AA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7882-3399-4396-9526-378D833D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B10E8-F35E-494F-9363-48FCC473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8CB7A-97BD-40C0-978B-661619F5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CE172-D1BD-43CA-89F3-973EF84C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B64B1-B53E-40E1-8E88-EF0E3A3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C2EE2-E99A-47D5-8B99-0129E172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5DA-EEDA-4195-AFE9-94E85544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CCA0B-953C-4ACA-8547-84F127DD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31724-CFE1-49A1-9BC1-5B1414BB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8B45B-B9A4-4B0A-AA0D-BDB320FE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B395E-FC4C-4233-B4F5-9B24E9D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70860-7788-45B4-AD69-5CA6AF70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832E8-B804-4092-94FF-73B79DF6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730DF-6DFA-470A-A14E-A918EF6A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3DE67-9D46-4DC2-9301-4ED7936E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AAA5B-4364-45BF-8A43-7DA3915D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C3172-C98E-45EB-B4FD-2CBB8EC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1" name="Freeform 2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5" name="Freeform 6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19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1440" y="622080"/>
              <a:ext cx="9137520" cy="2491200"/>
              <a:chOff x="1440" y="622080"/>
              <a:chExt cx="9137520" cy="249120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1440" y="124308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1440" y="311184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1440" y="248868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1440" y="186588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6FA939-6CD6-404B-BBCB-1FA46D3F8E5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2EE4-1BB9-4594-9F10-4FE72F6ABE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5963AA-0EFF-40A5-99C9-92120C973F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67036B-EAE9-4AB5-B3D9-0724F4D054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7EC4CC-391D-4638-9E82-6727E5A7AE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B79010-F1ED-4D3C-8C10-9BA14471C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3BD758-ED1D-4BA8-A1D9-2B6499161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ECA769-A71A-4E18-BB9F-CD6F25797D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61C767-0782-4B8A-A2C9-46AB41E7C4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3E1F7A-7071-4739-98A8-AD81D5BA35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A629CD-1EF9-47B1-BD80-BA534998BF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79" name="Freeform 2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5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83" name="Freeform 6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7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6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7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19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0"/>
            <p:cNvGrpSpPr/>
            <p:nvPr/>
          </p:nvGrpSpPr>
          <p:grpSpPr>
            <a:xfrm>
              <a:off x="0" y="622080"/>
              <a:ext cx="9137880" cy="2491200"/>
              <a:chOff x="0" y="622080"/>
              <a:chExt cx="9137880" cy="2491200"/>
            </a:xfrm>
          </p:grpSpPr>
          <p:sp>
            <p:nvSpPr>
              <p:cNvPr id="108" name="Line 31"/>
              <p:cNvSpPr/>
              <p:nvPr/>
            </p:nvSpPr>
            <p:spPr>
              <a:xfrm>
                <a:off x="0" y="124308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2"/>
              <p:cNvSpPr/>
              <p:nvPr/>
            </p:nvSpPr>
            <p:spPr>
              <a:xfrm>
                <a:off x="0" y="311184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3"/>
              <p:cNvSpPr/>
              <p:nvPr/>
            </p:nvSpPr>
            <p:spPr>
              <a:xfrm>
                <a:off x="0" y="248868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4"/>
              <p:cNvSpPr/>
              <p:nvPr/>
            </p:nvSpPr>
            <p:spPr>
              <a:xfrm>
                <a:off x="0" y="186588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5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6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A49D05-CB86-45C6-A149-AC2F69B6F3B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E9A1E3-E36B-419C-A3B0-2D9FA0E0F7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DE328A-E877-4F5A-9A10-89D58FC56E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061AC3-C10B-4A6A-90A4-6BB510DC0E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0D6F6E-0037-4685-AFB5-F7F296685C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AF736E-E39E-4C19-957B-DFD3052CAB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0F566A-F54C-4B4E-90F3-9E8B4BC4BF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6D0F72-BBC3-4C39-BC3D-6EDCFF4882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68D759-F1C5-4900-9E5F-6BDB21BF07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1A22EB-5EC0-4F86-969C-B82E8E6C80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64ECF8-6622-46D7-B193-D24FFB893F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"/>
          <p:cNvGrpSpPr/>
          <p:nvPr/>
        </p:nvGrpSpPr>
        <p:grpSpPr>
          <a:xfrm>
            <a:off x="1071720" y="304920"/>
            <a:ext cx="7613280" cy="1104480"/>
            <a:chOff x="1071720" y="304920"/>
            <a:chExt cx="7613280" cy="1104480"/>
          </a:xfrm>
        </p:grpSpPr>
        <p:sp>
          <p:nvSpPr>
            <p:cNvPr id="157" name="Oval 2"/>
            <p:cNvSpPr/>
            <p:nvPr/>
          </p:nvSpPr>
          <p:spPr>
            <a:xfrm flipH="1">
              <a:off x="4868280" y="304920"/>
              <a:ext cx="11048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3"/>
            <p:cNvSpPr/>
            <p:nvPr/>
          </p:nvSpPr>
          <p:spPr>
            <a:xfrm flipH="1">
              <a:off x="7581240" y="304920"/>
              <a:ext cx="110340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4"/>
            <p:cNvSpPr/>
            <p:nvPr/>
          </p:nvSpPr>
          <p:spPr>
            <a:xfrm flipH="1">
              <a:off x="1071720" y="30600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flipH="1">
              <a:off x="6322320" y="304920"/>
              <a:ext cx="110340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flipH="1">
              <a:off x="2358360" y="304920"/>
              <a:ext cx="110340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5998EA-9B80-4B9C-B25E-89E23122C5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D9E8B0-4B3D-4EDE-A739-2860DCD3CA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9D9FB5-0D06-4AC8-B816-CD147033B6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5AD103-7E7F-4D7F-8CD5-4545F6025D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C57D27-9F02-4AED-BBB2-7F8161573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540231-547F-415B-8112-79A17C9A53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9FBA4C-28BC-427D-A1A8-FE85A94865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3D7412-6A83-4AB9-B860-ACBB3EC3AB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E8ED8A-5E55-48D5-8B25-83EEAEB971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AEF163-9CE8-4E46-A345-E60502B834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1A0136-64ED-46FC-8284-7B1186E994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204" name="Oval 2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3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4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5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A14A05-850E-4F83-BD4D-0353CD5C23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89E7B7-E896-4574-AB77-B805CA2C79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E23D50-2F89-4DE6-989E-0472A9B18C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F67139-D9C0-459E-BA89-5719373F09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 type="dt" idx="1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 type="sldNum" idx="1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ABA5F6-B230-45FD-AFEC-75432C6EC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 type="dt" idx="1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 type="sldNum" idx="1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353530-7630-40FE-AC09-0D0AD117C8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 type="dt" idx="1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 type="sldNum" idx="1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8E6216-FFBF-4F50-A6FC-063B6446A7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 type="dt" idx="1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 type="sldNum" idx="1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E36EAD-2C68-474D-A418-07F5B27371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 type="dt" idx="1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 type="sldNum" idx="1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63C689-D43F-48E0-B0D2-89D298688F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 type="dt" idx="1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CED2BB-5769-44C6-8ACB-B22C3D9264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 type="dt" idx="1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F19FFC-7983-418C-AC07-92F03D80C3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1"/>
          <p:cNvGrpSpPr/>
          <p:nvPr/>
        </p:nvGrpSpPr>
        <p:grpSpPr>
          <a:xfrm>
            <a:off x="6225840" y="-55080"/>
            <a:ext cx="3010320" cy="3366720"/>
            <a:chOff x="6225840" y="-55080"/>
            <a:chExt cx="3010320" cy="3366720"/>
          </a:xfrm>
        </p:grpSpPr>
        <p:grpSp>
          <p:nvGrpSpPr>
            <p:cNvPr id="251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52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"/>
              <p:cNvSpPr/>
              <p:nvPr/>
            </p:nvSpPr>
            <p:spPr>
              <a:xfrm>
                <a:off x="7927200" y="2828160"/>
                <a:ext cx="24048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255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7"/>
              <p:cNvSpPr/>
              <p:nvPr/>
            </p:nvSpPr>
            <p:spPr>
              <a:xfrm>
                <a:off x="8159040" y="177264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258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10"/>
              <p:cNvSpPr/>
              <p:nvPr/>
            </p:nvSpPr>
            <p:spPr>
              <a:xfrm>
                <a:off x="6689160" y="32760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1"/>
            <p:cNvGrpSpPr/>
            <p:nvPr/>
          </p:nvGrpSpPr>
          <p:grpSpPr>
            <a:xfrm>
              <a:off x="6225840" y="-55080"/>
              <a:ext cx="3010320" cy="3366720"/>
              <a:chOff x="6225840" y="-55080"/>
              <a:chExt cx="3010320" cy="3366720"/>
            </a:xfrm>
          </p:grpSpPr>
          <p:grpSp>
            <p:nvGrpSpPr>
              <p:cNvPr id="261" name="Group 12"/>
              <p:cNvGrpSpPr/>
              <p:nvPr/>
            </p:nvGrpSpPr>
            <p:grpSpPr>
              <a:xfrm>
                <a:off x="6991200" y="403200"/>
                <a:ext cx="1497240" cy="1103400"/>
                <a:chOff x="6991200" y="403200"/>
                <a:chExt cx="1497240" cy="1103400"/>
              </a:xfrm>
            </p:grpSpPr>
            <p:sp>
              <p:nvSpPr>
                <p:cNvPr id="262" name="Oval 13"/>
                <p:cNvSpPr/>
                <p:nvPr/>
              </p:nvSpPr>
              <p:spPr>
                <a:xfrm>
                  <a:off x="6991200" y="403200"/>
                  <a:ext cx="149724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"/>
                <p:cNvSpPr/>
                <p:nvPr/>
              </p:nvSpPr>
              <p:spPr>
                <a:xfrm>
                  <a:off x="7562160" y="80568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15"/>
              <p:cNvGrpSpPr/>
              <p:nvPr/>
            </p:nvGrpSpPr>
            <p:grpSpPr>
              <a:xfrm>
                <a:off x="6225840" y="-55080"/>
                <a:ext cx="2961360" cy="2340000"/>
                <a:chOff x="6225840" y="-55080"/>
                <a:chExt cx="2961360" cy="2340000"/>
              </a:xfrm>
            </p:grpSpPr>
            <p:grpSp>
              <p:nvGrpSpPr>
                <p:cNvPr id="265" name="Group 16"/>
                <p:cNvGrpSpPr/>
                <p:nvPr/>
              </p:nvGrpSpPr>
              <p:grpSpPr>
                <a:xfrm>
                  <a:off x="7574400" y="873720"/>
                  <a:ext cx="1420920" cy="1190160"/>
                  <a:chOff x="7574400" y="873720"/>
                  <a:chExt cx="1420920" cy="1190160"/>
                </a:xfrm>
              </p:grpSpPr>
              <p:sp>
                <p:nvSpPr>
                  <p:cNvPr id="266" name="Freeform 17"/>
                  <p:cNvSpPr/>
                  <p:nvPr/>
                </p:nvSpPr>
                <p:spPr>
                  <a:xfrm rot="2700000">
                    <a:off x="7543800" y="1133280"/>
                    <a:ext cx="84456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18"/>
                  <p:cNvSpPr/>
                  <p:nvPr/>
                </p:nvSpPr>
                <p:spPr>
                  <a:xfrm rot="2700000">
                    <a:off x="8461440" y="1549440"/>
                    <a:ext cx="45360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19"/>
                <p:cNvGrpSpPr/>
                <p:nvPr/>
              </p:nvGrpSpPr>
              <p:grpSpPr>
                <a:xfrm>
                  <a:off x="7851240" y="529560"/>
                  <a:ext cx="1335960" cy="1398240"/>
                  <a:chOff x="7851240" y="529560"/>
                  <a:chExt cx="1335960" cy="1398240"/>
                </a:xfrm>
              </p:grpSpPr>
              <p:sp>
                <p:nvSpPr>
                  <p:cNvPr id="269" name="Freeform 20"/>
                  <p:cNvSpPr/>
                  <p:nvPr/>
                </p:nvSpPr>
                <p:spPr>
                  <a:xfrm rot="2100000">
                    <a:off x="7845120" y="771840"/>
                    <a:ext cx="932040" cy="27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21"/>
                  <p:cNvSpPr/>
                  <p:nvPr/>
                </p:nvSpPr>
                <p:spPr>
                  <a:xfrm rot="2100000">
                    <a:off x="8608680" y="1392840"/>
                    <a:ext cx="50004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22"/>
                <p:cNvGrpSpPr/>
                <p:nvPr/>
              </p:nvGrpSpPr>
              <p:grpSpPr>
                <a:xfrm>
                  <a:off x="7834680" y="549720"/>
                  <a:ext cx="1347840" cy="1099800"/>
                  <a:chOff x="7834680" y="549720"/>
                  <a:chExt cx="1347840" cy="1099800"/>
                </a:xfrm>
              </p:grpSpPr>
              <p:sp>
                <p:nvSpPr>
                  <p:cNvPr id="272" name="Freeform 23"/>
                  <p:cNvSpPr/>
                  <p:nvPr/>
                </p:nvSpPr>
                <p:spPr>
                  <a:xfrm rot="1560000">
                    <a:off x="7840440" y="735120"/>
                    <a:ext cx="901440" cy="23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24"/>
                  <p:cNvSpPr/>
                  <p:nvPr/>
                </p:nvSpPr>
                <p:spPr>
                  <a:xfrm rot="1560000">
                    <a:off x="8641800" y="1191960"/>
                    <a:ext cx="48384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25"/>
                <p:cNvGrpSpPr/>
                <p:nvPr/>
              </p:nvGrpSpPr>
              <p:grpSpPr>
                <a:xfrm>
                  <a:off x="7822080" y="564840"/>
                  <a:ext cx="1363680" cy="862920"/>
                  <a:chOff x="7822080" y="564840"/>
                  <a:chExt cx="1363680" cy="862920"/>
                </a:xfrm>
              </p:grpSpPr>
              <p:sp>
                <p:nvSpPr>
                  <p:cNvPr id="275" name="Freeform 26"/>
                  <p:cNvSpPr/>
                  <p:nvPr/>
                </p:nvSpPr>
                <p:spPr>
                  <a:xfrm rot="1080000">
                    <a:off x="7837560" y="695520"/>
                    <a:ext cx="8841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27"/>
                  <p:cNvSpPr/>
                  <p:nvPr/>
                </p:nvSpPr>
                <p:spPr>
                  <a:xfrm rot="1080000">
                    <a:off x="8664120" y="983520"/>
                    <a:ext cx="474480" cy="37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28"/>
                <p:cNvGrpSpPr/>
                <p:nvPr/>
              </p:nvGrpSpPr>
              <p:grpSpPr>
                <a:xfrm>
                  <a:off x="7843680" y="602640"/>
                  <a:ext cx="1250640" cy="499320"/>
                  <a:chOff x="7843680" y="602640"/>
                  <a:chExt cx="1250640" cy="499320"/>
                </a:xfrm>
              </p:grpSpPr>
              <p:sp>
                <p:nvSpPr>
                  <p:cNvPr id="278" name="Freeform 29"/>
                  <p:cNvSpPr/>
                  <p:nvPr/>
                </p:nvSpPr>
                <p:spPr>
                  <a:xfrm rot="480000">
                    <a:off x="7853400" y="657720"/>
                    <a:ext cx="80532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30"/>
                  <p:cNvSpPr/>
                  <p:nvPr/>
                </p:nvSpPr>
                <p:spPr>
                  <a:xfrm rot="480000">
                    <a:off x="8642160" y="766440"/>
                    <a:ext cx="4327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7870680" y="626760"/>
                  <a:ext cx="1109160" cy="196200"/>
                  <a:chOff x="7870680" y="626760"/>
                  <a:chExt cx="1109160" cy="196200"/>
                </a:xfrm>
              </p:grpSpPr>
              <p:sp>
                <p:nvSpPr>
                  <p:cNvPr id="281" name="Freeform 32"/>
                  <p:cNvSpPr/>
                  <p:nvPr/>
                </p:nvSpPr>
                <p:spPr>
                  <a:xfrm rot="21480000">
                    <a:off x="7872480" y="644760"/>
                    <a:ext cx="7214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33"/>
                  <p:cNvSpPr/>
                  <p:nvPr/>
                </p:nvSpPr>
                <p:spPr>
                  <a:xfrm rot="21480000">
                    <a:off x="8588880" y="633600"/>
                    <a:ext cx="38772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34"/>
                <p:cNvGrpSpPr/>
                <p:nvPr/>
              </p:nvGrpSpPr>
              <p:grpSpPr>
                <a:xfrm>
                  <a:off x="7835400" y="381240"/>
                  <a:ext cx="1018080" cy="438480"/>
                  <a:chOff x="7835400" y="381240"/>
                  <a:chExt cx="1018080" cy="438480"/>
                </a:xfrm>
              </p:grpSpPr>
              <p:sp>
                <p:nvSpPr>
                  <p:cNvPr id="284" name="Freeform 35"/>
                  <p:cNvSpPr/>
                  <p:nvPr/>
                </p:nvSpPr>
                <p:spPr>
                  <a:xfrm rot="20760000">
                    <a:off x="7845480" y="581040"/>
                    <a:ext cx="64548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36"/>
                  <p:cNvSpPr/>
                  <p:nvPr/>
                </p:nvSpPr>
                <p:spPr>
                  <a:xfrm rot="20760000">
                    <a:off x="8481240" y="419040"/>
                    <a:ext cx="3459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37"/>
                <p:cNvGrpSpPr/>
                <p:nvPr/>
              </p:nvGrpSpPr>
              <p:grpSpPr>
                <a:xfrm>
                  <a:off x="6438960" y="937800"/>
                  <a:ext cx="1421640" cy="1189080"/>
                  <a:chOff x="6438960" y="937800"/>
                  <a:chExt cx="1421640" cy="1189080"/>
                </a:xfrm>
              </p:grpSpPr>
              <p:sp>
                <p:nvSpPr>
                  <p:cNvPr id="287" name="Freeform 38"/>
                  <p:cNvSpPr/>
                  <p:nvPr/>
                </p:nvSpPr>
                <p:spPr>
                  <a:xfrm flipH="1" rot="18900000">
                    <a:off x="7046280" y="1197720"/>
                    <a:ext cx="84456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39"/>
                  <p:cNvSpPr/>
                  <p:nvPr/>
                </p:nvSpPr>
                <p:spPr>
                  <a:xfrm flipH="1" rot="18900000">
                    <a:off x="6518160" y="1614600"/>
                    <a:ext cx="453240" cy="41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40"/>
                <p:cNvGrpSpPr/>
                <p:nvPr/>
              </p:nvGrpSpPr>
              <p:grpSpPr>
                <a:xfrm>
                  <a:off x="6225840" y="618120"/>
                  <a:ext cx="1337760" cy="1398240"/>
                  <a:chOff x="6225840" y="618120"/>
                  <a:chExt cx="1337760" cy="1398240"/>
                </a:xfrm>
              </p:grpSpPr>
              <p:sp>
                <p:nvSpPr>
                  <p:cNvPr id="290" name="Freeform 41"/>
                  <p:cNvSpPr/>
                  <p:nvPr/>
                </p:nvSpPr>
                <p:spPr>
                  <a:xfrm flipH="1" rot="19500000">
                    <a:off x="6636600" y="860400"/>
                    <a:ext cx="932040" cy="27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42"/>
                  <p:cNvSpPr/>
                  <p:nvPr/>
                </p:nvSpPr>
                <p:spPr>
                  <a:xfrm flipH="1" rot="19500000">
                    <a:off x="6303600" y="1482480"/>
                    <a:ext cx="50004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43"/>
                <p:cNvGrpSpPr/>
                <p:nvPr/>
              </p:nvGrpSpPr>
              <p:grpSpPr>
                <a:xfrm>
                  <a:off x="6229800" y="641880"/>
                  <a:ext cx="1350000" cy="1099800"/>
                  <a:chOff x="6229800" y="641880"/>
                  <a:chExt cx="1350000" cy="1099800"/>
                </a:xfrm>
              </p:grpSpPr>
              <p:sp>
                <p:nvSpPr>
                  <p:cNvPr id="293" name="Freeform 44"/>
                  <p:cNvSpPr/>
                  <p:nvPr/>
                </p:nvSpPr>
                <p:spPr>
                  <a:xfrm flipH="1" rot="20040000">
                    <a:off x="6672240" y="827280"/>
                    <a:ext cx="9010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45"/>
                  <p:cNvSpPr/>
                  <p:nvPr/>
                </p:nvSpPr>
                <p:spPr>
                  <a:xfrm flipH="1" rot="20040000">
                    <a:off x="6286680" y="1283040"/>
                    <a:ext cx="48384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Group 46"/>
                <p:cNvGrpSpPr/>
                <p:nvPr/>
              </p:nvGrpSpPr>
              <p:grpSpPr>
                <a:xfrm>
                  <a:off x="6226560" y="657360"/>
                  <a:ext cx="1364040" cy="861120"/>
                  <a:chOff x="6226560" y="657360"/>
                  <a:chExt cx="1364040" cy="861120"/>
                </a:xfrm>
              </p:grpSpPr>
              <p:sp>
                <p:nvSpPr>
                  <p:cNvPr id="296" name="Freeform 47"/>
                  <p:cNvSpPr/>
                  <p:nvPr/>
                </p:nvSpPr>
                <p:spPr>
                  <a:xfrm flipH="1" rot="20520000">
                    <a:off x="6693120" y="787680"/>
                    <a:ext cx="8816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48"/>
                  <p:cNvSpPr/>
                  <p:nvPr/>
                </p:nvSpPr>
                <p:spPr>
                  <a:xfrm flipH="1" rot="20520000">
                    <a:off x="6273000" y="1075320"/>
                    <a:ext cx="47304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Group 49"/>
                <p:cNvGrpSpPr/>
                <p:nvPr/>
              </p:nvGrpSpPr>
              <p:grpSpPr>
                <a:xfrm>
                  <a:off x="6319080" y="694440"/>
                  <a:ext cx="1249920" cy="497880"/>
                  <a:chOff x="6319080" y="694440"/>
                  <a:chExt cx="1249920" cy="497880"/>
                </a:xfrm>
              </p:grpSpPr>
              <p:sp>
                <p:nvSpPr>
                  <p:cNvPr id="299" name="Freeform 50"/>
                  <p:cNvSpPr/>
                  <p:nvPr/>
                </p:nvSpPr>
                <p:spPr>
                  <a:xfrm flipH="1" rot="21120000">
                    <a:off x="6753600" y="749160"/>
                    <a:ext cx="80568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51"/>
                  <p:cNvSpPr/>
                  <p:nvPr/>
                </p:nvSpPr>
                <p:spPr>
                  <a:xfrm flipH="1" rot="21120000">
                    <a:off x="6337800" y="856800"/>
                    <a:ext cx="4327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52"/>
                <p:cNvGrpSpPr/>
                <p:nvPr/>
              </p:nvGrpSpPr>
              <p:grpSpPr>
                <a:xfrm>
                  <a:off x="6432480" y="715680"/>
                  <a:ext cx="1109520" cy="196200"/>
                  <a:chOff x="6432480" y="715680"/>
                  <a:chExt cx="1109520" cy="196200"/>
                </a:xfrm>
              </p:grpSpPr>
              <p:sp>
                <p:nvSpPr>
                  <p:cNvPr id="302" name="Freeform 53"/>
                  <p:cNvSpPr/>
                  <p:nvPr/>
                </p:nvSpPr>
                <p:spPr>
                  <a:xfrm flipH="1" rot="120000">
                    <a:off x="6818760" y="733680"/>
                    <a:ext cx="72144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54"/>
                  <p:cNvSpPr/>
                  <p:nvPr/>
                </p:nvSpPr>
                <p:spPr>
                  <a:xfrm flipH="1" rot="120000">
                    <a:off x="6435360" y="722160"/>
                    <a:ext cx="38772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55"/>
                <p:cNvGrpSpPr/>
                <p:nvPr/>
              </p:nvGrpSpPr>
              <p:grpSpPr>
                <a:xfrm>
                  <a:off x="6559560" y="472320"/>
                  <a:ext cx="1017720" cy="438480"/>
                  <a:chOff x="6559560" y="472320"/>
                  <a:chExt cx="1017720" cy="438480"/>
                </a:xfrm>
              </p:grpSpPr>
              <p:sp>
                <p:nvSpPr>
                  <p:cNvPr id="305" name="Freeform 56"/>
                  <p:cNvSpPr/>
                  <p:nvPr/>
                </p:nvSpPr>
                <p:spPr>
                  <a:xfrm flipH="1" rot="840000">
                    <a:off x="6922440" y="672480"/>
                    <a:ext cx="64440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57"/>
                  <p:cNvSpPr/>
                  <p:nvPr/>
                </p:nvSpPr>
                <p:spPr>
                  <a:xfrm flipH="1" rot="840000">
                    <a:off x="6584760" y="510120"/>
                    <a:ext cx="34524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58"/>
                <p:cNvGrpSpPr/>
                <p:nvPr/>
              </p:nvGrpSpPr>
              <p:grpSpPr>
                <a:xfrm>
                  <a:off x="6600240" y="338040"/>
                  <a:ext cx="1013760" cy="612000"/>
                  <a:chOff x="6600240" y="338040"/>
                  <a:chExt cx="1013760" cy="612000"/>
                </a:xfrm>
              </p:grpSpPr>
              <p:sp>
                <p:nvSpPr>
                  <p:cNvPr id="308" name="Freeform 59"/>
                  <p:cNvSpPr/>
                  <p:nvPr/>
                </p:nvSpPr>
                <p:spPr>
                  <a:xfrm flipH="1" rot="1260000">
                    <a:off x="6963840" y="666000"/>
                    <a:ext cx="6400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60"/>
                  <p:cNvSpPr/>
                  <p:nvPr/>
                </p:nvSpPr>
                <p:spPr>
                  <a:xfrm flipH="1" rot="1260000">
                    <a:off x="6638040" y="390240"/>
                    <a:ext cx="34452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61"/>
                <p:cNvGrpSpPr/>
                <p:nvPr/>
              </p:nvGrpSpPr>
              <p:grpSpPr>
                <a:xfrm>
                  <a:off x="6701400" y="152280"/>
                  <a:ext cx="947880" cy="855360"/>
                  <a:chOff x="6701400" y="152280"/>
                  <a:chExt cx="947880" cy="855360"/>
                </a:xfrm>
              </p:grpSpPr>
              <p:sp>
                <p:nvSpPr>
                  <p:cNvPr id="311" name="Freeform 62"/>
                  <p:cNvSpPr/>
                  <p:nvPr/>
                </p:nvSpPr>
                <p:spPr>
                  <a:xfrm flipH="1" rot="2040000">
                    <a:off x="7024680" y="667080"/>
                    <a:ext cx="62748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63"/>
                  <p:cNvSpPr/>
                  <p:nvPr/>
                </p:nvSpPr>
                <p:spPr>
                  <a:xfrm flipH="1" rot="2040000">
                    <a:off x="6751800" y="222120"/>
                    <a:ext cx="33660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64"/>
                <p:cNvGrpSpPr/>
                <p:nvPr/>
              </p:nvGrpSpPr>
              <p:grpSpPr>
                <a:xfrm>
                  <a:off x="6813720" y="-16200"/>
                  <a:ext cx="853200" cy="1022400"/>
                  <a:chOff x="6813720" y="-16200"/>
                  <a:chExt cx="853200" cy="1022400"/>
                </a:xfrm>
              </p:grpSpPr>
              <p:sp>
                <p:nvSpPr>
                  <p:cNvPr id="314" name="Freeform 65"/>
                  <p:cNvSpPr/>
                  <p:nvPr/>
                </p:nvSpPr>
                <p:spPr>
                  <a:xfrm flipH="1" rot="2700000">
                    <a:off x="7082640" y="635040"/>
                    <a:ext cx="6084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66"/>
                  <p:cNvSpPr/>
                  <p:nvPr/>
                </p:nvSpPr>
                <p:spPr>
                  <a:xfrm flipH="1" rot="2700000">
                    <a:off x="6867360" y="57240"/>
                    <a:ext cx="326880" cy="28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67"/>
                <p:cNvGrpSpPr/>
                <p:nvPr/>
              </p:nvGrpSpPr>
              <p:grpSpPr>
                <a:xfrm>
                  <a:off x="7050600" y="-30240"/>
                  <a:ext cx="805680" cy="829440"/>
                  <a:chOff x="7050600" y="-30240"/>
                  <a:chExt cx="805680" cy="829440"/>
                </a:xfrm>
              </p:grpSpPr>
              <p:sp>
                <p:nvSpPr>
                  <p:cNvPr id="317" name="Freeform 68"/>
                  <p:cNvSpPr/>
                  <p:nvPr/>
                </p:nvSpPr>
                <p:spPr>
                  <a:xfrm flipH="1" rot="3480000">
                    <a:off x="7348680" y="430200"/>
                    <a:ext cx="57096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69"/>
                  <p:cNvSpPr/>
                  <p:nvPr/>
                </p:nvSpPr>
                <p:spPr>
                  <a:xfrm flipH="1" rot="3480000">
                    <a:off x="7089120" y="37800"/>
                    <a:ext cx="30600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70"/>
                <p:cNvGrpSpPr/>
                <p:nvPr/>
              </p:nvGrpSpPr>
              <p:grpSpPr>
                <a:xfrm>
                  <a:off x="7242480" y="-55080"/>
                  <a:ext cx="605160" cy="850320"/>
                  <a:chOff x="7242480" y="-55080"/>
                  <a:chExt cx="605160" cy="850320"/>
                </a:xfrm>
              </p:grpSpPr>
              <p:sp>
                <p:nvSpPr>
                  <p:cNvPr id="320" name="Freeform 71"/>
                  <p:cNvSpPr/>
                  <p:nvPr/>
                </p:nvSpPr>
                <p:spPr>
                  <a:xfrm flipH="1" rot="4140000">
                    <a:off x="7395840" y="428400"/>
                    <a:ext cx="55764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72"/>
                  <p:cNvSpPr/>
                  <p:nvPr/>
                </p:nvSpPr>
                <p:spPr>
                  <a:xfrm flipH="1" rot="4140000">
                    <a:off x="7261560" y="5040"/>
                    <a:ext cx="29916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73"/>
                <p:cNvGrpSpPr/>
                <p:nvPr/>
              </p:nvGrpSpPr>
              <p:grpSpPr>
                <a:xfrm>
                  <a:off x="7783920" y="216720"/>
                  <a:ext cx="1009800" cy="630360"/>
                  <a:chOff x="7783920" y="216720"/>
                  <a:chExt cx="1009800" cy="630360"/>
                </a:xfrm>
              </p:grpSpPr>
              <p:sp>
                <p:nvSpPr>
                  <p:cNvPr id="323" name="Freeform 74"/>
                  <p:cNvSpPr/>
                  <p:nvPr/>
                </p:nvSpPr>
                <p:spPr>
                  <a:xfrm rot="20280000">
                    <a:off x="7792920" y="558720"/>
                    <a:ext cx="64332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75"/>
                  <p:cNvSpPr/>
                  <p:nvPr/>
                </p:nvSpPr>
                <p:spPr>
                  <a:xfrm rot="20280000">
                    <a:off x="8408880" y="271440"/>
                    <a:ext cx="3459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Group 76"/>
                <p:cNvGrpSpPr/>
                <p:nvPr/>
              </p:nvGrpSpPr>
              <p:grpSpPr>
                <a:xfrm>
                  <a:off x="7737840" y="67680"/>
                  <a:ext cx="962640" cy="826200"/>
                  <a:chOff x="7737840" y="67680"/>
                  <a:chExt cx="962640" cy="826200"/>
                </a:xfrm>
              </p:grpSpPr>
              <p:sp>
                <p:nvSpPr>
                  <p:cNvPr id="326" name="Freeform 77"/>
                  <p:cNvSpPr/>
                  <p:nvPr/>
                </p:nvSpPr>
                <p:spPr>
                  <a:xfrm rot="19680000">
                    <a:off x="7737120" y="559080"/>
                    <a:ext cx="63432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78"/>
                  <p:cNvSpPr/>
                  <p:nvPr/>
                </p:nvSpPr>
                <p:spPr>
                  <a:xfrm rot="19680000">
                    <a:off x="8310960" y="136080"/>
                    <a:ext cx="34020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Freeform 79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80"/>
                <p:cNvSpPr/>
                <p:nvPr/>
              </p:nvSpPr>
              <p:spPr>
                <a:xfrm flipH="1" rot="4560000">
                  <a:off x="743256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81"/>
                <p:cNvGrpSpPr/>
                <p:nvPr/>
              </p:nvGrpSpPr>
              <p:grpSpPr>
                <a:xfrm>
                  <a:off x="7552440" y="-45000"/>
                  <a:ext cx="661680" cy="826200"/>
                  <a:chOff x="7552440" y="-45000"/>
                  <a:chExt cx="661680" cy="826200"/>
                </a:xfrm>
              </p:grpSpPr>
              <p:sp>
                <p:nvSpPr>
                  <p:cNvPr id="331" name="Freeform 82"/>
                  <p:cNvSpPr/>
                  <p:nvPr/>
                </p:nvSpPr>
                <p:spPr>
                  <a:xfrm rot="17760000">
                    <a:off x="7461000" y="431640"/>
                    <a:ext cx="5511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83"/>
                  <p:cNvSpPr/>
                  <p:nvPr/>
                </p:nvSpPr>
                <p:spPr>
                  <a:xfrm rot="17760000">
                    <a:off x="7901280" y="24840"/>
                    <a:ext cx="29556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84"/>
                <p:cNvGrpSpPr/>
                <p:nvPr/>
              </p:nvGrpSpPr>
              <p:grpSpPr>
                <a:xfrm>
                  <a:off x="7488360" y="-30960"/>
                  <a:ext cx="1022040" cy="804960"/>
                  <a:chOff x="7488360" y="-30960"/>
                  <a:chExt cx="1022040" cy="804960"/>
                </a:xfrm>
              </p:grpSpPr>
              <p:sp>
                <p:nvSpPr>
                  <p:cNvPr id="334" name="Freeform 85"/>
                  <p:cNvSpPr/>
                  <p:nvPr/>
                </p:nvSpPr>
                <p:spPr>
                  <a:xfrm rot="18840000">
                    <a:off x="7473240" y="386280"/>
                    <a:ext cx="587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86"/>
                  <p:cNvSpPr/>
                  <p:nvPr/>
                </p:nvSpPr>
                <p:spPr>
                  <a:xfrm rot="18840000">
                    <a:off x="8126280" y="32400"/>
                    <a:ext cx="314640" cy="32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87"/>
                <p:cNvGrpSpPr/>
                <p:nvPr/>
              </p:nvGrpSpPr>
              <p:grpSpPr>
                <a:xfrm>
                  <a:off x="7675200" y="-7200"/>
                  <a:ext cx="227160" cy="752400"/>
                  <a:chOff x="7675200" y="-7200"/>
                  <a:chExt cx="227160" cy="752400"/>
                </a:xfrm>
              </p:grpSpPr>
              <p:sp>
                <p:nvSpPr>
                  <p:cNvPr id="337" name="Freeform 88"/>
                  <p:cNvSpPr/>
                  <p:nvPr/>
                </p:nvSpPr>
                <p:spPr>
                  <a:xfrm rot="16680000">
                    <a:off x="7494120" y="464760"/>
                    <a:ext cx="493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89"/>
                  <p:cNvSpPr/>
                  <p:nvPr/>
                </p:nvSpPr>
                <p:spPr>
                  <a:xfrm rot="16680000">
                    <a:off x="7702920" y="80640"/>
                    <a:ext cx="263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90"/>
                <p:cNvGrpSpPr/>
                <p:nvPr/>
              </p:nvGrpSpPr>
              <p:grpSpPr>
                <a:xfrm>
                  <a:off x="6610680" y="937800"/>
                  <a:ext cx="1243080" cy="1316880"/>
                  <a:chOff x="6610680" y="937800"/>
                  <a:chExt cx="1243080" cy="1316880"/>
                </a:xfrm>
              </p:grpSpPr>
              <p:sp>
                <p:nvSpPr>
                  <p:cNvPr id="340" name="Freeform 91"/>
                  <p:cNvSpPr/>
                  <p:nvPr/>
                </p:nvSpPr>
                <p:spPr>
                  <a:xfrm flipH="1" rot="18360000">
                    <a:off x="7049520" y="1239120"/>
                    <a:ext cx="878760" cy="26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92"/>
                  <p:cNvSpPr/>
                  <p:nvPr/>
                </p:nvSpPr>
                <p:spPr>
                  <a:xfrm flipH="1" rot="18360000">
                    <a:off x="6678720" y="1738080"/>
                    <a:ext cx="472320" cy="41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93"/>
                <p:cNvGrpSpPr/>
                <p:nvPr/>
              </p:nvGrpSpPr>
              <p:grpSpPr>
                <a:xfrm>
                  <a:off x="6943680" y="963720"/>
                  <a:ext cx="831240" cy="1320120"/>
                  <a:chOff x="6943680" y="963720"/>
                  <a:chExt cx="831240" cy="1320120"/>
                </a:xfrm>
              </p:grpSpPr>
              <p:sp>
                <p:nvSpPr>
                  <p:cNvPr id="343" name="Freeform 94"/>
                  <p:cNvSpPr/>
                  <p:nvPr/>
                </p:nvSpPr>
                <p:spPr>
                  <a:xfrm flipH="1" rot="17520000">
                    <a:off x="7083000" y="1272960"/>
                    <a:ext cx="8366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5"/>
                  <p:cNvSpPr/>
                  <p:nvPr/>
                </p:nvSpPr>
                <p:spPr>
                  <a:xfrm flipH="1" rot="17520000">
                    <a:off x="6984720" y="1804680"/>
                    <a:ext cx="450000" cy="39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96"/>
                <p:cNvGrpSpPr/>
                <p:nvPr/>
              </p:nvGrpSpPr>
              <p:grpSpPr>
                <a:xfrm>
                  <a:off x="7273440" y="990000"/>
                  <a:ext cx="476280" cy="1256040"/>
                  <a:chOff x="7273440" y="990000"/>
                  <a:chExt cx="476280" cy="1256040"/>
                </a:xfrm>
              </p:grpSpPr>
              <p:sp>
                <p:nvSpPr>
                  <p:cNvPr id="346" name="Freeform 97"/>
                  <p:cNvSpPr/>
                  <p:nvPr/>
                </p:nvSpPr>
                <p:spPr>
                  <a:xfrm flipH="1" rot="16860000">
                    <a:off x="7170120" y="1299240"/>
                    <a:ext cx="8017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98"/>
                  <p:cNvSpPr/>
                  <p:nvPr/>
                </p:nvSpPr>
                <p:spPr>
                  <a:xfrm flipH="1" rot="16860000">
                    <a:off x="7259400" y="1840680"/>
                    <a:ext cx="42912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99"/>
                <p:cNvGrpSpPr/>
                <p:nvPr/>
              </p:nvGrpSpPr>
              <p:grpSpPr>
                <a:xfrm>
                  <a:off x="7558560" y="921960"/>
                  <a:ext cx="1288080" cy="1293840"/>
                  <a:chOff x="7558560" y="921960"/>
                  <a:chExt cx="1288080" cy="1293840"/>
                </a:xfrm>
              </p:grpSpPr>
              <p:sp>
                <p:nvSpPr>
                  <p:cNvPr id="349" name="Freeform 100"/>
                  <p:cNvSpPr/>
                  <p:nvPr/>
                </p:nvSpPr>
                <p:spPr>
                  <a:xfrm rot="3120000">
                    <a:off x="7494480" y="1214640"/>
                    <a:ext cx="8719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101"/>
                  <p:cNvSpPr/>
                  <p:nvPr/>
                </p:nvSpPr>
                <p:spPr>
                  <a:xfrm rot="3120000">
                    <a:off x="8305200" y="1695960"/>
                    <a:ext cx="468000" cy="41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02"/>
                <p:cNvGrpSpPr/>
                <p:nvPr/>
              </p:nvGrpSpPr>
              <p:grpSpPr>
                <a:xfrm>
                  <a:off x="7600320" y="948240"/>
                  <a:ext cx="1002960" cy="1333800"/>
                  <a:chOff x="7600320" y="948240"/>
                  <a:chExt cx="1002960" cy="1333800"/>
                </a:xfrm>
              </p:grpSpPr>
              <p:sp>
                <p:nvSpPr>
                  <p:cNvPr id="352" name="Freeform 103"/>
                  <p:cNvSpPr/>
                  <p:nvPr/>
                </p:nvSpPr>
                <p:spPr>
                  <a:xfrm rot="3720000">
                    <a:off x="7482600" y="1260360"/>
                    <a:ext cx="8571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104"/>
                  <p:cNvSpPr/>
                  <p:nvPr/>
                </p:nvSpPr>
                <p:spPr>
                  <a:xfrm rot="3720000">
                    <a:off x="8093160" y="1792440"/>
                    <a:ext cx="459720" cy="38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05"/>
                <p:cNvGrpSpPr/>
                <p:nvPr/>
              </p:nvGrpSpPr>
              <p:grpSpPr>
                <a:xfrm>
                  <a:off x="7626240" y="995400"/>
                  <a:ext cx="701640" cy="1289520"/>
                  <a:chOff x="7626240" y="995400"/>
                  <a:chExt cx="701640" cy="1289520"/>
                </a:xfrm>
              </p:grpSpPr>
              <p:sp>
                <p:nvSpPr>
                  <p:cNvPr id="355" name="Freeform 106"/>
                  <p:cNvSpPr/>
                  <p:nvPr/>
                </p:nvSpPr>
                <p:spPr>
                  <a:xfrm rot="4260000">
                    <a:off x="7440480" y="1320840"/>
                    <a:ext cx="833040" cy="20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107"/>
                  <p:cNvSpPr/>
                  <p:nvPr/>
                </p:nvSpPr>
                <p:spPr>
                  <a:xfrm rot="4260000">
                    <a:off x="7882920" y="1864800"/>
                    <a:ext cx="44604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08"/>
                <p:cNvGrpSpPr/>
                <p:nvPr/>
              </p:nvGrpSpPr>
              <p:grpSpPr>
                <a:xfrm>
                  <a:off x="7681320" y="1051200"/>
                  <a:ext cx="368280" cy="1180080"/>
                  <a:chOff x="7681320" y="1051200"/>
                  <a:chExt cx="368280" cy="1180080"/>
                </a:xfrm>
              </p:grpSpPr>
              <p:sp>
                <p:nvSpPr>
                  <p:cNvPr id="358" name="Freeform 109"/>
                  <p:cNvSpPr/>
                  <p:nvPr/>
                </p:nvSpPr>
                <p:spPr>
                  <a:xfrm rot="4920000">
                    <a:off x="7437600" y="1355760"/>
                    <a:ext cx="76752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10"/>
                  <p:cNvSpPr/>
                  <p:nvPr/>
                </p:nvSpPr>
                <p:spPr>
                  <a:xfrm rot="4920000">
                    <a:off x="7677720" y="1869480"/>
                    <a:ext cx="4114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Group 111"/>
                <p:cNvGrpSpPr/>
                <p:nvPr/>
              </p:nvGrpSpPr>
              <p:grpSpPr>
                <a:xfrm>
                  <a:off x="7480080" y="1074240"/>
                  <a:ext cx="333360" cy="1143720"/>
                  <a:chOff x="7480080" y="1074240"/>
                  <a:chExt cx="333360" cy="1143720"/>
                </a:xfrm>
              </p:grpSpPr>
              <p:sp>
                <p:nvSpPr>
                  <p:cNvPr id="361" name="Freeform 112"/>
                  <p:cNvSpPr/>
                  <p:nvPr/>
                </p:nvSpPr>
                <p:spPr>
                  <a:xfrm rot="5760000">
                    <a:off x="7342200" y="1389600"/>
                    <a:ext cx="7437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113"/>
                  <p:cNvSpPr/>
                  <p:nvPr/>
                </p:nvSpPr>
                <p:spPr>
                  <a:xfrm rot="5760000">
                    <a:off x="7395840" y="1915560"/>
                    <a:ext cx="39816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3" name="Freeform 114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AutoShape 115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89000 w 2179440"/>
                  <a:gd name="textAreaRight" fmla="*/ 2179800 w 2179440"/>
                  <a:gd name="textAreaTop" fmla="*/ 42840 h 2405160"/>
                  <a:gd name="textAreaBottom" fmla="*/ 122400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AutoShape 116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120 w 1552680"/>
                  <a:gd name="textAreaRight" fmla="*/ 1459080 w 1552680"/>
                  <a:gd name="textAreaTop" fmla="*/ 104940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  <a:lnTo>
                      <a:pt x="10800" y="10800"/>
                    </a:lnTo>
                    <a:lnTo>
                      <a:pt x="20251" y="16025"/>
                    </a:lnTo>
                    <a:close/>
                  </a:path>
                  <a:path fill="none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AutoShape 117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600 w 955800"/>
                  <a:gd name="textAreaRight" fmla="*/ 955800 w 95580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AutoShape 118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30200 w 1465200"/>
                  <a:gd name="textAreaRight" fmla="*/ 1465560 w 1465200"/>
                  <a:gd name="textAreaTop" fmla="*/ 0 h 2395800"/>
                  <a:gd name="textAreaBottom" fmla="*/ 121932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6363" y="953"/>
                    </a:lnTo>
                    <a:close/>
                  </a:path>
                  <a:path fill="none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AutoShape 119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4280 w 1533600"/>
                  <a:gd name="textAreaRight" fmla="*/ 1533960 w 153360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AutoShape 120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520 w 243000"/>
                  <a:gd name="textAreaRight" fmla="*/ 243360 w 24300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AutoShape 121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12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AutoShape 122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720 w 911160"/>
                  <a:gd name="textAreaRight" fmla="*/ 911520 w 91116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23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24"/>
              <p:cNvSpPr/>
              <p:nvPr/>
            </p:nvSpPr>
            <p:spPr>
              <a:xfrm flipV="1" rot="19680000">
                <a:off x="761184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AutoShape 125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360 w 1538280"/>
                  <a:gd name="textAreaRight" fmla="*/ 1538280 w 153828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3185" y="3141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AutoShape 126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2640 w 1281240"/>
                  <a:gd name="textAreaTop" fmla="*/ 0 h 2363760"/>
                  <a:gd name="textAreaBottom" fmla="*/ 118116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  <a:lnTo>
                      <a:pt x="10800" y="10800"/>
                    </a:lnTo>
                    <a:lnTo>
                      <a:pt x="1684" y="5007"/>
                    </a:lnTo>
                    <a:close/>
                  </a:path>
                  <a:path fill="none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AutoShape 127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800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28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129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30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131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32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133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34"/>
              <p:cNvSpPr/>
              <p:nvPr/>
            </p:nvSpPr>
            <p:spPr>
              <a:xfrm rot="20220000">
                <a:off x="7986600" y="7840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135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0D84BA1-DA1C-4BAF-9B7C-E2331AE1CE78}" type="slidenum">
              <a:rPr b="0" lang="ru-RU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 type="dt" idx="1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5E021F-55BE-40BF-B7D3-17E0B30BE8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786841-3C1C-42A2-92C6-D130117B1C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B2615E-1B07-4AAF-B374-09D54F791E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6D2927-CE66-461E-8E30-ABE3017465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787209-7DF1-4F84-B18B-F19F91F99F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1"/>
          <p:cNvGrpSpPr/>
          <p:nvPr/>
        </p:nvGrpSpPr>
        <p:grpSpPr>
          <a:xfrm>
            <a:off x="1895760" y="163800"/>
            <a:ext cx="7232040" cy="8093880"/>
            <a:chOff x="1895760" y="163800"/>
            <a:chExt cx="7232040" cy="8093880"/>
          </a:xfrm>
        </p:grpSpPr>
        <p:grpSp>
          <p:nvGrpSpPr>
            <p:cNvPr id="427" name="Group 2"/>
            <p:cNvGrpSpPr/>
            <p:nvPr/>
          </p:nvGrpSpPr>
          <p:grpSpPr>
            <a:xfrm>
              <a:off x="3483000" y="954000"/>
              <a:ext cx="944640" cy="708120"/>
              <a:chOff x="3483000" y="954000"/>
              <a:chExt cx="944640" cy="708120"/>
            </a:xfrm>
          </p:grpSpPr>
          <p:sp>
            <p:nvSpPr>
              <p:cNvPr id="428" name="Oval 3"/>
              <p:cNvSpPr/>
              <p:nvPr/>
            </p:nvSpPr>
            <p:spPr>
              <a:xfrm>
                <a:off x="348300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4"/>
              <p:cNvSpPr/>
              <p:nvPr/>
            </p:nvSpPr>
            <p:spPr>
              <a:xfrm>
                <a:off x="3822120" y="1262880"/>
                <a:ext cx="22824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5"/>
            <p:cNvGrpSpPr/>
            <p:nvPr/>
          </p:nvGrpSpPr>
          <p:grpSpPr>
            <a:xfrm>
              <a:off x="1895760" y="163800"/>
              <a:ext cx="7232040" cy="7867440"/>
              <a:chOff x="1895760" y="163800"/>
              <a:chExt cx="7232040" cy="7867440"/>
            </a:xfrm>
          </p:grpSpPr>
          <p:grpSp>
            <p:nvGrpSpPr>
              <p:cNvPr id="431" name="Group 6"/>
              <p:cNvGrpSpPr/>
              <p:nvPr/>
            </p:nvGrpSpPr>
            <p:grpSpPr>
              <a:xfrm>
                <a:off x="1895760" y="163800"/>
                <a:ext cx="7118280" cy="5626800"/>
                <a:chOff x="1895760" y="163800"/>
                <a:chExt cx="7118280" cy="5626800"/>
              </a:xfrm>
            </p:grpSpPr>
            <p:grpSp>
              <p:nvGrpSpPr>
                <p:cNvPr id="432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433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9"/>
                  <p:cNvSpPr/>
                  <p:nvPr/>
                </p:nvSpPr>
                <p:spPr>
                  <a:xfrm>
                    <a:off x="5109480" y="2235960"/>
                    <a:ext cx="71388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0"/>
                <p:cNvGrpSpPr/>
                <p:nvPr/>
              </p:nvGrpSpPr>
              <p:grpSpPr>
                <a:xfrm>
                  <a:off x="1895760" y="163800"/>
                  <a:ext cx="7118280" cy="5626800"/>
                  <a:chOff x="1895760" y="163800"/>
                  <a:chExt cx="7118280" cy="5626800"/>
                </a:xfrm>
              </p:grpSpPr>
              <p:grpSp>
                <p:nvGrpSpPr>
                  <p:cNvPr id="436" name="Group 11"/>
                  <p:cNvGrpSpPr/>
                  <p:nvPr/>
                </p:nvGrpSpPr>
                <p:grpSpPr>
                  <a:xfrm>
                    <a:off x="5137200" y="2395440"/>
                    <a:ext cx="3421080" cy="2859120"/>
                    <a:chOff x="5137200" y="2395440"/>
                    <a:chExt cx="3421080" cy="2859120"/>
                  </a:xfrm>
                </p:grpSpPr>
                <p:sp>
                  <p:nvSpPr>
                    <p:cNvPr id="437" name="Freeform 12"/>
                    <p:cNvSpPr/>
                    <p:nvPr/>
                  </p:nvSpPr>
                  <p:spPr>
                    <a:xfrm rot="2700000">
                      <a:off x="5063040" y="3020760"/>
                      <a:ext cx="2030760" cy="63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13"/>
                    <p:cNvSpPr/>
                    <p:nvPr/>
                  </p:nvSpPr>
                  <p:spPr>
                    <a:xfrm rot="2700000">
                      <a:off x="7277040" y="4019760"/>
                      <a:ext cx="1088640" cy="9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14"/>
                  <p:cNvGrpSpPr/>
                  <p:nvPr/>
                </p:nvGrpSpPr>
                <p:grpSpPr>
                  <a:xfrm>
                    <a:off x="5801760" y="1564560"/>
                    <a:ext cx="3212280" cy="3359880"/>
                    <a:chOff x="5801760" y="1564560"/>
                    <a:chExt cx="3212280" cy="3359880"/>
                  </a:xfrm>
                </p:grpSpPr>
                <p:sp>
                  <p:nvSpPr>
                    <p:cNvPr id="440" name="Freeform 15"/>
                    <p:cNvSpPr/>
                    <p:nvPr/>
                  </p:nvSpPr>
                  <p:spPr>
                    <a:xfrm rot="2100000">
                      <a:off x="5787720" y="2146680"/>
                      <a:ext cx="2237760" cy="65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6"/>
                    <p:cNvSpPr/>
                    <p:nvPr/>
                  </p:nvSpPr>
                  <p:spPr>
                    <a:xfrm rot="2100000">
                      <a:off x="7625160" y="3639600"/>
                      <a:ext cx="1200600" cy="103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17"/>
                  <p:cNvGrpSpPr/>
                  <p:nvPr/>
                </p:nvGrpSpPr>
                <p:grpSpPr>
                  <a:xfrm>
                    <a:off x="5762160" y="1618200"/>
                    <a:ext cx="3245040" cy="2645640"/>
                    <a:chOff x="5762160" y="1618200"/>
                    <a:chExt cx="3245040" cy="2645640"/>
                  </a:xfrm>
                </p:grpSpPr>
                <p:sp>
                  <p:nvSpPr>
                    <p:cNvPr id="443" name="Freeform 18"/>
                    <p:cNvSpPr/>
                    <p:nvPr/>
                  </p:nvSpPr>
                  <p:spPr>
                    <a:xfrm rot="1560000">
                      <a:off x="5776920" y="2064240"/>
                      <a:ext cx="2167560" cy="56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19"/>
                    <p:cNvSpPr/>
                    <p:nvPr/>
                  </p:nvSpPr>
                  <p:spPr>
                    <a:xfrm rot="1560000">
                      <a:off x="7706160" y="3162240"/>
                      <a:ext cx="1164240" cy="89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20"/>
                  <p:cNvGrpSpPr/>
                  <p:nvPr/>
                </p:nvGrpSpPr>
                <p:grpSpPr>
                  <a:xfrm>
                    <a:off x="5731560" y="1655280"/>
                    <a:ext cx="3281760" cy="2073600"/>
                    <a:chOff x="5731560" y="1655280"/>
                    <a:chExt cx="3281760" cy="2073600"/>
                  </a:xfrm>
                </p:grpSpPr>
                <p:sp>
                  <p:nvSpPr>
                    <p:cNvPr id="446" name="Freeform 21"/>
                    <p:cNvSpPr/>
                    <p:nvPr/>
                  </p:nvSpPr>
                  <p:spPr>
                    <a:xfrm rot="1080000">
                      <a:off x="5769000" y="1969200"/>
                      <a:ext cx="212364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22"/>
                    <p:cNvSpPr/>
                    <p:nvPr/>
                  </p:nvSpPr>
                  <p:spPr>
                    <a:xfrm rot="1080000">
                      <a:off x="7759080" y="2666160"/>
                      <a:ext cx="1141560" cy="90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23"/>
                  <p:cNvGrpSpPr/>
                  <p:nvPr/>
                </p:nvGrpSpPr>
                <p:grpSpPr>
                  <a:xfrm>
                    <a:off x="5781960" y="1746360"/>
                    <a:ext cx="3008160" cy="1200960"/>
                    <a:chOff x="5781960" y="1746360"/>
                    <a:chExt cx="3008160" cy="1200960"/>
                  </a:xfrm>
                </p:grpSpPr>
                <p:sp>
                  <p:nvSpPr>
                    <p:cNvPr id="449" name="Freeform 24"/>
                    <p:cNvSpPr/>
                    <p:nvPr/>
                  </p:nvSpPr>
                  <p:spPr>
                    <a:xfrm rot="480000">
                      <a:off x="5805360" y="1878840"/>
                      <a:ext cx="19386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25"/>
                    <p:cNvSpPr/>
                    <p:nvPr/>
                  </p:nvSpPr>
                  <p:spPr>
                    <a:xfrm rot="480000">
                      <a:off x="7701480" y="2133720"/>
                      <a:ext cx="1041840" cy="74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26"/>
                  <p:cNvGrpSpPr/>
                  <p:nvPr/>
                </p:nvGrpSpPr>
                <p:grpSpPr>
                  <a:xfrm>
                    <a:off x="5847120" y="1799640"/>
                    <a:ext cx="2668680" cy="475560"/>
                    <a:chOff x="5847120" y="1799640"/>
                    <a:chExt cx="2668680" cy="475560"/>
                  </a:xfrm>
                </p:grpSpPr>
                <p:sp>
                  <p:nvSpPr>
                    <p:cNvPr id="452" name="Freeform 27"/>
                    <p:cNvSpPr/>
                    <p:nvPr/>
                  </p:nvSpPr>
                  <p:spPr>
                    <a:xfrm rot="21480000">
                      <a:off x="5851440" y="1841400"/>
                      <a:ext cx="17334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28"/>
                    <p:cNvSpPr/>
                    <p:nvPr/>
                  </p:nvSpPr>
                  <p:spPr>
                    <a:xfrm rot="21480000">
                      <a:off x="7576560" y="1815480"/>
                      <a:ext cx="931680" cy="44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29"/>
                  <p:cNvGrpSpPr/>
                  <p:nvPr/>
                </p:nvGrpSpPr>
                <p:grpSpPr>
                  <a:xfrm>
                    <a:off x="5763240" y="1211400"/>
                    <a:ext cx="2449440" cy="1057680"/>
                    <a:chOff x="5763240" y="1211400"/>
                    <a:chExt cx="2449440" cy="1057680"/>
                  </a:xfrm>
                </p:grpSpPr>
                <p:sp>
                  <p:nvSpPr>
                    <p:cNvPr id="455" name="Freeform 30"/>
                    <p:cNvSpPr/>
                    <p:nvPr/>
                  </p:nvSpPr>
                  <p:spPr>
                    <a:xfrm rot="20760000">
                      <a:off x="5787720" y="1692720"/>
                      <a:ext cx="1551240" cy="39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31"/>
                    <p:cNvSpPr/>
                    <p:nvPr/>
                  </p:nvSpPr>
                  <p:spPr>
                    <a:xfrm rot="20760000">
                      <a:off x="7317360" y="1302480"/>
                      <a:ext cx="832320" cy="61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32"/>
                  <p:cNvGrpSpPr/>
                  <p:nvPr/>
                </p:nvGrpSpPr>
                <p:grpSpPr>
                  <a:xfrm>
                    <a:off x="2407320" y="2545200"/>
                    <a:ext cx="3418560" cy="2859840"/>
                    <a:chOff x="2407320" y="2545200"/>
                    <a:chExt cx="3418560" cy="2859840"/>
                  </a:xfrm>
                </p:grpSpPr>
                <p:sp>
                  <p:nvSpPr>
                    <p:cNvPr id="458" name="Freeform 33"/>
                    <p:cNvSpPr/>
                    <p:nvPr/>
                  </p:nvSpPr>
                  <p:spPr>
                    <a:xfrm flipH="1" rot="18900000">
                      <a:off x="3870000" y="3169440"/>
                      <a:ext cx="2028960" cy="63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34"/>
                    <p:cNvSpPr/>
                    <p:nvPr/>
                  </p:nvSpPr>
                  <p:spPr>
                    <a:xfrm flipH="1" rot="18900000">
                      <a:off x="2600280" y="4167000"/>
                      <a:ext cx="1089360" cy="9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35"/>
                  <p:cNvGrpSpPr/>
                  <p:nvPr/>
                </p:nvGrpSpPr>
                <p:grpSpPr>
                  <a:xfrm>
                    <a:off x="1895760" y="1783800"/>
                    <a:ext cx="3214800" cy="3361320"/>
                    <a:chOff x="1895760" y="1783800"/>
                    <a:chExt cx="3214800" cy="3361320"/>
                  </a:xfrm>
                </p:grpSpPr>
                <p:sp>
                  <p:nvSpPr>
                    <p:cNvPr id="461" name="Freeform 36"/>
                    <p:cNvSpPr/>
                    <p:nvPr/>
                  </p:nvSpPr>
                  <p:spPr>
                    <a:xfrm flipH="1" rot="19500000">
                      <a:off x="2886120" y="2365920"/>
                      <a:ext cx="2237760" cy="65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37"/>
                    <p:cNvSpPr/>
                    <p:nvPr/>
                  </p:nvSpPr>
                  <p:spPr>
                    <a:xfrm flipH="1" rot="19500000">
                      <a:off x="2084040" y="3857760"/>
                      <a:ext cx="1202040" cy="10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38"/>
                  <p:cNvGrpSpPr/>
                  <p:nvPr/>
                </p:nvGrpSpPr>
                <p:grpSpPr>
                  <a:xfrm>
                    <a:off x="1904760" y="1835280"/>
                    <a:ext cx="3245040" cy="2646000"/>
                    <a:chOff x="1904760" y="1835280"/>
                    <a:chExt cx="3245040" cy="2646000"/>
                  </a:xfrm>
                </p:grpSpPr>
                <p:sp>
                  <p:nvSpPr>
                    <p:cNvPr id="464" name="Freeform 39"/>
                    <p:cNvSpPr/>
                    <p:nvPr/>
                  </p:nvSpPr>
                  <p:spPr>
                    <a:xfrm flipH="1" rot="20040000">
                      <a:off x="2965680" y="2281680"/>
                      <a:ext cx="2169000" cy="56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40"/>
                    <p:cNvSpPr/>
                    <p:nvPr/>
                  </p:nvSpPr>
                  <p:spPr>
                    <a:xfrm flipH="1" rot="20040000">
                      <a:off x="2040480" y="3380760"/>
                      <a:ext cx="1164240" cy="88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41"/>
                  <p:cNvGrpSpPr/>
                  <p:nvPr/>
                </p:nvGrpSpPr>
                <p:grpSpPr>
                  <a:xfrm>
                    <a:off x="1898640" y="1874160"/>
                    <a:ext cx="3281760" cy="2074320"/>
                    <a:chOff x="1898640" y="1874160"/>
                    <a:chExt cx="3281760" cy="2074320"/>
                  </a:xfrm>
                </p:grpSpPr>
                <p:sp>
                  <p:nvSpPr>
                    <p:cNvPr id="467" name="Freeform 42"/>
                    <p:cNvSpPr/>
                    <p:nvPr/>
                  </p:nvSpPr>
                  <p:spPr>
                    <a:xfrm flipH="1" rot="20520000">
                      <a:off x="3016800" y="2188080"/>
                      <a:ext cx="2125440" cy="58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43"/>
                    <p:cNvSpPr/>
                    <p:nvPr/>
                  </p:nvSpPr>
                  <p:spPr>
                    <a:xfrm flipH="1" rot="20520000">
                      <a:off x="2010960" y="2884320"/>
                      <a:ext cx="1141920" cy="9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44"/>
                  <p:cNvGrpSpPr/>
                  <p:nvPr/>
                </p:nvGrpSpPr>
                <p:grpSpPr>
                  <a:xfrm>
                    <a:off x="2118600" y="1965600"/>
                    <a:ext cx="3008520" cy="1200600"/>
                    <a:chOff x="2118600" y="1965600"/>
                    <a:chExt cx="3008520" cy="1200600"/>
                  </a:xfrm>
                </p:grpSpPr>
                <p:sp>
                  <p:nvSpPr>
                    <p:cNvPr id="470" name="Freeform 45"/>
                    <p:cNvSpPr/>
                    <p:nvPr/>
                  </p:nvSpPr>
                  <p:spPr>
                    <a:xfrm flipH="1" rot="21120000">
                      <a:off x="3166200" y="2098080"/>
                      <a:ext cx="1937160" cy="47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Freeform 46"/>
                    <p:cNvSpPr/>
                    <p:nvPr/>
                  </p:nvSpPr>
                  <p:spPr>
                    <a:xfrm flipH="1" rot="21120000">
                      <a:off x="2165040" y="2352240"/>
                      <a:ext cx="1039680" cy="74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Group 47"/>
                  <p:cNvGrpSpPr/>
                  <p:nvPr/>
                </p:nvGrpSpPr>
                <p:grpSpPr>
                  <a:xfrm>
                    <a:off x="2395800" y="2017080"/>
                    <a:ext cx="2669040" cy="475920"/>
                    <a:chOff x="2395800" y="2017080"/>
                    <a:chExt cx="2669040" cy="475920"/>
                  </a:xfrm>
                </p:grpSpPr>
                <p:sp>
                  <p:nvSpPr>
                    <p:cNvPr id="473" name="Freeform 48"/>
                    <p:cNvSpPr/>
                    <p:nvPr/>
                  </p:nvSpPr>
                  <p:spPr>
                    <a:xfrm flipH="1" rot="120000">
                      <a:off x="3323880" y="2057400"/>
                      <a:ext cx="1736640" cy="28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49"/>
                    <p:cNvSpPr/>
                    <p:nvPr/>
                  </p:nvSpPr>
                  <p:spPr>
                    <a:xfrm flipH="1" rot="120000">
                      <a:off x="2403000" y="2032920"/>
                      <a:ext cx="933480" cy="44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Group 50"/>
                  <p:cNvGrpSpPr/>
                  <p:nvPr/>
                </p:nvGrpSpPr>
                <p:grpSpPr>
                  <a:xfrm>
                    <a:off x="2698200" y="1430640"/>
                    <a:ext cx="2449080" cy="1058400"/>
                    <a:chOff x="2698200" y="1430640"/>
                    <a:chExt cx="2449080" cy="1058400"/>
                  </a:xfrm>
                </p:grpSpPr>
                <p:sp>
                  <p:nvSpPr>
                    <p:cNvPr id="476" name="Freeform 51"/>
                    <p:cNvSpPr/>
                    <p:nvPr/>
                  </p:nvSpPr>
                  <p:spPr>
                    <a:xfrm flipH="1" rot="840000">
                      <a:off x="3572640" y="1911960"/>
                      <a:ext cx="154944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52"/>
                    <p:cNvSpPr/>
                    <p:nvPr/>
                  </p:nvSpPr>
                  <p:spPr>
                    <a:xfrm flipH="1" rot="840000">
                      <a:off x="2760480" y="1521720"/>
                      <a:ext cx="831600" cy="61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Group 53"/>
                  <p:cNvGrpSpPr/>
                  <p:nvPr/>
                </p:nvGrpSpPr>
                <p:grpSpPr>
                  <a:xfrm>
                    <a:off x="2796840" y="1109520"/>
                    <a:ext cx="2438280" cy="1471680"/>
                    <a:chOff x="2796840" y="1109520"/>
                    <a:chExt cx="2438280" cy="1471680"/>
                  </a:xfrm>
                </p:grpSpPr>
                <p:sp>
                  <p:nvSpPr>
                    <p:cNvPr id="479" name="Freeform 54"/>
                    <p:cNvSpPr/>
                    <p:nvPr/>
                  </p:nvSpPr>
                  <p:spPr>
                    <a:xfrm flipH="1" rot="1260000">
                      <a:off x="3663360" y="1898280"/>
                      <a:ext cx="154728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55"/>
                    <p:cNvSpPr/>
                    <p:nvPr/>
                  </p:nvSpPr>
                  <p:spPr>
                    <a:xfrm flipH="1" rot="1260000">
                      <a:off x="2886840" y="1236240"/>
                      <a:ext cx="83016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56"/>
                  <p:cNvGrpSpPr/>
                  <p:nvPr/>
                </p:nvGrpSpPr>
                <p:grpSpPr>
                  <a:xfrm>
                    <a:off x="3038400" y="663480"/>
                    <a:ext cx="2282760" cy="2059200"/>
                    <a:chOff x="3038400" y="663480"/>
                    <a:chExt cx="2282760" cy="2059200"/>
                  </a:xfrm>
                </p:grpSpPr>
                <p:sp>
                  <p:nvSpPr>
                    <p:cNvPr id="482" name="Freeform 57"/>
                    <p:cNvSpPr/>
                    <p:nvPr/>
                  </p:nvSpPr>
                  <p:spPr>
                    <a:xfrm flipH="1" rot="2040000">
                      <a:off x="3815280" y="1900800"/>
                      <a:ext cx="1512720" cy="43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Freeform 58"/>
                    <p:cNvSpPr/>
                    <p:nvPr/>
                  </p:nvSpPr>
                  <p:spPr>
                    <a:xfrm flipH="1" rot="2040000">
                      <a:off x="3160440" y="831600"/>
                      <a:ext cx="8114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Group 59"/>
                  <p:cNvGrpSpPr/>
                  <p:nvPr/>
                </p:nvGrpSpPr>
                <p:grpSpPr>
                  <a:xfrm>
                    <a:off x="3307680" y="259200"/>
                    <a:ext cx="2056320" cy="2459880"/>
                    <a:chOff x="3307680" y="259200"/>
                    <a:chExt cx="2056320" cy="2459880"/>
                  </a:xfrm>
                </p:grpSpPr>
                <p:sp>
                  <p:nvSpPr>
                    <p:cNvPr id="485" name="Freeform 60"/>
                    <p:cNvSpPr/>
                    <p:nvPr/>
                  </p:nvSpPr>
                  <p:spPr>
                    <a:xfrm flipH="1" rot="2700000">
                      <a:off x="3956040" y="1824480"/>
                      <a:ext cx="1466640" cy="44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61"/>
                    <p:cNvSpPr/>
                    <p:nvPr/>
                  </p:nvSpPr>
                  <p:spPr>
                    <a:xfrm flipH="1" rot="2700000">
                      <a:off x="3436200" y="436320"/>
                      <a:ext cx="787680" cy="69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Group 62"/>
                  <p:cNvGrpSpPr/>
                  <p:nvPr/>
                </p:nvGrpSpPr>
                <p:grpSpPr>
                  <a:xfrm>
                    <a:off x="3880080" y="222480"/>
                    <a:ext cx="1938600" cy="1998000"/>
                    <a:chOff x="3880080" y="222480"/>
                    <a:chExt cx="1938600" cy="1998000"/>
                  </a:xfrm>
                </p:grpSpPr>
                <p:sp>
                  <p:nvSpPr>
                    <p:cNvPr id="488" name="Freeform 63"/>
                    <p:cNvSpPr/>
                    <p:nvPr/>
                  </p:nvSpPr>
                  <p:spPr>
                    <a:xfrm flipH="1" rot="3480000">
                      <a:off x="4599720" y="1332360"/>
                      <a:ext cx="13701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64"/>
                    <p:cNvSpPr/>
                    <p:nvPr/>
                  </p:nvSpPr>
                  <p:spPr>
                    <a:xfrm flipH="1" rot="3480000">
                      <a:off x="3974400" y="385920"/>
                      <a:ext cx="736200" cy="63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Group 65"/>
                  <p:cNvGrpSpPr/>
                  <p:nvPr/>
                </p:nvGrpSpPr>
                <p:grpSpPr>
                  <a:xfrm>
                    <a:off x="4338000" y="163800"/>
                    <a:ext cx="1458360" cy="2049120"/>
                    <a:chOff x="4338000" y="163800"/>
                    <a:chExt cx="1458360" cy="2049120"/>
                  </a:xfrm>
                </p:grpSpPr>
                <p:sp>
                  <p:nvSpPr>
                    <p:cNvPr id="491" name="Freeform 66"/>
                    <p:cNvSpPr/>
                    <p:nvPr/>
                  </p:nvSpPr>
                  <p:spPr>
                    <a:xfrm flipH="1" rot="4140000">
                      <a:off x="4704480" y="1326600"/>
                      <a:ext cx="134568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67"/>
                    <p:cNvSpPr/>
                    <p:nvPr/>
                  </p:nvSpPr>
                  <p:spPr>
                    <a:xfrm flipH="1" rot="4140000">
                      <a:off x="4383720" y="309960"/>
                      <a:ext cx="723240" cy="59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Group 68"/>
                  <p:cNvGrpSpPr/>
                  <p:nvPr/>
                </p:nvGrpSpPr>
                <p:grpSpPr>
                  <a:xfrm>
                    <a:off x="5638680" y="820440"/>
                    <a:ext cx="2431080" cy="1514520"/>
                    <a:chOff x="5638680" y="820440"/>
                    <a:chExt cx="2431080" cy="1514520"/>
                  </a:xfrm>
                </p:grpSpPr>
                <p:sp>
                  <p:nvSpPr>
                    <p:cNvPr id="494" name="Freeform 69"/>
                    <p:cNvSpPr/>
                    <p:nvPr/>
                  </p:nvSpPr>
                  <p:spPr>
                    <a:xfrm rot="20280000">
                      <a:off x="5660640" y="1640880"/>
                      <a:ext cx="154764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Freeform 70"/>
                    <p:cNvSpPr/>
                    <p:nvPr/>
                  </p:nvSpPr>
                  <p:spPr>
                    <a:xfrm rot="20280000">
                      <a:off x="7145280" y="951840"/>
                      <a:ext cx="831240" cy="65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Group 71"/>
                  <p:cNvGrpSpPr/>
                  <p:nvPr/>
                </p:nvGrpSpPr>
                <p:grpSpPr>
                  <a:xfrm>
                    <a:off x="5529960" y="462240"/>
                    <a:ext cx="2315160" cy="1982520"/>
                    <a:chOff x="5529960" y="462240"/>
                    <a:chExt cx="2315160" cy="1982520"/>
                  </a:xfrm>
                </p:grpSpPr>
                <p:sp>
                  <p:nvSpPr>
                    <p:cNvPr id="497" name="Freeform 72"/>
                    <p:cNvSpPr/>
                    <p:nvPr/>
                  </p:nvSpPr>
                  <p:spPr>
                    <a:xfrm rot="19680000">
                      <a:off x="5529240" y="1640160"/>
                      <a:ext cx="1521360" cy="43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Freeform 73"/>
                    <p:cNvSpPr/>
                    <p:nvPr/>
                  </p:nvSpPr>
                  <p:spPr>
                    <a:xfrm rot="19680000">
                      <a:off x="6908760" y="626760"/>
                      <a:ext cx="817200" cy="68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9" name="Freeform 74"/>
                  <p:cNvSpPr/>
                  <p:nvPr/>
                </p:nvSpPr>
                <p:spPr>
                  <a:xfrm flipH="1" rot="4560000">
                    <a:off x="4764960" y="1466280"/>
                    <a:ext cx="12664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75"/>
                  <p:cNvSpPr/>
                  <p:nvPr/>
                </p:nvSpPr>
                <p:spPr>
                  <a:xfrm flipH="1" rot="4560000">
                    <a:off x="4795560" y="53928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1" name="Group 76"/>
                  <p:cNvGrpSpPr/>
                  <p:nvPr/>
                </p:nvGrpSpPr>
                <p:grpSpPr>
                  <a:xfrm>
                    <a:off x="5082840" y="187200"/>
                    <a:ext cx="1596960" cy="1989360"/>
                    <a:chOff x="5082840" y="187200"/>
                    <a:chExt cx="1596960" cy="1989360"/>
                  </a:xfrm>
                </p:grpSpPr>
                <p:sp>
                  <p:nvSpPr>
                    <p:cNvPr id="502" name="Freeform 77"/>
                    <p:cNvSpPr/>
                    <p:nvPr/>
                  </p:nvSpPr>
                  <p:spPr>
                    <a:xfrm rot="17760000">
                      <a:off x="4864680" y="1332720"/>
                      <a:ext cx="1326600" cy="34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78"/>
                    <p:cNvSpPr/>
                    <p:nvPr/>
                  </p:nvSpPr>
                  <p:spPr>
                    <a:xfrm rot="17760000">
                      <a:off x="5925600" y="354600"/>
                      <a:ext cx="710640" cy="54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79"/>
                  <p:cNvGrpSpPr/>
                  <p:nvPr/>
                </p:nvGrpSpPr>
                <p:grpSpPr>
                  <a:xfrm>
                    <a:off x="4925520" y="222120"/>
                    <a:ext cx="2463840" cy="1936440"/>
                    <a:chOff x="4925520" y="222120"/>
                    <a:chExt cx="2463840" cy="1936440"/>
                  </a:xfrm>
                </p:grpSpPr>
                <p:sp>
                  <p:nvSpPr>
                    <p:cNvPr id="505" name="Freeform 80"/>
                    <p:cNvSpPr/>
                    <p:nvPr/>
                  </p:nvSpPr>
                  <p:spPr>
                    <a:xfrm rot="18840000">
                      <a:off x="4889880" y="1223280"/>
                      <a:ext cx="1415880" cy="50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81"/>
                    <p:cNvSpPr/>
                    <p:nvPr/>
                  </p:nvSpPr>
                  <p:spPr>
                    <a:xfrm rot="18840000">
                      <a:off x="6463440" y="375120"/>
                      <a:ext cx="759240" cy="78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82"/>
                  <p:cNvGrpSpPr/>
                  <p:nvPr/>
                </p:nvGrpSpPr>
                <p:grpSpPr>
                  <a:xfrm>
                    <a:off x="5376600" y="278280"/>
                    <a:ext cx="549360" cy="1810440"/>
                    <a:chOff x="5376600" y="278280"/>
                    <a:chExt cx="549360" cy="1810440"/>
                  </a:xfrm>
                </p:grpSpPr>
                <p:sp>
                  <p:nvSpPr>
                    <p:cNvPr id="508" name="Freeform 83"/>
                    <p:cNvSpPr/>
                    <p:nvPr/>
                  </p:nvSpPr>
                  <p:spPr>
                    <a:xfrm rot="16680000">
                      <a:off x="4943160" y="1418760"/>
                      <a:ext cx="117972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84"/>
                    <p:cNvSpPr/>
                    <p:nvPr/>
                  </p:nvSpPr>
                  <p:spPr>
                    <a:xfrm rot="16680000">
                      <a:off x="5448600" y="490680"/>
                      <a:ext cx="6336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85"/>
                  <p:cNvGrpSpPr/>
                  <p:nvPr/>
                </p:nvGrpSpPr>
                <p:grpSpPr>
                  <a:xfrm>
                    <a:off x="2823480" y="2546280"/>
                    <a:ext cx="2992680" cy="3167640"/>
                    <a:chOff x="2823480" y="2546280"/>
                    <a:chExt cx="2992680" cy="3167640"/>
                  </a:xfrm>
                </p:grpSpPr>
                <p:sp>
                  <p:nvSpPr>
                    <p:cNvPr id="511" name="Freeform 86"/>
                    <p:cNvSpPr/>
                    <p:nvPr/>
                  </p:nvSpPr>
                  <p:spPr>
                    <a:xfrm flipH="1" rot="18360000">
                      <a:off x="3884040" y="3270600"/>
                      <a:ext cx="2112480" cy="63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87"/>
                    <p:cNvSpPr/>
                    <p:nvPr/>
                  </p:nvSpPr>
                  <p:spPr>
                    <a:xfrm flipH="1" rot="18360000">
                      <a:off x="2991600" y="4467600"/>
                      <a:ext cx="1132560" cy="9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88"/>
                  <p:cNvGrpSpPr/>
                  <p:nvPr/>
                </p:nvGrpSpPr>
                <p:grpSpPr>
                  <a:xfrm>
                    <a:off x="3622680" y="2609280"/>
                    <a:ext cx="2004480" cy="3175200"/>
                    <a:chOff x="3622680" y="2609280"/>
                    <a:chExt cx="2004480" cy="3175200"/>
                  </a:xfrm>
                </p:grpSpPr>
                <p:sp>
                  <p:nvSpPr>
                    <p:cNvPr id="514" name="Freeform 89"/>
                    <p:cNvSpPr/>
                    <p:nvPr/>
                  </p:nvSpPr>
                  <p:spPr>
                    <a:xfrm flipH="1" rot="17520000">
                      <a:off x="3962880" y="3354120"/>
                      <a:ext cx="201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90"/>
                    <p:cNvSpPr/>
                    <p:nvPr/>
                  </p:nvSpPr>
                  <p:spPr>
                    <a:xfrm flipH="1" rot="17520000">
                      <a:off x="3723480" y="4632120"/>
                      <a:ext cx="1081080" cy="9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91"/>
                  <p:cNvGrpSpPr/>
                  <p:nvPr/>
                </p:nvGrpSpPr>
                <p:grpSpPr>
                  <a:xfrm>
                    <a:off x="4416840" y="2672640"/>
                    <a:ext cx="1142640" cy="3020400"/>
                    <a:chOff x="4416840" y="2672640"/>
                    <a:chExt cx="1142640" cy="3020400"/>
                  </a:xfrm>
                </p:grpSpPr>
                <p:sp>
                  <p:nvSpPr>
                    <p:cNvPr id="517" name="Freeform 92"/>
                    <p:cNvSpPr/>
                    <p:nvPr/>
                  </p:nvSpPr>
                  <p:spPr>
                    <a:xfrm flipH="1" rot="16860000">
                      <a:off x="4166640" y="3412800"/>
                      <a:ext cx="1923480" cy="50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93"/>
                    <p:cNvSpPr/>
                    <p:nvPr/>
                  </p:nvSpPr>
                  <p:spPr>
                    <a:xfrm flipH="1" rot="16860000">
                      <a:off x="4387680" y="4714920"/>
                      <a:ext cx="1031760" cy="79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94"/>
                  <p:cNvGrpSpPr/>
                  <p:nvPr/>
                </p:nvGrpSpPr>
                <p:grpSpPr>
                  <a:xfrm>
                    <a:off x="5099400" y="2510640"/>
                    <a:ext cx="3097800" cy="3109320"/>
                    <a:chOff x="5099400" y="2510640"/>
                    <a:chExt cx="3097800" cy="3109320"/>
                  </a:xfrm>
                </p:grpSpPr>
                <p:sp>
                  <p:nvSpPr>
                    <p:cNvPr id="520" name="Freeform 95"/>
                    <p:cNvSpPr/>
                    <p:nvPr/>
                  </p:nvSpPr>
                  <p:spPr>
                    <a:xfrm rot="3120000">
                      <a:off x="4944600" y="3215520"/>
                      <a:ext cx="2097360" cy="63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96"/>
                    <p:cNvSpPr/>
                    <p:nvPr/>
                  </p:nvSpPr>
                  <p:spPr>
                    <a:xfrm rot="3120000">
                      <a:off x="6897240" y="4374360"/>
                      <a:ext cx="1124640" cy="99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97"/>
                  <p:cNvGrpSpPr/>
                  <p:nvPr/>
                </p:nvGrpSpPr>
                <p:grpSpPr>
                  <a:xfrm>
                    <a:off x="5199480" y="2574000"/>
                    <a:ext cx="2409840" cy="3202920"/>
                    <a:chOff x="5199480" y="2574000"/>
                    <a:chExt cx="2409840" cy="3202920"/>
                  </a:xfrm>
                </p:grpSpPr>
                <p:sp>
                  <p:nvSpPr>
                    <p:cNvPr id="523" name="Freeform 98"/>
                    <p:cNvSpPr/>
                    <p:nvPr/>
                  </p:nvSpPr>
                  <p:spPr>
                    <a:xfrm rot="3720000">
                      <a:off x="4915440" y="3325320"/>
                      <a:ext cx="205992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99"/>
                    <p:cNvSpPr/>
                    <p:nvPr/>
                  </p:nvSpPr>
                  <p:spPr>
                    <a:xfrm rot="3720000">
                      <a:off x="6385680" y="4603320"/>
                      <a:ext cx="1104480" cy="9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100"/>
                  <p:cNvGrpSpPr/>
                  <p:nvPr/>
                </p:nvGrpSpPr>
                <p:grpSpPr>
                  <a:xfrm>
                    <a:off x="5263920" y="2685960"/>
                    <a:ext cx="1688400" cy="3104640"/>
                    <a:chOff x="5263920" y="2685960"/>
                    <a:chExt cx="1688400" cy="3104640"/>
                  </a:xfrm>
                </p:grpSpPr>
                <p:sp>
                  <p:nvSpPr>
                    <p:cNvPr id="526" name="Freeform 101"/>
                    <p:cNvSpPr/>
                    <p:nvPr/>
                  </p:nvSpPr>
                  <p:spPr>
                    <a:xfrm rot="4260000">
                      <a:off x="4818960" y="3467880"/>
                      <a:ext cx="2001960" cy="48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102"/>
                    <p:cNvSpPr/>
                    <p:nvPr/>
                  </p:nvSpPr>
                  <p:spPr>
                    <a:xfrm rot="4260000">
                      <a:off x="5878440" y="4775040"/>
                      <a:ext cx="1074240" cy="76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103"/>
                  <p:cNvGrpSpPr/>
                  <p:nvPr/>
                </p:nvGrpSpPr>
                <p:grpSpPr>
                  <a:xfrm>
                    <a:off x="5395320" y="2818800"/>
                    <a:ext cx="885960" cy="2837520"/>
                    <a:chOff x="5395320" y="2818800"/>
                    <a:chExt cx="885960" cy="2837520"/>
                  </a:xfrm>
                </p:grpSpPr>
                <p:sp>
                  <p:nvSpPr>
                    <p:cNvPr id="529" name="Freeform 104"/>
                    <p:cNvSpPr/>
                    <p:nvPr/>
                  </p:nvSpPr>
                  <p:spPr>
                    <a:xfrm rot="4920000">
                      <a:off x="4813200" y="3547080"/>
                      <a:ext cx="183996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105"/>
                    <p:cNvSpPr/>
                    <p:nvPr/>
                  </p:nvSpPr>
                  <p:spPr>
                    <a:xfrm rot="4920000">
                      <a:off x="5388840" y="4787640"/>
                      <a:ext cx="988200" cy="66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106"/>
                  <p:cNvGrpSpPr/>
                  <p:nvPr/>
                </p:nvGrpSpPr>
                <p:grpSpPr>
                  <a:xfrm>
                    <a:off x="4912200" y="2876400"/>
                    <a:ext cx="802080" cy="2746800"/>
                    <a:chOff x="4912200" y="2876400"/>
                    <a:chExt cx="802080" cy="2746800"/>
                  </a:xfrm>
                </p:grpSpPr>
                <p:sp>
                  <p:nvSpPr>
                    <p:cNvPr id="532" name="Freeform 107"/>
                    <p:cNvSpPr/>
                    <p:nvPr/>
                  </p:nvSpPr>
                  <p:spPr>
                    <a:xfrm rot="5760000">
                      <a:off x="4582440" y="3633120"/>
                      <a:ext cx="1785600" cy="29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108"/>
                    <p:cNvSpPr/>
                    <p:nvPr/>
                  </p:nvSpPr>
                  <p:spPr>
                    <a:xfrm rot="5760000">
                      <a:off x="4711320" y="4893120"/>
                      <a:ext cx="95832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4" name="Group 109"/>
              <p:cNvGrpSpPr/>
              <p:nvPr/>
            </p:nvGrpSpPr>
            <p:grpSpPr>
              <a:xfrm>
                <a:off x="2174400" y="682560"/>
                <a:ext cx="6953400" cy="7348680"/>
                <a:chOff x="2174400" y="682560"/>
                <a:chExt cx="6953400" cy="7348680"/>
              </a:xfrm>
            </p:grpSpPr>
            <p:grpSp>
              <p:nvGrpSpPr>
                <p:cNvPr id="535" name="Group 110"/>
                <p:cNvGrpSpPr/>
                <p:nvPr/>
              </p:nvGrpSpPr>
              <p:grpSpPr>
                <a:xfrm>
                  <a:off x="2174400" y="682560"/>
                  <a:ext cx="6953400" cy="7348680"/>
                  <a:chOff x="2174400" y="682560"/>
                  <a:chExt cx="6953400" cy="7348680"/>
                </a:xfrm>
              </p:grpSpPr>
              <p:sp>
                <p:nvSpPr>
                  <p:cNvPr id="536" name="AutoShape 111"/>
                  <p:cNvSpPr/>
                  <p:nvPr/>
                </p:nvSpPr>
                <p:spPr>
                  <a:xfrm flipV="1">
                    <a:off x="5400000" y="858600"/>
                    <a:ext cx="3727800" cy="5045040"/>
                  </a:xfrm>
                  <a:custGeom>
                    <a:avLst/>
                    <a:gdLst>
                      <a:gd name="textAreaLeft" fmla="*/ 340920 w 3727800"/>
                      <a:gd name="textAreaRight" fmla="*/ 3504240 w 3727800"/>
                      <a:gd name="textAreaTop" fmla="*/ 2522520 h 5045040"/>
                      <a:gd name="textAreaBottom" fmla="*/ 504540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  <a:lnTo>
                          <a:pt x="10800" y="10800"/>
                        </a:lnTo>
                        <a:lnTo>
                          <a:pt x="20251" y="16025"/>
                        </a:lnTo>
                        <a:close/>
                      </a:path>
                      <a:path fill="none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AutoShape 112"/>
                  <p:cNvSpPr/>
                  <p:nvPr/>
                </p:nvSpPr>
                <p:spPr>
                  <a:xfrm flipH="1">
                    <a:off x="2561040" y="2270160"/>
                    <a:ext cx="3516840" cy="5761080"/>
                  </a:xfrm>
                  <a:custGeom>
                    <a:avLst/>
                    <a:gdLst>
                      <a:gd name="textAreaLeft" fmla="*/ 1031400 w 3516840"/>
                      <a:gd name="textAreaRight" fmla="*/ 3517200 w 3516840"/>
                      <a:gd name="textAreaTop" fmla="*/ 0 h 5761080"/>
                      <a:gd name="textAreaBottom" fmla="*/ 293364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6363" y="953"/>
                        </a:lnTo>
                        <a:close/>
                      </a:path>
                      <a:path fill="none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utoShape 113"/>
                  <p:cNvSpPr/>
                  <p:nvPr/>
                </p:nvSpPr>
                <p:spPr>
                  <a:xfrm>
                    <a:off x="5385600" y="1752480"/>
                    <a:ext cx="2191680" cy="5761080"/>
                  </a:xfrm>
                  <a:custGeom>
                    <a:avLst/>
                    <a:gdLst>
                      <a:gd name="textAreaLeft" fmla="*/ 433080 w 2191680"/>
                      <a:gd name="textAreaRight" fmla="*/ 2192040 w 2191680"/>
                      <a:gd name="textAreaTop" fmla="*/ 0 h 5761080"/>
                      <a:gd name="textAreaBottom" fmla="*/ 293364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AutoShape 114"/>
                  <p:cNvSpPr/>
                  <p:nvPr/>
                </p:nvSpPr>
                <p:spPr>
                  <a:xfrm flipH="1">
                    <a:off x="2174040" y="1298520"/>
                    <a:ext cx="3694680" cy="5761080"/>
                  </a:xfrm>
                  <a:custGeom>
                    <a:avLst/>
                    <a:gdLst>
                      <a:gd name="textAreaLeft" fmla="*/ 563400 w 3694680"/>
                      <a:gd name="textAreaRight" fmla="*/ 3695040 w 3694680"/>
                      <a:gd name="textAreaTop" fmla="*/ 0 h 5761080"/>
                      <a:gd name="textAreaBottom" fmla="*/ 293364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3185" y="3141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AutoShape 115"/>
                  <p:cNvSpPr/>
                  <p:nvPr/>
                </p:nvSpPr>
                <p:spPr>
                  <a:xfrm flipH="1">
                    <a:off x="2510280" y="682560"/>
                    <a:ext cx="3080520" cy="5681880"/>
                  </a:xfrm>
                  <a:custGeom>
                    <a:avLst/>
                    <a:gdLst>
                      <a:gd name="textAreaLeft" fmla="*/ 251640 w 3080520"/>
                      <a:gd name="textAreaRight" fmla="*/ 2532600 w 3080520"/>
                      <a:gd name="textAreaTop" fmla="*/ 0 h 5681880"/>
                      <a:gd name="textAreaBottom" fmla="*/ 284004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  <a:lnTo>
                          <a:pt x="10800" y="10800"/>
                        </a:lnTo>
                        <a:lnTo>
                          <a:pt x="1684" y="5007"/>
                        </a:lnTo>
                        <a:close/>
                      </a:path>
                      <a:path fill="none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AutoShape 116"/>
                  <p:cNvSpPr/>
                  <p:nvPr/>
                </p:nvSpPr>
                <p:spPr>
                  <a:xfrm>
                    <a:off x="5231520" y="1874880"/>
                    <a:ext cx="1307880" cy="5681520"/>
                  </a:xfrm>
                  <a:custGeom>
                    <a:avLst/>
                    <a:gdLst>
                      <a:gd name="textAreaLeft" fmla="*/ 258480 w 1307880"/>
                      <a:gd name="textAreaRight" fmla="*/ 1201680 w 1307880"/>
                      <a:gd name="textAreaTop" fmla="*/ 0 h 5681520"/>
                      <a:gd name="textAreaBottom" fmla="*/ 284004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117"/>
                  <p:cNvSpPr/>
                  <p:nvPr/>
                </p:nvSpPr>
                <p:spPr>
                  <a:xfrm flipH="1">
                    <a:off x="4303080" y="836640"/>
                    <a:ext cx="51552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Freeform 118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" name="Group 119"/>
            <p:cNvGrpSpPr/>
            <p:nvPr/>
          </p:nvGrpSpPr>
          <p:grpSpPr>
            <a:xfrm>
              <a:off x="2343240" y="712800"/>
              <a:ext cx="6408360" cy="7544880"/>
              <a:chOff x="2343240" y="712800"/>
              <a:chExt cx="6408360" cy="7544880"/>
            </a:xfrm>
          </p:grpSpPr>
          <p:sp>
            <p:nvSpPr>
              <p:cNvPr id="545" name="Freeform 120"/>
              <p:cNvSpPr/>
              <p:nvPr/>
            </p:nvSpPr>
            <p:spPr>
              <a:xfrm flipH="1">
                <a:off x="4467960" y="3234600"/>
                <a:ext cx="59832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AutoShape 121"/>
              <p:cNvSpPr/>
              <p:nvPr/>
            </p:nvSpPr>
            <p:spPr>
              <a:xfrm flipH="1">
                <a:off x="3384360" y="2475720"/>
                <a:ext cx="5230800" cy="5781960"/>
              </a:xfrm>
              <a:custGeom>
                <a:avLst/>
                <a:gdLst>
                  <a:gd name="textAreaLeft" fmla="*/ 2615760 w 5230800"/>
                  <a:gd name="textAreaRight" fmla="*/ 5231160 w 5230800"/>
                  <a:gd name="textAreaTop" fmla="*/ 102960 h 5781960"/>
                  <a:gd name="textAreaBottom" fmla="*/ 2944080 h 5781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AutoShape 122"/>
              <p:cNvSpPr/>
              <p:nvPr/>
            </p:nvSpPr>
            <p:spPr>
              <a:xfrm flipH="1">
                <a:off x="3644640" y="2122200"/>
                <a:ext cx="2301120" cy="5761080"/>
              </a:xfrm>
              <a:custGeom>
                <a:avLst/>
                <a:gdLst>
                  <a:gd name="textAreaLeft" fmla="*/ 767880 w 2301120"/>
                  <a:gd name="textAreaRight" fmla="*/ 2301480 w 230112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AutoShape 123"/>
              <p:cNvSpPr/>
              <p:nvPr/>
            </p:nvSpPr>
            <p:spPr>
              <a:xfrm flipH="1">
                <a:off x="2343240" y="1736280"/>
                <a:ext cx="3683520" cy="5759640"/>
              </a:xfrm>
              <a:custGeom>
                <a:avLst/>
                <a:gdLst>
                  <a:gd name="textAreaLeft" fmla="*/ 754200 w 3683520"/>
                  <a:gd name="textAreaRight" fmla="*/ 3684240 w 3683520"/>
                  <a:gd name="textAreaTop" fmla="*/ 0 h 5759640"/>
                  <a:gd name="textAreaBottom" fmla="*/ 2932920 h 5759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AutoShape 124"/>
              <p:cNvSpPr/>
              <p:nvPr/>
            </p:nvSpPr>
            <p:spPr>
              <a:xfrm>
                <a:off x="5469840" y="2150640"/>
                <a:ext cx="585360" cy="5761080"/>
              </a:xfrm>
              <a:custGeom>
                <a:avLst/>
                <a:gdLst>
                  <a:gd name="textAreaLeft" fmla="*/ 115560 w 585360"/>
                  <a:gd name="textAreaRight" fmla="*/ 585720 w 58536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AutoShape 125"/>
              <p:cNvSpPr/>
              <p:nvPr/>
            </p:nvSpPr>
            <p:spPr>
              <a:xfrm>
                <a:off x="5404680" y="2136240"/>
                <a:ext cx="1542600" cy="5761440"/>
              </a:xfrm>
              <a:custGeom>
                <a:avLst/>
                <a:gdLst>
                  <a:gd name="textAreaLeft" fmla="*/ 304560 w 1542600"/>
                  <a:gd name="textAreaRight" fmla="*/ 1542960 w 1542600"/>
                  <a:gd name="textAreaTop" fmla="*/ 0 h 5761440"/>
                  <a:gd name="textAreaBottom" fmla="*/ 2932920 h 57614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126"/>
              <p:cNvSpPr/>
              <p:nvPr/>
            </p:nvSpPr>
            <p:spPr>
              <a:xfrm>
                <a:off x="6153480" y="3545640"/>
                <a:ext cx="59832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127"/>
              <p:cNvSpPr/>
              <p:nvPr/>
            </p:nvSpPr>
            <p:spPr>
              <a:xfrm flipV="1" rot="19680000">
                <a:off x="5223600" y="2946240"/>
                <a:ext cx="544320" cy="103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128"/>
              <p:cNvSpPr/>
              <p:nvPr/>
            </p:nvSpPr>
            <p:spPr>
              <a:xfrm flipH="1">
                <a:off x="2684880" y="3384000"/>
                <a:ext cx="133812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29"/>
              <p:cNvSpPr/>
              <p:nvPr/>
            </p:nvSpPr>
            <p:spPr>
              <a:xfrm flipH="1">
                <a:off x="3316680" y="1398240"/>
                <a:ext cx="85860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30"/>
              <p:cNvSpPr/>
              <p:nvPr/>
            </p:nvSpPr>
            <p:spPr>
              <a:xfrm>
                <a:off x="7510680" y="3107520"/>
                <a:ext cx="124092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31"/>
              <p:cNvSpPr/>
              <p:nvPr/>
            </p:nvSpPr>
            <p:spPr>
              <a:xfrm>
                <a:off x="6864840" y="2109600"/>
                <a:ext cx="1870920" cy="131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32"/>
              <p:cNvSpPr/>
              <p:nvPr/>
            </p:nvSpPr>
            <p:spPr>
              <a:xfrm>
                <a:off x="6934680" y="712800"/>
                <a:ext cx="817200" cy="176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33"/>
              <p:cNvSpPr/>
              <p:nvPr/>
            </p:nvSpPr>
            <p:spPr>
              <a:xfrm flipH="1" rot="1380000">
                <a:off x="4182120" y="2155320"/>
                <a:ext cx="54396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6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63E2F1-2EDD-4489-BADE-D5ACB8886CDF}" type="slidenum">
              <a:rPr b="0" lang="ru-RU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3005-7730-462B-81EC-6CB79A6463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6F14-39EA-4D73-9CDB-942F713931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FA07-A8C1-4D8F-BB4B-2908F182AF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2050920" y="1236240"/>
            <a:ext cx="4894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d6d8c0"/>
                </a:solidFill>
                <a:latin typeface="Arial"/>
              </a:rPr>
              <a:t>Лекция на тему:</a:t>
            </a:r>
            <a:r>
              <a:rPr b="1" lang="ru-RU" sz="4800" spc="-1" strike="noStrike">
                <a:solidFill>
                  <a:srgbClr val="d6d8c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6d8c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ubTitle"/>
          </p:nvPr>
        </p:nvSpPr>
        <p:spPr>
          <a:xfrm>
            <a:off x="250560" y="242064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Verdana"/>
              </a:rPr>
              <a:t>Гигиенические основы планировки населенных мес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елитебн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ритория предназначена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ccff"/>
                </a:solidFill>
                <a:latin typeface="Arial"/>
                <a:ea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мещения жилищного фонд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ых зданий и сооружений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мунальных и промышленных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ccff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утригородские со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изводственн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территория предназначена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  <a:ea typeface="Arial"/>
              </a:rPr>
              <a:t>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мещения промышленных предприятий и связанных с ними 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  <a:ea typeface="Arial"/>
              </a:rPr>
              <a:t>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бщения внешнего транспо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  <a:ea typeface="Arial"/>
              </a:rPr>
              <a:t>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ей внегородского и пригородного со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178920" y="250560"/>
            <a:ext cx="8713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Производственная территория включ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омышленная зона (промышленные предприятия, подъездные железнодорожные пути, улицы и дороги, обеспечивающие внутренние и внешние транспортные связ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учная и научно-производственная (учрежд. науки, высшие и сред. учебные завед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33cc"/>
                </a:solidFill>
                <a:latin typeface="Arial"/>
              </a:rPr>
              <a:t>Основная структурная единица</a:t>
            </a:r>
            <a:r>
              <a:rPr b="1" lang="ru-RU" sz="3400" spc="-1" strike="noStrike">
                <a:solidFill>
                  <a:srgbClr val="ff33cc"/>
                </a:solidFill>
                <a:latin typeface="Arial"/>
              </a:rPr>
              <a:t> жилой застройки: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SA" sz="3800" spc="-1" strike="noStrike">
                <a:solidFill>
                  <a:srgbClr val="9933ff"/>
                </a:solidFill>
                <a:latin typeface="Arial"/>
                <a:cs typeface="Arial"/>
              </a:rPr>
              <a:t>٭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илой райо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сколько микрорайон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9933ff"/>
                </a:solidFill>
                <a:latin typeface="Arial"/>
                <a:cs typeface="Arial"/>
              </a:rPr>
              <a:t>٭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крорайо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сколько кварталов) - площадь от 10 -60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диус обслуживания не менее &gt;500 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Границами микрорайона явля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9933ff"/>
                </a:solidFill>
                <a:latin typeface="Arial"/>
                <a:ea typeface="Arial"/>
              </a:rPr>
              <a:t>―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гистральные или жилые ул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9933ff"/>
                </a:solidFill>
                <a:latin typeface="Arial"/>
                <a:ea typeface="Arial"/>
              </a:rPr>
              <a:t>―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ез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9933ff"/>
                </a:solidFill>
                <a:latin typeface="Arial"/>
                <a:ea typeface="Arial"/>
              </a:rPr>
              <a:t>―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шеходные пу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гиенические требования к застройке микрорайона предусматри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457200" y="1341360"/>
            <a:ext cx="8362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микроклимата, инсоляции и защиты от перегрева, аэрации или снижения подвижности воздуха на территории и в помещениях жилых и общественных з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у от транспортного шума, внутримикрорайонного загрязнения атмосферного воздуха выхлопными газами транспо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ю полноценного обслуживания жителей учреждениями культурно-бытового назначения и коммунальными объек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устройство и озеленение террито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ализованное водоснабжение, канализацию и удаление бытовых от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57579b"/>
                </a:solidFill>
                <a:latin typeface="Times New Roman"/>
              </a:rPr>
              <a:t>Системы застройки кварталов</a:t>
            </a:r>
            <a:r>
              <a:rPr b="0" lang="ru-RU" sz="4000" spc="-1" strike="noStrike">
                <a:solidFill>
                  <a:srgbClr val="478a9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рочна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дания параллельны друг друг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ериметрическ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дворы - колодц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(часть по периметру, часть зданий свободно, там где нужна защита от сильных ветр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бодн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труктура микрорайон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лотность застройки не &gt; 20 - 25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395280" y="128160"/>
            <a:ext cx="8291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 ПРОЕКТИРОВА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ЛОЙ ЗАСТРОЙ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ЛЕДУЕТ ПРЕДУСМАТРИВАТЬ РАЗМЕЩЕНИ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ЛИЧНЫХ ПЛОЩ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1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 дет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школьного и мл. школьн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2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дыха взрослого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3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нятия физкуль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4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з. ц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5.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оянки автомоби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990099"/>
                </a:solidFill>
                <a:latin typeface="Times New Roman"/>
              </a:rPr>
              <a:t>Планировка улиц </a:t>
            </a:r>
            <a:br>
              <a:rPr sz="3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сис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990099"/>
                </a:solidFill>
                <a:latin typeface="Arial"/>
                <a:cs typeface="Arial"/>
              </a:rPr>
              <a:t>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Шахматн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улицы расположены перпендикулярно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990099"/>
                </a:solidFill>
                <a:latin typeface="Arial"/>
                <a:cs typeface="Arial"/>
              </a:rPr>
              <a:t>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диаль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направление улиц от центра к периферии и пересекаются меньшими кольцевыми ули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Требования к размещению производственной зоны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1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учетом возможного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благоприятного влияния на условия жизн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2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становлени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анитарных разрывов между производственной и селитебной зо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с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3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лагоустройство территории, обеспечение сбора, обеззараживания и удаление всех сточных вод, твердых от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изводственная зона должна располагать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◘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 подветренной стороны по отношению к жилой застройке с учетом розы вет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◘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льеф территории производственной зоны должен позволять организовать сток жидких от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Arial"/>
              </a:rPr>
              <a:t>Задание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Arial"/>
              </a:rPr>
              <a:t>1. Написать лекцию в тетрад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Arial"/>
              </a:rPr>
              <a:t>2. Разобрать лекцию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нитарно-защитные зоны разрыва для промышленных предприятий с учетом класс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2072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 - 100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 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50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Ι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00м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-10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 - 5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Ландшафтно-рекреационная территория включае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178920" y="1933560"/>
            <a:ext cx="87138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леса, лесопарки, водоемы, парки, скв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определения потребности селитебной зо-ны следует принимать укрупненные показа-те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 расчете на 1000 челове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bb0cb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городах средней этажности выделяется 10 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bb0cb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ля застройки без земельных участков 20 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bb0cb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участками при многоэтажной застройке 7 - 8 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Times New Roman"/>
              </a:rPr>
              <a:t>Планировка сельских населенных мес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 основе планировки должн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жать те же принципы, что и в горо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Крупные сельские пункты строятся в настоящее врем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о типу микрорайон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   основу планировки сельских населенных пунктов положено: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ление террито-рии на жилую и производственн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ственный центр се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ельсовет, почта, клуб, магазин, стол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чебно-профилактическое учрежд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ельская больница на окраине с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Ясли, сады, школ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ходятся ближе к жилой зеленой зоне села (в начале или конце села).                      Плотность застройки не должна превышать 5 - 6 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личают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актну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в виде жилых кварталов 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инейну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истему застр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3399"/>
                </a:solidFill>
                <a:latin typeface="Arial"/>
              </a:rPr>
              <a:t>Требования к размещению произво-дственной зон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С учетом возможного неблагоприятного влияния на условия жизни насе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становление санитарных разрывов между производственной и селитебной зоной посел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лагоустройство территории, обеспечение сбора, обезвреживания и удаления всех сточных вод, твердых от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Размеры санитарно-защитной зоны с/х 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ермы крупного рогатого скота и др. -3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ражи, ремонтные мастерские - 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лады для хранения минеральных удобрений и ядохимикатов (до 20 т) -2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ельской населенной местност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лится территория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жил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изводстве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щественный центр села (с/с, почта, клуб, магазин, столовая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мероприятия по оздоровлению окружающей среды в городе и с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 txBox="1"/>
          <p:nvPr/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ировочные-рациональное размещение промышленных и бытовых помещений по отношению к жилой зоне, с соблюдением разрывов санитарно-защитной з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ие и санитарно-технические мероприятия направлены на улавливание, очистку, переработку загрязняющих веществ, внедрение прогрессивных технологий, создание безотходных или малоотходного произ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онные основываются на санитарном законодатель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се это предусматривает соз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комфортной жилой сред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Rectangle 2"/>
          <p:cNvSpPr/>
          <p:nvPr/>
        </p:nvSpPr>
        <p:spPr>
          <a:xfrm>
            <a:off x="609480" y="4046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Гигиенические проблемы урб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Rectangle 3"/>
          <p:cNvSpPr/>
          <p:nvPr/>
        </p:nvSpPr>
        <p:spPr>
          <a:xfrm>
            <a:off x="622440" y="184464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рбанизация происходит от латинского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«урбанус» - городс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исходит быстрый рост городов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енности жителей, происходит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ок в города сельского насе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9"/>
          <p:cNvSpPr/>
          <p:nvPr/>
        </p:nvSpPr>
        <p:spPr>
          <a:xfrm>
            <a:off x="730080" y="40464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Times New Roman"/>
                <a:ea typeface="Arial Unicode MS"/>
              </a:rPr>
              <a:t>Воздушная среда на урбанизированных территория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Rectangle 10"/>
          <p:cNvSpPr/>
          <p:nvPr/>
        </p:nvSpPr>
        <p:spPr>
          <a:xfrm>
            <a:off x="685800" y="2060640"/>
            <a:ext cx="77724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крупных городах создается новая эколог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реда с высокой концентрацией антропогенных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ак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 Изменяется естественная среда обитания, рит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жизни, психоэмоциональный фон труда и бы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Снижается интенсивность солнечной радиации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5-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Выше среднегодовая температура воздуха на 1-2 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Чаще возникают туманы (не 10% выш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Times New Roman"/>
              </a:rPr>
              <a:t>Неблагоприятное воздействие на здоровье на здоровье городских жител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ьшой поток информации, стрессовых воздейст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я невротических состояний неврозов - так называемых «болезней цивилизац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оответствие социальных изменений с изменениями биологичес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Благоприятные условия 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рупного г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альное благоустр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ий уровень культуры и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получить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квалификационной мед. помо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роста промышленности и правильность расстановки кад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ланировка населенных мест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хватывает сложный комплекс проблем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являющихся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теорией и практикой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градостроитель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323640" y="2636640"/>
            <a:ext cx="8569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 ним относ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ественно-эконом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оительно-инжене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рхитектурно-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удоже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нитарно-гигиенические пробл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Неблагоприятные условия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рупного г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 (воздух, вода, поч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худшение условий жизни насе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зменение городского клим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вышение физической и психической нагруз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худшение состояния здоровья (повышение заболеваемости болезнями органов дыхания и инфекционной, рост хронической и сердечно-сосудистой заболеваем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ff66"/>
                </a:solidFill>
                <a:latin typeface="Arial Black"/>
              </a:rPr>
              <a:t>Благодарю, за внимание!</a:t>
            </a:r>
            <a:endParaRPr b="0" lang="en-US" sz="48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8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8" fill="hold"/>
                                        <p:tgtEl>
                                          <p:spTgt spid="26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8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179280" y="85320"/>
            <a:ext cx="850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рриторию для строительств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новых или расширения существующих населенных пунктов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бираю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 учетом возможнос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ционального размещения мест приложения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труда, проживания и отдых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у территорий предшествуют изучение и анализ естественных услов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родно-климатичес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идрологичес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точников водоснаб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словия удаления сточных в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нитарного состояния окружающе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зможность организации санитарных защитных з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личие резервных территор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зможность озелен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ТРЕБОВАНИЯ К ТЕРРИТОРИИ ЗА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ea642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льеф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покойный с уклоном      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6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рганиченно-пригодный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ригод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gt;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ea642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вень грунтовы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лагоприятные территории 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&lt; 3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благоприятные территории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1-3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обо неблагоприятные территории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 1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ичие источников водоснаб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словия и организация удаления сточны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Возможность организации санитарно-защитных з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6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озможность озел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7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личие резервных территорий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гиенические санитарные и требования       при планировке населенных м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бор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нкциональное зо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ение вопросов охраны окружающей сред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орудование централизованного водоснабжения и кан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5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здание се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доровительны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чебно-профилактически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льтурно-бытовых и спортивных объек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6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статочное озеле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оответствии с 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СНИП 2.07.89 г.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оительные нормы и прави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Градостроительство, планировка и застройка городских и сельских поселен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рритория города подразделен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литебн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мунально-складскую – для размещения складов, гаражей и трамвайных и автобусных пар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его транспорта – для размещения транспортных сооружений, вокзалов, станций, портов, прист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"/>
          <p:cNvSpPr txBox="1"/>
          <p:nvPr/>
        </p:nvSpPr>
        <p:spPr>
          <a:xfrm>
            <a:off x="457200" y="404640"/>
            <a:ext cx="822816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дшафтно-рекреционную. (зона отдыха населения, пригородная зон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овке пригородной зоны организацию мест массового отдыха и мест лечебно-оздоровительного назначения следует предусматривать на удобных, здоровых и живописных территориях, а также учитывать потребности города в разных видах хозяйственного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◊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елах пригородной зоны следует размещать: лесопарки, пригородные парки, санато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омники и другие виды зеленых наса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1" name="Picture 1" descr=""/>
          <p:cNvPicPr/>
          <p:nvPr/>
        </p:nvPicPr>
        <p:blipFill>
          <a:blip r:embed="rId1"/>
          <a:stretch/>
        </p:blipFill>
        <p:spPr>
          <a:xfrm>
            <a:off x="1967040" y="399960"/>
            <a:ext cx="5209920" cy="605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7:32Z</dcterms:created>
  <dc:creator>первый</dc:creator>
  <dc:description/>
  <dc:language>en-US</dc:language>
  <cp:lastModifiedBy>User</cp:lastModifiedBy>
  <cp:lastPrinted>2011-12-02T05:08:52Z</cp:lastPrinted>
  <dcterms:modified xsi:type="dcterms:W3CDTF">2021-12-05T11:09:38Z</dcterms:modified>
  <cp:revision>45</cp:revision>
  <dc:subject/>
  <dc:title>Лекция на тему:  </dc:title>
</cp:coreProperties>
</file>